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100980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24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81200" y="747360"/>
            <a:ext cx="529560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24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620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0A6343C-E8E4-45DE-9111-B51585E73B67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달라질 수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않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이유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기 때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2.X : optimiz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LTP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소량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맞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성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OM_IDX1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할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.X : data warehousing, batch processing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hoose, all_rows(DWH)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상수와 비교되어야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 : driving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고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을 수록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조건이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뒷쪽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 merg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스스로 일의 양을 줄일수 있는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join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결고리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함수로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memo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에서 이루어져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용량에 유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only 7.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으로 줄어든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무의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그렇지 않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함께 사용될 때 일관성 있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작성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4pag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first_row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라고 지정하여 사용하는 것이 좋다고 되어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업무의 성격에 따라 다르게 사용하는 것이 좋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OLTP:first_rows, BATCH:all_ro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의 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무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BO/RBO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 table compute/estimate/delet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BO : 2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가지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emp tablespac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정도 되어야 다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영향을 주지 않는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일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부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경우에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는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면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모두 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의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여 해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까지는 정확하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여 찾아내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 이후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ge sc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줄이는 방법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un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기본 원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tabl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 원하는 결과를 얻을 수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batch process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 min, max, sum, 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OL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과정에서는  부분범위처리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c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운반단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rray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먼저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이용하여 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 조건을 변경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한 규정을 어떻게 하느냐에 따라서 수행속도에 얼마나 많은 영향을 주는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변형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사용못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현재 미결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값을 다른 유일한 값으로 약속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‘X’,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st_menu_id varchar2(10)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default ‘X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not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어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AR_, BOX_C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가장 최근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O_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찾아 그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TOCK_Q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가져오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독립적으로 먼저 풀려 이조건에 맞는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원하는 대로가 아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러 건의 레코드가 리턴됨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O_DATE = ‘1998021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relative sub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문제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-&gt; sorting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in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넘겨주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만큼 일이 많아진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bject(index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환경이 제대로 준비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장 큰값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효율적인 처리를 위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분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de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a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97 pag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림 참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z 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적용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PT=:B7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들어가면 안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자 정보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YY, MM, D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나뉘어져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 검색시 합쳐서 잘못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colum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고방식 전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ny idea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기간을 연별로 나누고 월별로 나눠서 검색 조건을 주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사용하여 복잡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구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입력변수는 하나의 값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가져올 필요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=‘Y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 is not 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남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: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 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 : no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이 없으리라 예상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오늘 날짜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조건에 넣어 처리하고자 할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뿐만아니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ysdat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많은 사용자일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table contention(sys.du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제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위의 경우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, betwee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e type : DAT = sysdat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분초까지 비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 between trunc(sysdate) and trunc(sysdate) +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0.99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DAT, ‘yyyymmdd’) = to_char(sysdate, ‘yyyymmdd’) : no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간계산이 필요없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단순히 날짜만 저장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.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유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면 의도하지 않는 방향으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도는 비상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의 특성상 나쁜쪽으로 통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풀다가 안되면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변환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와 상수의 비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 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선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query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ncatenation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, 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들어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은 가능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, decod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등을 사용하게 변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특성을 잘 활용하면 보다 효율적으로 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ynamic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잘 모르는 경우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최악의 경우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수행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 이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여러번 나올 경우 가장 뒤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터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확률이 가장 많은 조건을 뒷쪽에 기술한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에서 공통점을 찾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으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(BA003DM)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내에서 반복 수행되는 형태였다면 상당한 수행 속도 개선 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비슷한 유형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을 사용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을 하나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f ... then ... else : decod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 이상의 처리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29 page DACT_MH, 0))), 0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code : 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조건 비교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도하게 사용시 수행 성능 저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pu, elapse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 leve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상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logi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으로 해결 권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의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므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parallel que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하지 않으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능한 많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러나 꼭 필요한 경우에만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수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으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생성시에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vari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무엇인지 모르기 때문에 정상적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(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생성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아 내부 변형이 일어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실제로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number(EMPNO) = :B2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형태로 내부변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= to_char(:B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rac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정보가 충분하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잘못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numb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바꾸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시 불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like ‘1%’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empno) like  ‘1%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성향을 반영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렇지 않으면 반드시 대가를 치른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, varchar2 &lt; number, date &lt; 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산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&lt; char, varcha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자리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(1byte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varchar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by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설계단계에서 원자화하지 않은 컬럼이 코딩단계에서 어떤 문제로 나타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에 어떠한 영향을 주는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, THISINPT_IDX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우선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되리라 예상되나 이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존재하지 않는 연결고리 이상 발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대방이 먼저 풀리게 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, A, B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때 연결고리가되는 부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tr(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였기 때문에 변형이 일어나 적절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활용하지 못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물리적 설계로 옮겨갈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원자화 부분을 어떻게 할지를 충분히 고려하지 않고 개발하였기 때문에 이러한 문제 발생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FCE3-EC99-4866-90CA-525122FEC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9EA5-E4C6-4556-BCAA-3D50F7B9E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0102-0669-4616-8EC8-7CF74443C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F7AA-DE3D-415B-936A-AF9375357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40D4C-2B9F-4EFF-8F60-7D0585759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F4A9-857F-4990-B6DF-0B64C122D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D257-8BA1-4CE6-AE61-D5F0AE43B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01DC-B6A0-4AAC-BD7C-4848ED1A6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877E-2170-4241-B078-A4488E2DA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9D3C-7AA9-48B1-8659-2085789E1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4D3D-9B5D-4892-8985-84947FB5E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04AF-8A5E-4F5D-82C2-8A5B5B0DE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39400" y="6585120"/>
            <a:ext cx="328140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전지원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72520" y="6552720"/>
            <a:ext cx="75888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54D-0002-4D54-B59A-99C0319A882A}" type="slidenum"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46040" y="838080"/>
            <a:ext cx="866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800" y="75600"/>
            <a:ext cx="1032480" cy="83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66672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3" marL="15048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4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5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6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2320" y="3389400"/>
            <a:ext cx="5305680" cy="3876120"/>
          </a:xfrm>
          <a:prstGeom prst="roundRect">
            <a:avLst>
              <a:gd name="adj" fmla="val 7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CLASS IN ( 'C', 'Y', 'I', 'P'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040" y="243000"/>
            <a:ext cx="635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에 따른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3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912960"/>
            <a:ext cx="68756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L  A : COL_PK1  : YEAR  + HOUSE + SERIAL_NO + HS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 B : COM_IX   : YEAR  + HOUSE + 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OM  B : COM_IDX1 : CLASS +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65560" y="3951360"/>
            <a:ext cx="4789800" cy="208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SORT (GROUP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61     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COM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437     TABLE ACCESS (BY ROWID) OF 'COL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437      INDEX (RANGE SCAN) OF 'COL_PK1'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0" y="3862440"/>
            <a:ext cx="2643120" cy="919080"/>
          </a:xfrm>
          <a:custGeom>
            <a:avLst/>
            <a:gdLst>
              <a:gd name="textAreaLeft" fmla="*/ 97560 w 2643120"/>
              <a:gd name="textAreaRight" fmla="*/ 2545560 w 2643120"/>
              <a:gd name="textAreaTop" fmla="*/ 33840 h 919080"/>
              <a:gd name="textAreaBottom" fmla="*/ 734040 h 91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8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COM Tabl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Full Table Scan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유는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280" y="48560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7647-2CDD-41BF-AB4D-B3BB211F04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60800" y="1833480"/>
            <a:ext cx="541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80" y="1833480"/>
            <a:ext cx="41112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760" y="1414440"/>
            <a:ext cx="2062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INPT_ID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INPT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000" y="184644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841400"/>
            <a:ext cx="10461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7920" y="1312920"/>
            <a:ext cx="1567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IN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400" y="6086520"/>
            <a:ext cx="1819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INPTC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7400" y="1414440"/>
            <a:ext cx="212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CODE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00560" y="1841400"/>
            <a:ext cx="10875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6040" y="1312920"/>
            <a:ext cx="1675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96960" y="5937120"/>
            <a:ext cx="194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CODEGU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COD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2540160"/>
            <a:ext cx="1400040" cy="946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36920" y="2606760"/>
            <a:ext cx="1379520" cy="1154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36920" y="4640040"/>
            <a:ext cx="1371600" cy="26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6600" y="1833480"/>
            <a:ext cx="4014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040" y="1841400"/>
            <a:ext cx="1003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5880" y="1312920"/>
            <a:ext cx="165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P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0320" y="2881440"/>
            <a:ext cx="996840" cy="301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80320" y="3414600"/>
            <a:ext cx="976320" cy="424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80320" y="4772160"/>
            <a:ext cx="1006560" cy="18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0320" y="197316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5120" y="2881080"/>
            <a:ext cx="1281240" cy="90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45120" y="3832200"/>
            <a:ext cx="1298520" cy="58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45120" y="4784760"/>
            <a:ext cx="1298520" cy="239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6680" y="1414440"/>
            <a:ext cx="2100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PBSC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976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PBSC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7120" y="197172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464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5920" y="193500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1840" y="184644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7080" y="36734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560" y="2887560"/>
            <a:ext cx="385920" cy="2038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3040" y="2967120"/>
            <a:ext cx="397440" cy="2035080"/>
            <a:chOff x="563040" y="2967120"/>
            <a:chExt cx="397440" cy="2035080"/>
          </a:xfrm>
        </p:grpSpPr>
        <p:sp>
          <p:nvSpPr>
            <p:cNvPr id="241" name=""/>
            <p:cNvSpPr/>
            <p:nvPr/>
          </p:nvSpPr>
          <p:spPr>
            <a:xfrm>
              <a:off x="628560" y="296712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0480" y="296712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3040" y="50022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65960" y="28368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2200" y="3198960"/>
            <a:ext cx="1038240" cy="57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22200" y="2549160"/>
            <a:ext cx="1098720" cy="4129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22920"/>
            <a:ext cx="1103400" cy="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3400" y="2521080"/>
            <a:ext cx="522360" cy="512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79720" y="2600280"/>
            <a:ext cx="289080" cy="496800"/>
            <a:chOff x="3879720" y="2600280"/>
            <a:chExt cx="289080" cy="496800"/>
          </a:xfrm>
        </p:grpSpPr>
        <p:sp>
          <p:nvSpPr>
            <p:cNvPr id="250" name=""/>
            <p:cNvSpPr/>
            <p:nvPr/>
          </p:nvSpPr>
          <p:spPr>
            <a:xfrm>
              <a:off x="3924360" y="2600280"/>
              <a:ext cx="23472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8800" y="2600280"/>
              <a:ext cx="0" cy="49680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79720" y="3097080"/>
              <a:ext cx="2793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073400" y="3409920"/>
            <a:ext cx="52236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73240" y="3490920"/>
            <a:ext cx="309960" cy="630360"/>
            <a:chOff x="3873240" y="3490920"/>
            <a:chExt cx="309960" cy="630360"/>
          </a:xfrm>
        </p:grpSpPr>
        <p:sp>
          <p:nvSpPr>
            <p:cNvPr id="255" name=""/>
            <p:cNvSpPr/>
            <p:nvPr/>
          </p:nvSpPr>
          <p:spPr>
            <a:xfrm>
              <a:off x="3924360" y="3490920"/>
              <a:ext cx="247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83200" y="3490920"/>
              <a:ext cx="0" cy="6303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873240" y="4121280"/>
              <a:ext cx="2984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3400" y="4576680"/>
            <a:ext cx="522360" cy="319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73240" y="4638600"/>
            <a:ext cx="295560" cy="346320"/>
            <a:chOff x="3873240" y="4638600"/>
            <a:chExt cx="295560" cy="346320"/>
          </a:xfrm>
        </p:grpSpPr>
        <p:sp>
          <p:nvSpPr>
            <p:cNvPr id="260" name=""/>
            <p:cNvSpPr/>
            <p:nvPr/>
          </p:nvSpPr>
          <p:spPr>
            <a:xfrm>
              <a:off x="3919680" y="4638600"/>
              <a:ext cx="2379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8800" y="4638600"/>
              <a:ext cx="0" cy="3463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3240" y="4984920"/>
              <a:ext cx="2840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16400" y="2554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0" y="2892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0" y="3414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0" y="35733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0" y="37465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0" y="4611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6040" y="27385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040" y="4753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8120" y="39006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4840" y="2793960"/>
            <a:ext cx="1060560" cy="173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1320" y="4829040"/>
            <a:ext cx="102060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1600" y="3970440"/>
            <a:ext cx="1087560" cy="4395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65960" y="37926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5960" y="474804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42400" y="3164040"/>
            <a:ext cx="72396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43840" y="3443400"/>
            <a:ext cx="722520" cy="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970840" y="3630600"/>
            <a:ext cx="695520" cy="1309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DF5D-76FC-4193-A78E-BCB47154D1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600" y="1103400"/>
            <a:ext cx="970128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A.CODENAME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THISINPT(C) --&gt; THISCODE(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(A) --&gt; THISINPT(C) --&gt; THISPBSC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2680" y="3462480"/>
            <a:ext cx="7645320" cy="3062160"/>
          </a:xfrm>
          <a:prstGeom prst="roundRect">
            <a:avLst>
              <a:gd name="adj" fmla="val 5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PTIDNO,INPTPKND,INPT,  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  A, THISINPT  C, THISPBSC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DATE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GUBN  IN  ('A','B')  AND  C.INPTBYBY 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ID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GUBN  = 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A8E7-212D-4F8C-A6AA-870E914102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443160" y="3213000"/>
            <a:ext cx="732744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ODE  LIKE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SERL||'' = 'CA'  OR  SERL||'' = 'D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&lt; 2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600" y="1103400"/>
            <a:ext cx="956772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CODE_SE_PK : CODE + S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    : SERL + E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2   : PART_CODE + EDSC + SERL + MODE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5520" y="4921200"/>
            <a:ext cx="6351840" cy="203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COUNT (STOP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 TABLE ACCESS (BY ROWID) OF 'SUG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658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INDEX (RANGE SCAN) OF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'SUGA_CODE_SE_PK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8733-495E-49EF-951A-3E926ED23E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7000" y="1192320"/>
            <a:ext cx="9567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CODE  LIKE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AND   SERL IN ('CA' , 'DA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IN --&gt; OR --&gt; OR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와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ROWNUM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같이 사용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--&gt; FILTER --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전체범위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CA'  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첫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DA')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 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UGA_CODE_SE_PK : SERL 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1822320"/>
            <a:ext cx="5440320" cy="14162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480" y="3710160"/>
            <a:ext cx="7239240" cy="238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08DC-B0CF-4DCE-833B-231B721831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52600" y="3195720"/>
            <a:ext cx="7615080" cy="1891080"/>
          </a:xfrm>
          <a:prstGeom prst="roundRect">
            <a:avLst>
              <a:gd name="adj" fmla="val 138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WHERE  DWG1  ||  DWG2 || DWG3   &gt;  :DWG1 ||  :DWG2  ||  :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103400"/>
            <a:ext cx="956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1  : DW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2  : DW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3  : 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9160" y="4844880"/>
            <a:ext cx="7455240" cy="1708200"/>
            <a:chOff x="839160" y="4844880"/>
            <a:chExt cx="7455240" cy="1708200"/>
          </a:xfrm>
        </p:grpSpPr>
        <p:sp>
          <p:nvSpPr>
            <p:cNvPr id="295" name=""/>
            <p:cNvSpPr/>
            <p:nvPr/>
          </p:nvSpPr>
          <p:spPr>
            <a:xfrm>
              <a:off x="839880" y="5624640"/>
              <a:ext cx="745452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      3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4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&gt;       4       3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3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35       &gt;       0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3      2       &gt;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3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160" y="5237280"/>
              <a:ext cx="7454520" cy="3668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DWG1   DWG2   DWG3            :DWG1   :DWG2   :DWG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31520" y="4844880"/>
              <a:ext cx="5863320" cy="36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컬럼값        크기비교        입력변수값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0120" y="4846680"/>
              <a:ext cx="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7040" y="4861080"/>
              <a:ext cx="0" cy="16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BFA9-EB80-4520-90C5-3E3A9B40B5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3320" y="1214280"/>
            <a:ext cx="395316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체"/>
                <a:ea typeface="돋움체"/>
              </a:rPr>
              <a:t>컬럼값과 변수값의 길이가 동일하다는 전제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7520" y="2620800"/>
            <a:ext cx="9685080" cy="2377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USE_CONCA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 (DWG1 = :DWG1  AND  DWG2 = :DWG2  AND  DWG3 &gt; :DWG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= :DWG1  AND  DWG2 &gt; :DW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&gt; :DWG1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A65D-DA1E-4A80-9AD5-7644D1E264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1880" y="243000"/>
            <a:ext cx="616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600" y="1103400"/>
            <a:ext cx="95677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109 : A109_IND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JHCOD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14120" y="2308320"/>
            <a:ext cx="9605520" cy="1283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   INTO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UBSTR (JEPUM, 1, :LEN1)  =  SUBSTR (:WWJEPUM , 1, :LEN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2520" y="3610080"/>
            <a:ext cx="7635960" cy="43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ALL         COUNT      CPU     ELAPSED       DISK    QUERY     CURRENT    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PARSE            1     0.00        0.00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E      41722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25.29       36.67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ETCH        41722  3677.99     4516.42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OTAL        83444  3703.28     4553.09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   --------------------------------------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8449717     TABLE  ACCESS  (BY  ROWID)  OF  'A10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8491439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'A109_IND1'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( NON -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2D52-6D4F-498C-AE2D-B6E9DC9255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9640" y="2286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524880" cy="28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WHERE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SUBSTR(JEPU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, 1, :LEN1) = SUBSTR(:WWJEPUM, 1, :LEN1) 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==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</a:rPr>
              <a:t>JEPUM  LIK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SUBSTR(:WWJEPUM, 1, :LEN1) || '%'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indent="0" algn="just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A109 : A109_IND1 : JHCOD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JEPUM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9" name=""/>
          <p:cNvSpPr/>
          <p:nvPr/>
        </p:nvSpPr>
        <p:spPr>
          <a:xfrm>
            <a:off x="-352800" y="4353480"/>
            <a:ext cx="8865720" cy="180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152280" bIns="1522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JEPUM  LIKE  SUBSTR(:WWJEPUM, 1, :LEN1) || '%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880" y="1822320"/>
            <a:ext cx="7424640" cy="2286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DD92-3EBF-4DF3-A2AD-4D2860987B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12880" y="2762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2880" y="30574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2880" y="3346560"/>
            <a:ext cx="22510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4224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 COL2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2360" y="26686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4920" y="24224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5520" y="3176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31528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2160" y="43228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7360" y="43354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7680" y="49975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73280" y="1130400"/>
            <a:ext cx="4408560" cy="1157040"/>
          </a:xfrm>
          <a:custGeom>
            <a:avLst/>
            <a:gdLst/>
            <a:ahLst/>
            <a:rect l="l" t="t" r="r" b="b"/>
            <a:pathLst>
              <a:path w="2777" h="729">
                <a:moveTo>
                  <a:pt x="0" y="2"/>
                </a:moveTo>
                <a:lnTo>
                  <a:pt x="0" y="567"/>
                </a:lnTo>
                <a:lnTo>
                  <a:pt x="651" y="567"/>
                </a:lnTo>
                <a:lnTo>
                  <a:pt x="496" y="703"/>
                </a:lnTo>
                <a:lnTo>
                  <a:pt x="755" y="567"/>
                </a:lnTo>
                <a:lnTo>
                  <a:pt x="1591" y="567"/>
                </a:lnTo>
                <a:lnTo>
                  <a:pt x="2776" y="728"/>
                </a:lnTo>
                <a:lnTo>
                  <a:pt x="1891" y="567"/>
                </a:lnTo>
                <a:lnTo>
                  <a:pt x="2483" y="568"/>
                </a:lnTo>
                <a:lnTo>
                  <a:pt x="2483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4840" y="465948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75240" y="492588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5600" y="3478320"/>
            <a:ext cx="6919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504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2880" y="243000"/>
            <a:ext cx="833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쓰인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84880" y="2762280"/>
            <a:ext cx="2249640" cy="3377520"/>
            <a:chOff x="6284880" y="2762280"/>
            <a:chExt cx="2249640" cy="3377520"/>
          </a:xfrm>
        </p:grpSpPr>
        <p:sp>
          <p:nvSpPr>
            <p:cNvPr id="330" name=""/>
            <p:cNvSpPr/>
            <p:nvPr/>
          </p:nvSpPr>
          <p:spPr>
            <a:xfrm>
              <a:off x="6284880" y="2762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A      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4880" y="30574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B              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4880" y="334656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C              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84880" y="364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A             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84880" y="392904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B              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4880" y="4229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C              7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4880" y="4516560"/>
              <a:ext cx="2249640" cy="28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ff3300"/>
                  </a:solidFill>
                  <a:latin typeface="Arial"/>
                  <a:ea typeface="돋움"/>
                </a:rPr>
                <a:t>112            A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              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4880" y="481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B              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4880" y="51148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C              8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4880" y="540720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3            A             18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84880" y="566424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4            A             22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12880" y="4229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364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3            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2880" y="392904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880" y="4516560"/>
            <a:ext cx="224784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12880" y="481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2880" y="51148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2880" y="54072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2880" y="568656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0760" y="350676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4800" y="1166760"/>
            <a:ext cx="3849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넓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COL2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11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좁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598960" y="46753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23840" y="3011400"/>
            <a:ext cx="11480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6560" y="3005280"/>
            <a:ext cx="468360" cy="423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2113-89EA-4799-8675-801AAEA6EE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4120" y="27399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302904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334656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120" y="42292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4120" y="364500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3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4120" y="392904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4120" y="4516560"/>
            <a:ext cx="22636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4120" y="48150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4120" y="51148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4120" y="54072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4120" y="56865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5760" y="23432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COL2 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0680" y="26528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6600" y="23432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4760" y="368460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9760" y="32907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160" y="31291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66240" y="540216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22200" y="404172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35160" y="2982960"/>
            <a:ext cx="982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1015920"/>
            <a:ext cx="4549680" cy="1154160"/>
          </a:xfrm>
          <a:custGeom>
            <a:avLst/>
            <a:gdLst/>
            <a:ahLst/>
            <a:rect l="l" t="t" r="r" b="b"/>
            <a:pathLst>
              <a:path w="2866" h="727">
                <a:moveTo>
                  <a:pt x="0" y="2"/>
                </a:moveTo>
                <a:lnTo>
                  <a:pt x="0" y="565"/>
                </a:lnTo>
                <a:lnTo>
                  <a:pt x="672" y="565"/>
                </a:lnTo>
                <a:lnTo>
                  <a:pt x="512" y="701"/>
                </a:lnTo>
                <a:lnTo>
                  <a:pt x="779" y="565"/>
                </a:lnTo>
                <a:lnTo>
                  <a:pt x="1642" y="565"/>
                </a:lnTo>
                <a:lnTo>
                  <a:pt x="2865" y="726"/>
                </a:lnTo>
                <a:lnTo>
                  <a:pt x="1952" y="565"/>
                </a:lnTo>
                <a:lnTo>
                  <a:pt x="2562" y="567"/>
                </a:lnTo>
                <a:lnTo>
                  <a:pt x="2562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14840" y="346536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8632440" y="4352400"/>
            <a:ext cx="576360" cy="1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75240" y="579132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5960" y="1055520"/>
            <a:ext cx="4400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  COL2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ETWEEN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65200" y="60166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0880" y="59752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2880" y="243000"/>
            <a:ext cx="847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안 쓰인 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5960" y="3184560"/>
            <a:ext cx="0" cy="69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77800" y="35035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77800" y="37987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77800" y="320040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273996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B  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4880" y="302904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C             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84880" y="332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4880" y="361152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4880" y="39117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7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4880" y="419904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84880" y="449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7973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8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4880" y="508968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18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84880" y="536904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B             44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4880" y="5664240"/>
            <a:ext cx="2265480" cy="47556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4            A             22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2160" y="347184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8360" y="3429000"/>
            <a:ext cx="0" cy="2089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8632440" y="349092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8632440" y="521028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2976480"/>
            <a:ext cx="438120" cy="227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CCDD-C648-4371-A580-3EDF7ECB23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9000" y="241200"/>
            <a:ext cx="8180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에 따른 인덱스 사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143000"/>
            <a:ext cx="9526680" cy="163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DISTINC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불필요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OPTIMIZER M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선택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INIT.ORA       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OPTIMIZED_MODE = FIRST_ROWS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*PLUS, PRO*C 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&gt;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 ALTER SESSION SET OPTIMIZER_GOAL = FIRST_ROWS;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4" name=""/>
          <p:cNvSpPr/>
          <p:nvPr/>
        </p:nvSpPr>
        <p:spPr>
          <a:xfrm>
            <a:off x="1165320" y="2741760"/>
            <a:ext cx="5176800" cy="3825360"/>
          </a:xfrm>
          <a:prstGeom prst="roundRect">
            <a:avLst>
              <a:gd name="adj" fmla="val 8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Modern"/>
                <a:ea typeface="바탕체"/>
              </a:rPr>
              <a:t>--+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FIRST_ROWS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CLASS IN ('Y', 'P', 'I', '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ACAA-1A6B-41FC-BEB5-1B6D5A08D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4120" y="2724120"/>
            <a:ext cx="8580240" cy="2952360"/>
          </a:xfrm>
          <a:prstGeom prst="roundRect">
            <a:avLst>
              <a:gd name="adj" fmla="val 67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CT_CODE, PART_MODEL_CODE, PART_CHAR_CODE, PART_SP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ART_ROUT_CODE, ORDERNO, ITEMNO, DIN_ACT_MH, WORK_ORDER_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MODEL_NO, DRAW_NO, MATR_STATUS, WORK_ORDER_DATE, ROW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ORK_ORDER_DATE LIKE :B1 || '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_CODE  = :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GROUP_CODE =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CT_COD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2880" y="243000"/>
            <a:ext cx="746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760" y="1103400"/>
            <a:ext cx="9567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WORKPLAN : S_WORKPLAN_IDX : WORK_ORDER_DATE + DEPT_CODE + GROU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9360" y="5979960"/>
            <a:ext cx="9028080" cy="5731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6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덱스 칼럼 순서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4540320"/>
            <a:ext cx="607392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SORT (ORDER B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  TABLE ACCESS (BY ROWID) OF 'S_WORKPLA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4602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INDEX (RANGE SCAN) OF 'S_WORKPLAN_IDX' (NON-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F5F0-2F3D-4988-9E75-F29CF3236C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06600" y="24300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52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ORK_ORDER_DATE + DEPT_CODE + GROU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5420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28940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A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3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B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2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3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4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C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6080" y="28814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2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3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4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0           4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5260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26520" y="27320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2040" y="53593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8080" y="30369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4000" y="573264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5840" y="3646440"/>
            <a:ext cx="1596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3049560"/>
            <a:ext cx="0" cy="2495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17960" y="403236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06800" y="5264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19040" y="3260880"/>
            <a:ext cx="54324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3639960"/>
            <a:ext cx="515880" cy="120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5680" y="30402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4960" y="382572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47000" y="3790800"/>
            <a:ext cx="0" cy="5000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6200" y="33559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26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348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14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7644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1960" y="4130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03920" y="45036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88440" y="428940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488440" y="4040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488440" y="376092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826A-1AE2-4F0A-9C6A-549C3FB33E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433440" y="3098880"/>
            <a:ext cx="10760760" cy="2081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HIPPER, COUNT(*), SUM(A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EX_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DATE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'950101'  AND  '950430'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&lt;- 4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개월 분량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약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3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만 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HIPPER  I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('A', 'B', 'C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 SHI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SUM(AMT) DESC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2880" y="243000"/>
            <a:ext cx="864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040" y="1103400"/>
            <a:ext cx="9809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 : SHIP_DATE_IX  :  SDATE +  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의 분포도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 SDATE : 1 / 365 , SHIPPER : 1 /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0880" y="4883040"/>
            <a:ext cx="5155920" cy="2282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 COST ESTIMATE:N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ORT ( GROUP B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EX_SHIPPER ( 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SHIP_DATE_IX ( N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78B2-7559-40C9-B088-0F67354A89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0560" y="1909800"/>
            <a:ext cx="48564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1120" y="143496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1480" y="6018120"/>
            <a:ext cx="1610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9240" y="1917720"/>
            <a:ext cx="1111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876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555920" y="2362320"/>
            <a:ext cx="1207800" cy="519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55920" y="3054240"/>
            <a:ext cx="1126800" cy="1670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555920" y="2971800"/>
            <a:ext cx="1207800" cy="341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22000" y="360360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5920" y="4741920"/>
            <a:ext cx="1126800" cy="439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09960" y="214632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71880" y="2260440"/>
            <a:ext cx="793800" cy="1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86280" y="2881080"/>
            <a:ext cx="779400" cy="903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13200" y="2476440"/>
            <a:ext cx="852480" cy="2208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13200" y="4021200"/>
            <a:ext cx="852480" cy="1154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25401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2800" y="27687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0" y="29973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2520" y="1909800"/>
            <a:ext cx="48888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1320" y="147168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3280" y="6016680"/>
            <a:ext cx="185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62640" y="1917720"/>
            <a:ext cx="11098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9444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59400" y="2362320"/>
            <a:ext cx="145728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59400" y="4419720"/>
            <a:ext cx="1376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48400" y="2971800"/>
            <a:ext cx="1187640" cy="154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59400" y="2743200"/>
            <a:ext cx="137664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39880" y="27399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0" y="3876840"/>
            <a:ext cx="1202040" cy="122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61480" y="2438280"/>
            <a:ext cx="7333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061480" y="2273040"/>
            <a:ext cx="7459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61480" y="2971800"/>
            <a:ext cx="707760" cy="165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8061480" y="4025520"/>
            <a:ext cx="7207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61480" y="3403440"/>
            <a:ext cx="707760" cy="1702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477360" y="24890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77360" y="27176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477360" y="29462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34000" y="4756320"/>
            <a:ext cx="1041480" cy="95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39880" y="352584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9880" y="44211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901000" y="220968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8480" y="2787480"/>
            <a:ext cx="466560" cy="203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13960" y="2867040"/>
            <a:ext cx="397440" cy="2035080"/>
            <a:chOff x="813960" y="2867040"/>
            <a:chExt cx="397440" cy="2035080"/>
          </a:xfrm>
        </p:grpSpPr>
        <p:sp>
          <p:nvSpPr>
            <p:cNvPr id="485" name=""/>
            <p:cNvSpPr/>
            <p:nvPr/>
          </p:nvSpPr>
          <p:spPr>
            <a:xfrm>
              <a:off x="879480" y="28670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1400" y="286704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3960" y="490212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40440" y="275436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85920" y="2833560"/>
            <a:ext cx="397440" cy="400320"/>
            <a:chOff x="5785920" y="2833560"/>
            <a:chExt cx="397440" cy="400320"/>
          </a:xfrm>
        </p:grpSpPr>
        <p:sp>
          <p:nvSpPr>
            <p:cNvPr id="490" name=""/>
            <p:cNvSpPr/>
            <p:nvPr/>
          </p:nvSpPr>
          <p:spPr>
            <a:xfrm>
              <a:off x="5851440" y="2833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3360" y="2833560"/>
              <a:ext cx="0" cy="400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785920" y="3233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040440" y="351324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785920" y="3592440"/>
            <a:ext cx="397440" cy="399960"/>
            <a:chOff x="5785920" y="3592440"/>
            <a:chExt cx="397440" cy="399960"/>
          </a:xfrm>
        </p:grpSpPr>
        <p:sp>
          <p:nvSpPr>
            <p:cNvPr id="495" name=""/>
            <p:cNvSpPr/>
            <p:nvPr/>
          </p:nvSpPr>
          <p:spPr>
            <a:xfrm>
              <a:off x="5851440" y="3592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83360" y="359244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85920" y="3992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40440" y="437832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5920" y="4457880"/>
            <a:ext cx="397440" cy="399960"/>
            <a:chOff x="5785920" y="4457880"/>
            <a:chExt cx="397440" cy="399960"/>
          </a:xfrm>
        </p:grpSpPr>
        <p:sp>
          <p:nvSpPr>
            <p:cNvPr id="500" name=""/>
            <p:cNvSpPr/>
            <p:nvPr/>
          </p:nvSpPr>
          <p:spPr>
            <a:xfrm>
              <a:off x="5851440" y="44578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83360" y="445788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5920" y="485784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8F8B-353E-48DA-A35E-67407B8622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080" y="1255680"/>
            <a:ext cx="4724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IN (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B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_DATE_IX1 : SHIPPER + SDATE + 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18120" y="3406680"/>
            <a:ext cx="444240" cy="262260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20920" y="3043080"/>
            <a:ext cx="215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IP_DATE_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8680" y="3770280"/>
            <a:ext cx="504720" cy="198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5280" y="398772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78800" y="398160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21640" y="43527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5160" y="43448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1640" y="47163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47084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21640" y="50799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15160" y="50720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15080" y="4121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08840" y="40482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15080" y="43498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08840" y="42768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15080" y="45813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08840" y="450864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94960" y="6087960"/>
            <a:ext cx="3111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 SDATE + A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993840" y="3687840"/>
            <a:ext cx="405000" cy="415800"/>
            <a:chOff x="3993840" y="3687840"/>
            <a:chExt cx="405000" cy="415800"/>
          </a:xfrm>
        </p:grpSpPr>
        <p:sp>
          <p:nvSpPr>
            <p:cNvPr id="524" name=""/>
            <p:cNvSpPr/>
            <p:nvPr/>
          </p:nvSpPr>
          <p:spPr>
            <a:xfrm>
              <a:off x="4016520" y="368784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369576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993840" y="4103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498920" y="3675240"/>
            <a:ext cx="2311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42080" y="3830760"/>
            <a:ext cx="235080" cy="145800"/>
          </a:xfrm>
          <a:custGeom>
            <a:avLst/>
            <a:gdLst/>
            <a:ahLst/>
            <a:rect l="l" t="t" r="r" b="b"/>
            <a:pathLst>
              <a:path w="148" h="92">
                <a:moveTo>
                  <a:pt x="0" y="91"/>
                </a:moveTo>
                <a:lnTo>
                  <a:pt x="22" y="48"/>
                </a:lnTo>
                <a:lnTo>
                  <a:pt x="11" y="0"/>
                </a:lnTo>
                <a:lnTo>
                  <a:pt x="147" y="63"/>
                </a:lnTo>
                <a:lnTo>
                  <a:pt x="0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38520" y="5079600"/>
            <a:ext cx="22003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5014800"/>
            <a:ext cx="233280" cy="146160"/>
          </a:xfrm>
          <a:custGeom>
            <a:avLst/>
            <a:gdLst/>
            <a:ahLst/>
            <a:rect l="l" t="t" r="r" b="b"/>
            <a:pathLst>
              <a:path w="147" h="92">
                <a:moveTo>
                  <a:pt x="7" y="91"/>
                </a:moveTo>
                <a:lnTo>
                  <a:pt x="20" y="43"/>
                </a:lnTo>
                <a:lnTo>
                  <a:pt x="0" y="0"/>
                </a:lnTo>
                <a:lnTo>
                  <a:pt x="146" y="35"/>
                </a:lnTo>
                <a:lnTo>
                  <a:pt x="7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4110120"/>
            <a:ext cx="226188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30920" y="4121280"/>
            <a:ext cx="233280" cy="147600"/>
          </a:xfrm>
          <a:custGeom>
            <a:avLst/>
            <a:gdLst/>
            <a:ahLst/>
            <a:rect l="l" t="t" r="r" b="b"/>
            <a:pathLst>
              <a:path w="147" h="93">
                <a:moveTo>
                  <a:pt x="0" y="92"/>
                </a:moveTo>
                <a:lnTo>
                  <a:pt x="20" y="46"/>
                </a:lnTo>
                <a:lnTo>
                  <a:pt x="5" y="0"/>
                </a:lnTo>
                <a:lnTo>
                  <a:pt x="146" y="50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538520" y="4470120"/>
            <a:ext cx="22719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3974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8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78320" y="368784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78320" y="384012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552920" y="4765680"/>
            <a:ext cx="2212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3920" y="4699080"/>
            <a:ext cx="231840" cy="147600"/>
          </a:xfrm>
          <a:custGeom>
            <a:avLst/>
            <a:gdLst/>
            <a:ahLst/>
            <a:rect l="l" t="t" r="r" b="b"/>
            <a:pathLst>
              <a:path w="146" h="93">
                <a:moveTo>
                  <a:pt x="6" y="92"/>
                </a:moveTo>
                <a:lnTo>
                  <a:pt x="19" y="44"/>
                </a:lnTo>
                <a:lnTo>
                  <a:pt x="0" y="0"/>
                </a:lnTo>
                <a:lnTo>
                  <a:pt x="145" y="35"/>
                </a:lnTo>
                <a:lnTo>
                  <a:pt x="6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14760" y="5401800"/>
            <a:ext cx="225432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0680" y="5337000"/>
            <a:ext cx="235080" cy="146160"/>
          </a:xfrm>
          <a:custGeom>
            <a:avLst/>
            <a:gdLst/>
            <a:ahLst/>
            <a:rect l="l" t="t" r="r" b="b"/>
            <a:pathLst>
              <a:path w="148" h="92">
                <a:moveTo>
                  <a:pt x="11" y="91"/>
                </a:moveTo>
                <a:lnTo>
                  <a:pt x="21" y="43"/>
                </a:lnTo>
                <a:lnTo>
                  <a:pt x="0" y="0"/>
                </a:lnTo>
                <a:lnTo>
                  <a:pt x="147" y="28"/>
                </a:lnTo>
                <a:lnTo>
                  <a:pt x="11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6640" y="4491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6640" y="46432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67520" y="52084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7520" y="5364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3480" y="1152360"/>
            <a:ext cx="4872240" cy="1933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ORT  ( GROUP B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920" y="3952800"/>
            <a:ext cx="3477240" cy="136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처리범위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HIPPER =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DATE BETWEEN ..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의해서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993840" y="4518000"/>
            <a:ext cx="405000" cy="415800"/>
            <a:chOff x="3993840" y="4518000"/>
            <a:chExt cx="405000" cy="415800"/>
          </a:xfrm>
        </p:grpSpPr>
        <p:sp>
          <p:nvSpPr>
            <p:cNvPr id="548" name=""/>
            <p:cNvSpPr/>
            <p:nvPr/>
          </p:nvSpPr>
          <p:spPr>
            <a:xfrm>
              <a:off x="4016520" y="451800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5259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993840" y="49338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93840" y="5262480"/>
            <a:ext cx="405000" cy="416160"/>
            <a:chOff x="3993840" y="5262480"/>
            <a:chExt cx="405000" cy="416160"/>
          </a:xfrm>
        </p:grpSpPr>
        <p:sp>
          <p:nvSpPr>
            <p:cNvPr id="552" name=""/>
            <p:cNvSpPr/>
            <p:nvPr/>
          </p:nvSpPr>
          <p:spPr>
            <a:xfrm>
              <a:off x="4016520" y="526248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52704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993840" y="5678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284640" y="4633920"/>
            <a:ext cx="5950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84640" y="3890880"/>
            <a:ext cx="60948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1680" y="4651200"/>
            <a:ext cx="62244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EC29-3270-47B5-A693-F831D866BE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43440" y="22953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1120" y="2201760"/>
            <a:ext cx="128520" cy="2016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0" y="0"/>
                </a:moveTo>
                <a:lnTo>
                  <a:pt x="80" y="60"/>
                </a:lnTo>
                <a:lnTo>
                  <a:pt x="0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4680" y="1416240"/>
            <a:ext cx="1570320" cy="229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LT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CAR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DER_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_HP_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26160" y="2297160"/>
            <a:ext cx="987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3080" y="1396800"/>
            <a:ext cx="1681560" cy="21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XC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B_F_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PER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7920" y="1897200"/>
            <a:ext cx="15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4160" y="1892160"/>
            <a:ext cx="16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200" y="4325760"/>
            <a:ext cx="87454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45AD-D21A-46FC-A475-4FA0DC42CD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2600" y="947880"/>
            <a:ext cx="96645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280" y="2732040"/>
            <a:ext cx="6548400" cy="3822840"/>
          </a:xfrm>
          <a:prstGeom prst="roundRect">
            <a:avLst>
              <a:gd name="adj" fmla="val 9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_PRT, A.HP_Q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TEAM_CDOE, B.UPF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5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A.PART_CODE = B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ORDER_PRT =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PART_CODE BETWEEN :VALUE3 AND :VALUE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600" y="2246400"/>
            <a:ext cx="8343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722840" y="3363840"/>
            <a:ext cx="5300640" cy="2010600"/>
            <a:chOff x="4722840" y="3363840"/>
            <a:chExt cx="5300640" cy="2010600"/>
          </a:xfrm>
        </p:grpSpPr>
        <p:sp>
          <p:nvSpPr>
            <p:cNvPr id="572" name=""/>
            <p:cNvSpPr/>
            <p:nvPr/>
          </p:nvSpPr>
          <p:spPr>
            <a:xfrm>
              <a:off x="4722840" y="3363840"/>
              <a:ext cx="5300640" cy="2010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  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NESTED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17718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TABLE ACCESS (FULL) OF 'GFLT95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TABLE ACCESS (BY ROWID) OF 'GFXC13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  INDEX (UNIQUE SCAN) OF 'GFXC130_X1' (U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4040" y="4149720"/>
              <a:ext cx="6771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2600" y="5935680"/>
            <a:ext cx="9421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: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_X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PART_C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CAR_CODE + D_DAY + TEAM_CODE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E6C7-6447-4FEB-AAA3-10D06F6F5B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477360" y="2863800"/>
            <a:ext cx="8436960" cy="2189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.PRT, A.F_HP_Q, B.TEA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2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A.PART_CODE = B.PART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BETWEEN  :VALUE3  AND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" y="1103400"/>
            <a:ext cx="9736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1 : CAR_CODE +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PART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PART_CODE + TEAM_CODE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92720" y="4816440"/>
            <a:ext cx="5148000" cy="205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HINT :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3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2      TABLE ACCESS (BY ROWID) OF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3        INDEX (RANGE SCAN) OF 'GFXC13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89      TABLE ACCESS (BY ROWID) OF 'GFLT9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90        INDEX (RANGE SCAN) OF 'GFLT920_X2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770680" y="5562720"/>
            <a:ext cx="677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139F-6257-4C6E-B51B-30A859038B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7700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35720" y="1231920"/>
            <a:ext cx="1055880" cy="298620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95800" y="1231920"/>
            <a:ext cx="1193760" cy="29401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7880" y="241776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2960" y="289872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1219320"/>
            <a:ext cx="673200" cy="2958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06600" y="28004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241776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43560" y="336564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0560" y="241776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8760" y="28004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9120" y="187164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434440" y="279576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34440" y="23320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7600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468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0" y="138420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8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50000" y="17287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0484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1480" y="442440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9200" y="445608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1520" y="44355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_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15240" y="45115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_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440" y="5154480"/>
            <a:ext cx="9272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PART_CODE + D_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18080" y="1231920"/>
            <a:ext cx="701640" cy="29671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88160" y="1871640"/>
            <a:ext cx="0" cy="15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7600" y="36352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9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07D6-52F4-43F2-A4D5-E7AF3B0C13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-11160" y="2800440"/>
            <a:ext cx="694908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.PART_CODE,A.SPUM_CODE,A.D_DAY,A.B_F_Q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TAG,B.ORDER_PRT,C.DC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GFBT400  A,  GFXC440  B,  GFXC130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SPUM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B.SPUM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A.PART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A.D_DAY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ND A.TEAM_CODE = :B2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760" y="1103400"/>
            <a:ext cx="9820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400  A :  GFBT400_X3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TEAM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 +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B :  GFXC440_X1 : SPUM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C :  GFXC130_X1 : PART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86040" y="4356000"/>
            <a:ext cx="6086520" cy="311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39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TABLE  ACCESS ( BY ROWID )  OF  'GFBT4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4827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INDEX ( RANGE SCAN )  OF  'GFBT400_X3' (NON-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TABLE  ACCESS ( BY ROWID )  OF 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  INDEX ( UNIQUE SCAN )  OF  'GFXC13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TABLE  ACCESS ( BY ROWID )  OF  'GFXC44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INDEX  ( UNIQUE SCAN ) OF  'GFXC44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0" y="5375160"/>
            <a:ext cx="62100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5EA5-33BE-4965-972C-5BB8E62156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99320" y="2849400"/>
            <a:ext cx="868896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H14_ACNT_CODE, H14_GWANLI_CODE, H14_MAGAM_Y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H14_MAGAM_MM,  H14_GUBUN, H14_C_AMT, H14_D_AM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FH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0  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DER BY  H14_ACNT_CODE, H14_GWANLI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720" y="243000"/>
            <a:ext cx="57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. ORDER BY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절에서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60" y="1103400"/>
            <a:ext cx="97455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H14 : IFH14_KEY1 :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H14_ACNT_CODE + H14_GWANLI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H14_MAGAM_MM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5200560"/>
            <a:ext cx="62658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    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 SELECT STATEMENT   HINT: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743      TABLE ACCESS (BY ROWID) OF 'FH1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8188        INDEX (RANGE SCAN) OF 'IFH14_KEY1'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3120" y="4334040"/>
            <a:ext cx="2578320" cy="91116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33480 h 911160"/>
              <a:gd name="textAreaBottom" fmla="*/ 727920 h 911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에 의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ORT Plan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 없는 이유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440" y="5218200"/>
            <a:ext cx="2211120" cy="69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적어도 하나 이상의 컬럼이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CC20-B14B-4F6F-89CA-904D677DB8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1833480"/>
            <a:ext cx="485640" cy="3881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7240" y="1285920"/>
            <a:ext cx="1854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360" y="5881680"/>
            <a:ext cx="20278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2362320"/>
            <a:ext cx="407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00160" y="2362320"/>
            <a:ext cx="0" cy="2895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14160" y="5257800"/>
            <a:ext cx="48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3213000"/>
            <a:ext cx="8874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65400" y="1841400"/>
            <a:ext cx="12700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30320" y="1285920"/>
            <a:ext cx="1536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8920" y="2286000"/>
            <a:ext cx="129708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892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258920" y="2819520"/>
            <a:ext cx="129708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258920" y="4191120"/>
            <a:ext cx="1297080" cy="7617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59080" y="3068640"/>
            <a:ext cx="403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4038480"/>
            <a:ext cx="12970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8240" y="1833480"/>
            <a:ext cx="5382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119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6296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81800" y="1841400"/>
            <a:ext cx="1171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60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78200" y="2666880"/>
            <a:ext cx="129564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78200" y="2819520"/>
            <a:ext cx="1295640" cy="1676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77920" y="37544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1000" y="4800600"/>
            <a:ext cx="121284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48160" y="5781600"/>
            <a:ext cx="200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78200" y="2286000"/>
            <a:ext cx="154296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78200" y="2666880"/>
            <a:ext cx="154296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962440" y="2742840"/>
            <a:ext cx="14587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75800" y="32209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78200" y="3885840"/>
            <a:ext cx="154296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878200" y="4800240"/>
            <a:ext cx="154296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32560" y="1833480"/>
            <a:ext cx="487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80600" y="1841400"/>
            <a:ext cx="1117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448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656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6560" y="2666880"/>
            <a:ext cx="12970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3280" y="34495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56560" y="4800600"/>
            <a:ext cx="129708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1280" y="2971800"/>
            <a:ext cx="10540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32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539040" y="281952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440" y="32972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39040" y="320040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251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42720" y="5857920"/>
            <a:ext cx="19832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228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0464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3504960"/>
            <a:ext cx="129708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514600"/>
            <a:ext cx="1297080" cy="838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8080" y="2222640"/>
            <a:ext cx="858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05360" y="314496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6229440"/>
            <a:ext cx="4730760" cy="49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TEAM_CODE + D_DAY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3482-E9F5-4F18-8EB4-D74C771F54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-509760" y="3005280"/>
            <a:ext cx="9251280" cy="207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D_DAY,  TEAM_CODE,  SPUM_CODE,  B_F_QTY,  ORDER_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GFBT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:VALUE1 AND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EAM_CODE =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ORDER_PR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256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사용을 정확히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4280" y="1103400"/>
            <a:ext cx="940932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 + SERIAL_NO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2 : SPUM_CODE + D_DAY + ORDER_P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21280" y="4460760"/>
            <a:ext cx="584820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    HINT  : 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9064    SORT (ORDER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9728      TABLE  ACCESS  (BY  ROWID)  OF  GFBT3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2972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GFBT300_X1'  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4280" y="6041880"/>
            <a:ext cx="6094440" cy="50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: TEAM_CODE  +  D_DAY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NDEX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추가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D8E0-55C4-43EB-9EE0-0607BAF41B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-733320" y="2882880"/>
            <a:ext cx="11084040" cy="3691080"/>
          </a:xfrm>
          <a:prstGeom prst="roundRect">
            <a:avLst>
              <a:gd name="adj" fmla="val 54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T.D_DAY, DT.YT_CODE, DT.SHOP_CODE, DT.SLIP_NO1, DT.SLIP_N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TAX_GUBUN, SUM(DT.BP_AMOUNT1 + DT.HP_AOUNT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ST300  DT,  GFST100  HD,  GFXC250  C,  GFXC310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TEAM_COD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=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:B2  BETWEEN  C.NEW_FR_DATE  AND  C.NEW_TO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D.SUSU_CHK  =  '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HD.D_DAY  =  :B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상수 값이므로 최초로 풀리는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HD.PART_CODE  BETWEEN  :B4  AND :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YT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YT_CODE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AND  HD.YT_CODE  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SHOP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SHOP_CODE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ND  HD.SHOP_CODE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D_DAY     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D_DAY      AND  HD.YT_CODE  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1  =  DT.SLIP_NO1   AND  HD.SHOP_CODE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2  =  DT.SLIP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  DT.D_DAY, DT.YT_CODE, DT.SHOP_CODE, DT.SLIP_NO1, DT.SLIP_NO2, DT.TAX_GUBU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760" y="1028880"/>
            <a:ext cx="82310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 DT :  GFST300_X2 : </a:t>
            </a:r>
            <a:r>
              <a:rPr b="1" lang="ko-KR" sz="1400" spc="-1" strike="noStrike">
                <a:solidFill>
                  <a:srgbClr val="8000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 HD :  GFST100_X1 :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D_DA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YT_CODE + SHOP_CODE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C  :  GFXC250_X3 : </a:t>
            </a:r>
            <a:r>
              <a:rPr b="1" lang="ko-KR" sz="1400" spc="-1" strike="noStrike">
                <a:solidFill>
                  <a:srgbClr val="ff00cc"/>
                </a:solidFill>
                <a:latin typeface="굴림체"/>
                <a:ea typeface="굴림체"/>
              </a:rPr>
              <a:t>YT_CODE + SHOP_CODE 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  D  :  GFXC310_X1 : </a:t>
            </a:r>
            <a:r>
              <a:rPr b="1" lang="ko-KR" sz="1400" spc="-1" strike="noStrike">
                <a:solidFill>
                  <a:srgbClr val="0099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51840" y="3625920"/>
            <a:ext cx="2771280" cy="3618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cc"/>
                </a:solidFill>
                <a:latin typeface="굴림체"/>
                <a:ea typeface="굴림체"/>
              </a:rPr>
              <a:t>HD --&gt; D --&gt; C --&gt;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CBE0-5D7E-45A1-B7B4-D1F8FFDA2B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06600" y="1312920"/>
            <a:ext cx="8220600" cy="6877800"/>
            <a:chOff x="606600" y="1312920"/>
            <a:chExt cx="8220600" cy="6877800"/>
          </a:xfrm>
        </p:grpSpPr>
        <p:sp>
          <p:nvSpPr>
            <p:cNvPr id="676" name=""/>
            <p:cNvSpPr/>
            <p:nvPr/>
          </p:nvSpPr>
          <p:spPr>
            <a:xfrm>
              <a:off x="606600" y="1312920"/>
              <a:ext cx="8216640" cy="6877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CALL         COUNT     CPU      ELAPSED     DISK    QUERY    CURRENT     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   ------- --------  ---------- -------- -------- ---------- 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PARSE            1     0.06       0.06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XECUTE         14     0.04       0.04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ETCH           61    10.60      11.35        38    58338          0       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 EXECUTION 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   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SELECT  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SORT ( GROUP B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315  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0494           TABLE  ACCESS  ( BY  ROWID )  OF  'GFST1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49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INDEX  ( RANGE  SCAN )  OF  'GFST10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TABLE  ACCESS  ( BY  ROWID )  OF  'GFXC31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  INDEX  ( UNIQUE  SCAN )  OF  'GFXC31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75         TABLE  ACCESS  ( BY  ROWID )  OF  'GFXC25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90           INDEX  ( RANGE  SCAN )  OF  'GFXC250_X3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07607       TABLE  ACCESS  ( BY  ROWID )  OF  'GFST3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40774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 ( RANGE  SCAN )  OF  'GFST300_X2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2240" y="4202280"/>
              <a:ext cx="8049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DB48-07B3-487F-9586-263821180B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34828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040" y="1719360"/>
            <a:ext cx="406440" cy="30826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605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25360" y="487368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440" y="2276640"/>
            <a:ext cx="385560" cy="21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9920" y="2332080"/>
            <a:ext cx="397440" cy="2173320"/>
            <a:chOff x="259920" y="2332080"/>
            <a:chExt cx="397440" cy="2173320"/>
          </a:xfrm>
        </p:grpSpPr>
        <p:sp>
          <p:nvSpPr>
            <p:cNvPr id="684" name=""/>
            <p:cNvSpPr/>
            <p:nvPr/>
          </p:nvSpPr>
          <p:spPr>
            <a:xfrm>
              <a:off x="325440" y="23320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360" y="2332080"/>
              <a:ext cx="0" cy="2173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920" y="4505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rot="16200000">
            <a:off x="32040" y="1788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986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996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11400" y="1719360"/>
            <a:ext cx="3985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604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67120" y="1730520"/>
            <a:ext cx="841320" cy="311760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668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073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96160" y="1730520"/>
            <a:ext cx="77004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24832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ST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84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610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_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7762320" y="187704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407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508320" y="1842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007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209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25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198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464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57960" y="189396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0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8956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9290160" y="2863800"/>
            <a:ext cx="62712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290160" y="2980800"/>
            <a:ext cx="620640" cy="722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72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14720" y="5922720"/>
            <a:ext cx="8591040" cy="6796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HD : GFST100_X1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D_DAY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PART_COD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YT_CODE + 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DT : GFST300_X2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YT_CODE + SHOP_CODE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D_DA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SPUM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924600" y="2722680"/>
            <a:ext cx="749520" cy="1355760"/>
            <a:chOff x="6924600" y="2722680"/>
            <a:chExt cx="749520" cy="1355760"/>
          </a:xfrm>
        </p:grpSpPr>
        <p:sp>
          <p:nvSpPr>
            <p:cNvPr id="712" name=""/>
            <p:cNvSpPr/>
            <p:nvPr/>
          </p:nvSpPr>
          <p:spPr>
            <a:xfrm>
              <a:off x="6924600" y="3168720"/>
              <a:ext cx="749520" cy="9097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924600" y="2722680"/>
              <a:ext cx="736560" cy="1009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8234280" y="2844720"/>
            <a:ext cx="77940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7520" y="3298680"/>
            <a:ext cx="747720" cy="403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34280" y="3227400"/>
            <a:ext cx="739800" cy="866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234280" y="2533680"/>
            <a:ext cx="720720" cy="203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4280" y="4419720"/>
            <a:ext cx="74952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493380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496404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37040" y="4979880"/>
            <a:ext cx="1930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94280"/>
            <a:ext cx="1863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9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3000" y="2400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73000" y="2989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3000" y="3778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5680" y="28018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736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017800" y="2566800"/>
            <a:ext cx="1023840" cy="284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17800" y="3458880"/>
            <a:ext cx="100152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6160" y="2649600"/>
            <a:ext cx="1052640" cy="31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17840" y="2592360"/>
            <a:ext cx="75096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17840" y="3471840"/>
            <a:ext cx="70812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2938320"/>
            <a:ext cx="719280" cy="33840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500720" y="2895120"/>
            <a:ext cx="777600" cy="59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00720" y="3313080"/>
            <a:ext cx="793440" cy="433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03960" y="2890800"/>
            <a:ext cx="399960" cy="20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3960" y="3728880"/>
            <a:ext cx="3999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97440" y="27716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97440" y="3913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18480" y="2692440"/>
            <a:ext cx="395280" cy="66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19920" y="4060800"/>
            <a:ext cx="390600" cy="42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671960" y="2757600"/>
            <a:ext cx="271800" cy="685800"/>
            <a:chOff x="7671960" y="2757600"/>
            <a:chExt cx="271800" cy="685800"/>
          </a:xfrm>
        </p:grpSpPr>
        <p:sp>
          <p:nvSpPr>
            <p:cNvPr id="744" name=""/>
            <p:cNvSpPr/>
            <p:nvPr/>
          </p:nvSpPr>
          <p:spPr>
            <a:xfrm>
              <a:off x="7715160" y="2757600"/>
              <a:ext cx="214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3760" y="2757600"/>
              <a:ext cx="0" cy="68580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671960" y="3443400"/>
              <a:ext cx="2574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674120" y="4110120"/>
            <a:ext cx="269640" cy="452520"/>
            <a:chOff x="7674120" y="4110120"/>
            <a:chExt cx="269640" cy="452520"/>
          </a:xfrm>
        </p:grpSpPr>
        <p:sp>
          <p:nvSpPr>
            <p:cNvPr id="748" name=""/>
            <p:cNvSpPr/>
            <p:nvPr/>
          </p:nvSpPr>
          <p:spPr>
            <a:xfrm>
              <a:off x="7716960" y="4110120"/>
              <a:ext cx="2127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4110120"/>
              <a:ext cx="0" cy="4525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74120" y="4562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266800" y="2938320"/>
            <a:ext cx="255960" cy="258840"/>
            <a:chOff x="5266800" y="2938320"/>
            <a:chExt cx="255960" cy="258840"/>
          </a:xfrm>
        </p:grpSpPr>
        <p:sp>
          <p:nvSpPr>
            <p:cNvPr id="752" name=""/>
            <p:cNvSpPr/>
            <p:nvPr/>
          </p:nvSpPr>
          <p:spPr>
            <a:xfrm>
              <a:off x="5308560" y="2938320"/>
              <a:ext cx="2001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2760" y="2938320"/>
              <a:ext cx="0" cy="25884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66800" y="3197160"/>
              <a:ext cx="241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253120" y="3776760"/>
            <a:ext cx="269640" cy="407880"/>
            <a:chOff x="5253120" y="3776760"/>
            <a:chExt cx="269640" cy="407880"/>
          </a:xfrm>
        </p:grpSpPr>
        <p:sp>
          <p:nvSpPr>
            <p:cNvPr id="756" name=""/>
            <p:cNvSpPr/>
            <p:nvPr/>
          </p:nvSpPr>
          <p:spPr>
            <a:xfrm>
              <a:off x="5297400" y="3776760"/>
              <a:ext cx="2113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2760" y="3776760"/>
              <a:ext cx="0" cy="4078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253120" y="4184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9037440" y="24620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37440" y="31687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37440" y="43671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2640" y="25560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2640" y="28130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2640" y="34783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25320" y="32479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5320" y="3448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97080" y="3691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7080" y="30812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037080" y="28036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037080" y="36622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059680" y="28558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827680" y="2804760"/>
            <a:ext cx="793800" cy="1440360"/>
            <a:chOff x="5827680" y="2804760"/>
            <a:chExt cx="793800" cy="1440360"/>
          </a:xfrm>
        </p:grpSpPr>
        <p:sp>
          <p:nvSpPr>
            <p:cNvPr id="773" name=""/>
            <p:cNvSpPr/>
            <p:nvPr/>
          </p:nvSpPr>
          <p:spPr>
            <a:xfrm flipV="1">
              <a:off x="5827680" y="2804760"/>
              <a:ext cx="719280" cy="104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27680" y="3897360"/>
              <a:ext cx="782640" cy="792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27680" y="3068640"/>
              <a:ext cx="719280" cy="381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7680" y="3745080"/>
              <a:ext cx="793800" cy="1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27680" y="4064040"/>
              <a:ext cx="773280" cy="18108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92760" y="41655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6880" y="44528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3760" y="30751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20880" y="2446200"/>
            <a:ext cx="81900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920880" y="3816360"/>
            <a:ext cx="807840" cy="566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20880" y="3543480"/>
            <a:ext cx="807840" cy="67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0880" y="2297160"/>
            <a:ext cx="777600" cy="538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0880" y="2608200"/>
            <a:ext cx="779400" cy="414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20880" y="2606760"/>
            <a:ext cx="765000" cy="217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4062240"/>
            <a:ext cx="814320" cy="447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21120" y="255276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21120" y="291924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21120" y="343368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306560" y="190512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77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05800" y="17366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1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67600" y="39466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8ACD-A2C9-4E7A-9C32-1FDB281684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7280" y="1454040"/>
            <a:ext cx="135288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92520" y="1454040"/>
            <a:ext cx="130500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9880" y="19047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AAB 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9880" y="21999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AAC 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9880" y="24951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ABA  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9880" y="27874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  ABB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9880" y="30826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E  ABC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6280" y="19047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10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6280" y="21999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10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6280" y="24951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10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7680" y="31590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5240" y="1898640"/>
            <a:ext cx="466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27480" y="1879560"/>
            <a:ext cx="46512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87520" y="3754440"/>
            <a:ext cx="771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3735360"/>
            <a:ext cx="73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78600" y="1824120"/>
            <a:ext cx="3146400" cy="1562040"/>
          </a:xfrm>
          <a:prstGeom prst="rect">
            <a:avLst/>
          </a:prstGeom>
          <a:solidFill>
            <a:srgbClr val="3c002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21440" y="1879560"/>
            <a:ext cx="305280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  AAB   111    A    10 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21440" y="2170080"/>
            <a:ext cx="3052800" cy="306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  AAC   123    B    10 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2476440"/>
            <a:ext cx="3052800" cy="29520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  ABA   222    C    10 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21440" y="2782800"/>
            <a:ext cx="3052800" cy="279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D    ABB 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21440" y="3073320"/>
            <a:ext cx="3052800" cy="26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E    ABC 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57680" y="28764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7680" y="258588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49400" y="23018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49400" y="201312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2101680"/>
            <a:ext cx="515880" cy="984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5240" y="3505320"/>
            <a:ext cx="1301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원하는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43600" y="1521000"/>
            <a:ext cx="328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KEY   FLD1  FLD2  KEY  COL1  CO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35280" y="4425840"/>
            <a:ext cx="51573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9197-6D49-48FC-89A0-D2A6A56088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6880" y="1098720"/>
            <a:ext cx="20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440" y="14922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Y.COL1 = 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00" y="32670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Y.COL1 = 10  OR  Y.COL1 IS NULL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40" y="50418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Y.COL1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= 1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08840" y="2157480"/>
            <a:ext cx="268596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08840" y="3726000"/>
            <a:ext cx="3565440" cy="82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순서이므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면 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5614920"/>
            <a:ext cx="314640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라도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23640" y="885960"/>
            <a:ext cx="4414320" cy="55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1  X : TAB1_IX : FLD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2  Y : TAB2_IX : COL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4840" y="300996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43160" y="478008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7B0C-5D61-469A-ACEE-536C5558B5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8440" y="271764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Y.COL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IN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10,30,5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44200" y="243000"/>
            <a:ext cx="54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7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027080"/>
            <a:ext cx="915336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94320" y="3332160"/>
            <a:ext cx="2457360" cy="566640"/>
          </a:xfrm>
          <a:custGeom>
            <a:avLst/>
            <a:gdLst>
              <a:gd name="textAreaLeft" fmla="*/ 90720 w 2457360"/>
              <a:gd name="textAreaRight" fmla="*/ 2366640 w 2457360"/>
              <a:gd name="textAreaTop" fmla="*/ 20880 h 566640"/>
              <a:gd name="textAreaBottom" fmla="*/ 452520 h 566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ORA-01719 Error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00" y="4824360"/>
            <a:ext cx="7446960" cy="177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SELECT  KEY, COL1, 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TA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WHERE  COL1 IN (10,30,50) ) 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720" y="2274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230508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40676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9CC0-05BD-4199-BFB2-A006EF6297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-440280" y="2414520"/>
            <a:ext cx="9418680" cy="2485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DESCRIPTION, A.MODEL, A.DESRIPTION, NVL(B.QTY1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QTY2,0), NVL(B.QTY3, 0), NVL(B.QTY4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TPO120 A, STPO09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SA = B.SA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A.PART = B.PART(+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A =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AR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ETWEEN :VALUE2 AND 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ENTER =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:VALUE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71760" y="243000"/>
            <a:ext cx="708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8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여러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컬럼을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9600" y="1027080"/>
            <a:ext cx="921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120  A : STPO12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A +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096  B : STPO096_X1 : CENTER + SA +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7920" y="4741920"/>
            <a:ext cx="5183280" cy="2010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ATEMENT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NESTED LOOP(OU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STPO1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(RANGE SCAN) OF 'STPO12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STPO096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720" y="5356080"/>
            <a:ext cx="4054680" cy="395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CENTER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=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76680" y="6172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07640" y="5973480"/>
            <a:ext cx="4191840" cy="395640"/>
            <a:chOff x="107640" y="5973480"/>
            <a:chExt cx="4191840" cy="395640"/>
          </a:xfrm>
        </p:grpSpPr>
        <p:sp>
          <p:nvSpPr>
            <p:cNvPr id="850" name=""/>
            <p:cNvSpPr/>
            <p:nvPr/>
          </p:nvSpPr>
          <p:spPr>
            <a:xfrm>
              <a:off x="107640" y="5973480"/>
              <a:ext cx="4191840" cy="3956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ALL_ROWS      FIRST_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8640" y="6089760"/>
              <a:ext cx="249120" cy="152280"/>
            </a:xfrm>
            <a:prstGeom prst="rightArrow">
              <a:avLst>
                <a:gd name="adj1" fmla="val 50000"/>
                <a:gd name="adj2" fmla="val 818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918280" y="5553000"/>
            <a:ext cx="67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600" y="4987800"/>
            <a:ext cx="197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021B-7877-4E2B-A801-E4ABB00B55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89240" y="3463920"/>
            <a:ext cx="1396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법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17960" y="2127240"/>
            <a:ext cx="150840" cy="1522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79440" y="4329000"/>
            <a:ext cx="149400" cy="1526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rot="10800000">
            <a:off x="4000680" y="4549680"/>
            <a:ext cx="1358640" cy="843120"/>
          </a:xfrm>
          <a:custGeom>
            <a:avLst/>
            <a:gdLst>
              <a:gd name="textAreaLeft" fmla="*/ 50040 w 1358640"/>
              <a:gd name="textAreaRight" fmla="*/ 1308600 w 1358640"/>
              <a:gd name="textAreaTop" fmla="*/ 30960 h 843120"/>
              <a:gd name="textAreaBottom" fmla="*/ 673560 h 84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4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배타적 관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EXCLUS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814920" y="2166840"/>
            <a:ext cx="1906560" cy="2286000"/>
            <a:chOff x="3814920" y="2166840"/>
            <a:chExt cx="1906560" cy="2286000"/>
          </a:xfrm>
        </p:grpSpPr>
        <p:sp>
          <p:nvSpPr>
            <p:cNvPr id="860" name=""/>
            <p:cNvSpPr/>
            <p:nvPr/>
          </p:nvSpPr>
          <p:spPr>
            <a:xfrm>
              <a:off x="4917960" y="231948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14920" y="23194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17960" y="43005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14920" y="430056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14920" y="2166840"/>
              <a:ext cx="201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814920" y="231948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14920" y="430056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3814920" y="414792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143080" y="1722600"/>
            <a:ext cx="1666800" cy="3225600"/>
          </a:xfrm>
          <a:custGeom>
            <a:avLst/>
            <a:gdLst>
              <a:gd name="textAreaLeft" fmla="*/ 60840 w 1666800"/>
              <a:gd name="textAreaRight" fmla="*/ 1605960 w 1666800"/>
              <a:gd name="textAreaTop" fmla="*/ 60840 h 3225600"/>
              <a:gd name="textAreaBottom" fmla="*/ 3164760 h 3225600"/>
            </a:gdLst>
            <a:ahLst/>
            <a:rect l="textAreaLeft" t="textAreaTop" r="textAreaRight" b="textAreaBottom"/>
            <a:pathLst>
              <a:path w="21600" h="41796">
                <a:moveTo>
                  <a:pt x="2699" y="0"/>
                </a:moveTo>
                <a:arcTo wR="2699" hR="2699" stAng="16200000" swAng="-5400000"/>
                <a:lnTo>
                  <a:pt x="0" y="39097"/>
                </a:lnTo>
                <a:arcTo wR="2699" hR="2699" stAng="10800000" swAng="-5400000"/>
                <a:lnTo>
                  <a:pt x="18901" y="4179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계좌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비밀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실명확인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해지상태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상품종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적용금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65000" y="1300320"/>
            <a:ext cx="611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30840" y="3827520"/>
            <a:ext cx="1914480" cy="2442960"/>
          </a:xfrm>
          <a:custGeom>
            <a:avLst/>
            <a:gdLst>
              <a:gd name="textAreaLeft" fmla="*/ 69840 w 1914480"/>
              <a:gd name="textAreaRight" fmla="*/ 1844640 w 1914480"/>
              <a:gd name="textAreaTop" fmla="*/ 69840 h 2442960"/>
              <a:gd name="textAreaBottom" fmla="*/ 2373120 h 2442960"/>
            </a:gdLst>
            <a:ahLst/>
            <a:rect l="textAreaLeft" t="textAreaTop" r="textAreaRight" b="textAreaBottom"/>
            <a:pathLst>
              <a:path w="21600" h="27561">
                <a:moveTo>
                  <a:pt x="2699" y="0"/>
                </a:moveTo>
                <a:arcTo wR="2699" hR="2699" stAng="16200000" swAng="-5400000"/>
                <a:lnTo>
                  <a:pt x="0" y="24862"/>
                </a:lnTo>
                <a:arcTo wR="2699" hR="2699" stAng="10800000" swAng="-5400000"/>
                <a:lnTo>
                  <a:pt x="18901" y="2756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법인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사업자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재무상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매출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38760" y="1579680"/>
            <a:ext cx="1668600" cy="1685880"/>
          </a:xfrm>
          <a:custGeom>
            <a:avLst/>
            <a:gdLst>
              <a:gd name="textAreaLeft" fmla="*/ 60840 w 1668600"/>
              <a:gd name="textAreaRight" fmla="*/ 1607760 w 1668600"/>
              <a:gd name="textAreaTop" fmla="*/ 60840 h 1685880"/>
              <a:gd name="textAreaBottom" fmla="*/ 1625040 h 1685880"/>
            </a:gdLst>
            <a:ahLst/>
            <a:rect l="textAreaLeft" t="textAreaTop" r="textAreaRight" b="textAreaBottom"/>
            <a:pathLst>
              <a:path w="21600" h="21824">
                <a:moveTo>
                  <a:pt x="2699" y="0"/>
                </a:moveTo>
                <a:arcTo wR="2699" hR="2699" stAng="16200000" swAng="-5400000"/>
                <a:lnTo>
                  <a:pt x="0" y="19125"/>
                </a:lnTo>
                <a:arcTo wR="2699" hR="2699" stAng="10800000" swAng="-5400000"/>
                <a:lnTo>
                  <a:pt x="18901" y="2182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성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민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74640" y="1231920"/>
            <a:ext cx="825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개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2319480"/>
            <a:ext cx="0" cy="1981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000" y="211140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08312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928F-0010-4B1C-B172-494BC54FC1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0560" y="5703840"/>
            <a:ext cx="91425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1542960"/>
            <a:ext cx="4510080" cy="443160"/>
          </a:xfrm>
          <a:prstGeom prst="rect">
            <a:avLst/>
          </a:prstGeom>
          <a:solidFill>
            <a:srgbClr val="69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전  체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1520" y="1531800"/>
            <a:ext cx="4618080" cy="443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부  분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1547640"/>
            <a:ext cx="9131400" cy="48546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200" y="1984320"/>
            <a:ext cx="91105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1920" y="2651040"/>
            <a:ext cx="546120" cy="221796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25560"/>
            <a:ext cx="59364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200" y="318924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3402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9360" y="2695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9360" y="28656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30686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9360" y="3271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560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9360" y="36734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38750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9360" y="404352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9360" y="44481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46353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481176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132000"/>
            <a:ext cx="6336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5320" y="292752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27432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40608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5320" y="447840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481824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64240" y="4037040"/>
            <a:ext cx="329400" cy="506520"/>
            <a:chOff x="2964240" y="4037040"/>
            <a:chExt cx="329400" cy="506520"/>
          </a:xfrm>
        </p:grpSpPr>
        <p:sp>
          <p:nvSpPr>
            <p:cNvPr id="128" name=""/>
            <p:cNvSpPr/>
            <p:nvPr/>
          </p:nvSpPr>
          <p:spPr>
            <a:xfrm>
              <a:off x="2964240" y="403704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4240" y="417672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300560" y="2768760"/>
            <a:ext cx="6192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9120" y="2924280"/>
            <a:ext cx="6188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7040" y="312120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9160" y="2416320"/>
            <a:ext cx="625320" cy="27939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27273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2040" y="402264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2040" y="416556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708280"/>
            <a:ext cx="607680" cy="2108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6360" y="32050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7080" y="2727360"/>
            <a:ext cx="0" cy="205884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65320" y="3279600"/>
            <a:ext cx="606600" cy="44640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31776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0160" y="2627280"/>
            <a:ext cx="509400" cy="92412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7280" y="2701800"/>
            <a:ext cx="58896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1600" y="26146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92880" y="33782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5800" y="2671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28414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5800" y="30448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3247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5800" y="343224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2120" y="3106800"/>
            <a:ext cx="631800" cy="144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12120" y="290340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2120" y="271944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50240" y="2744640"/>
            <a:ext cx="6177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8800" y="2900520"/>
            <a:ext cx="6159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54920" y="3097080"/>
            <a:ext cx="6210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5600" y="2392200"/>
            <a:ext cx="627120" cy="27943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2684520"/>
            <a:ext cx="628560" cy="82692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5120" y="26542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5320" y="2703600"/>
            <a:ext cx="0" cy="83340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34440" y="3255840"/>
            <a:ext cx="587160" cy="19368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44120" y="3294000"/>
            <a:ext cx="6206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8320" y="4859280"/>
            <a:ext cx="654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1550880"/>
            <a:ext cx="0" cy="486432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7400" y="5783400"/>
            <a:ext cx="4095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Full Range Scan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후 가공하여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만큼 추출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29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2680" y="1085400"/>
            <a:ext cx="9712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조건을 만족하는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Row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수가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에 도달되면 멈춤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CBF4-E35D-4666-ACD1-954984D26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1217520" y="4102200"/>
          <a:ext cx="858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102200"/>
                    <a:ext cx="858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36280" y="982800"/>
            <a:ext cx="2983320" cy="291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명확인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지상태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품종류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적용금리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종류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&lt;- 1 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0880" y="1262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E1BB-2C21-4972-8AF0-F761FCDC5A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7760" y="104292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63280" y="11923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63280" y="288756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(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OR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8600" y="51037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7760" y="470700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08840" y="1935000"/>
            <a:ext cx="220968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No Row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84800" y="3652920"/>
            <a:ext cx="221004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(A=B)*C + (A=C)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0D55-EB48-4A21-8395-22FAFC61984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55480" y="2412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4040" y="4576680"/>
            <a:ext cx="5540400" cy="189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개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법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91520" y="1063800"/>
            <a:ext cx="2406960" cy="2939760"/>
            <a:chOff x="1991520" y="1063800"/>
            <a:chExt cx="2406960" cy="2939760"/>
          </a:xfrm>
        </p:grpSpPr>
        <p:sp>
          <p:nvSpPr>
            <p:cNvPr id="892" name=""/>
            <p:cNvSpPr/>
            <p:nvPr/>
          </p:nvSpPr>
          <p:spPr>
            <a:xfrm>
              <a:off x="1991520" y="1063800"/>
              <a:ext cx="2406960" cy="2939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정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지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비밀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실명확인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해지상태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상품종류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적용금리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개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법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5360" y="1352520"/>
              <a:ext cx="17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47760" y="11811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3600" y="41115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A94F-DAA8-489C-A4B4-44B3491F78C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61960" y="1592280"/>
            <a:ext cx="5531040" cy="2710440"/>
          </a:xfrm>
          <a:prstGeom prst="roundRect">
            <a:avLst>
              <a:gd name="adj" fmla="val 93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OL1,  A.COL2,  B.COL3,  B.CO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  A.COL5  =  'A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BBB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CCC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DDDD'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5960" y="1106640"/>
            <a:ext cx="1503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760" y="4833360"/>
            <a:ext cx="6691320" cy="1253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위로 낱개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분리한뒤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NION A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사용하여 모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0600" y="2371680"/>
            <a:ext cx="4417920" cy="252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: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BY ROWID :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600" y="36068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E246-9877-4449-BF91-BD20ED6E6F1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04800" y="985680"/>
            <a:ext cx="3510000" cy="4221360"/>
          </a:xfrm>
          <a:custGeom>
            <a:avLst/>
            <a:gdLst>
              <a:gd name="textAreaLeft" fmla="*/ 93960 w 3510000"/>
              <a:gd name="textAreaRight" fmla="*/ 3416040 w 3510000"/>
              <a:gd name="textAreaTop" fmla="*/ 93960 h 4221360"/>
              <a:gd name="textAreaBottom" fmla="*/ 4127400 h 4221360"/>
            </a:gdLst>
            <a:ahLst/>
            <a:rect l="textAreaLeft" t="textAreaTop" r="textAreaRight" b="textAreaBottom"/>
            <a:pathLst>
              <a:path w="21600" h="25977">
                <a:moveTo>
                  <a:pt x="1975" y="0"/>
                </a:moveTo>
                <a:arcTo wR="1975" hR="1975" stAng="16200000" swAng="-5400000"/>
                <a:lnTo>
                  <a:pt x="0" y="24002"/>
                </a:lnTo>
                <a:arcTo wR="1975" hR="1975" stAng="10800000" swAng="-5400000"/>
                <a:lnTo>
                  <a:pt x="19625" y="25977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0033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USE_CO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COL1,  A.COL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COL3,  B.CO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( A.COL5  =  'AAA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BBB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CCC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DDDD'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46560" y="1008000"/>
            <a:ext cx="5226120" cy="7534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2000" y="2125800"/>
            <a:ext cx="677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2240" y="1204920"/>
            <a:ext cx="14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08C9-397B-4885-9EA0-9E2207943D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44840" y="1811160"/>
            <a:ext cx="1298880" cy="185760"/>
            <a:chOff x="4344840" y="1811160"/>
            <a:chExt cx="1298880" cy="185760"/>
          </a:xfrm>
        </p:grpSpPr>
        <p:sp>
          <p:nvSpPr>
            <p:cNvPr id="908" name=""/>
            <p:cNvSpPr/>
            <p:nvPr/>
          </p:nvSpPr>
          <p:spPr>
            <a:xfrm>
              <a:off x="4344840" y="19051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987800" y="1901520"/>
              <a:ext cx="655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8760" y="1811160"/>
              <a:ext cx="14004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4240" y="181116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50760" y="5095800"/>
            <a:ext cx="4558680" cy="1538280"/>
            <a:chOff x="2750760" y="5095800"/>
            <a:chExt cx="4558680" cy="1538280"/>
          </a:xfrm>
        </p:grpSpPr>
        <p:sp>
          <p:nvSpPr>
            <p:cNvPr id="913" name=""/>
            <p:cNvSpPr/>
            <p:nvPr/>
          </p:nvSpPr>
          <p:spPr>
            <a:xfrm>
              <a:off x="2750760" y="509580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7080" y="540072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64000" y="4627440"/>
            <a:ext cx="996840" cy="320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244600" y="1059120"/>
            <a:ext cx="2111400" cy="1594800"/>
            <a:chOff x="2244600" y="1059120"/>
            <a:chExt cx="2111400" cy="1594800"/>
          </a:xfrm>
        </p:grpSpPr>
        <p:sp>
          <p:nvSpPr>
            <p:cNvPr id="918" name=""/>
            <p:cNvSpPr/>
            <p:nvPr/>
          </p:nvSpPr>
          <p:spPr>
            <a:xfrm>
              <a:off x="2260800" y="1059120"/>
              <a:ext cx="2088360" cy="159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ENSOR_R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READING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44600" y="150336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69400" y="1058760"/>
            <a:ext cx="3111120" cy="1552320"/>
            <a:chOff x="5369400" y="1058760"/>
            <a:chExt cx="3111120" cy="1552320"/>
          </a:xfrm>
        </p:grpSpPr>
        <p:sp>
          <p:nvSpPr>
            <p:cNvPr id="921" name=""/>
            <p:cNvSpPr/>
            <p:nvPr/>
          </p:nvSpPr>
          <p:spPr>
            <a:xfrm>
              <a:off x="5369400" y="1058760"/>
              <a:ext cx="3111120" cy="155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NSOR_READING_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ADING_ID ( F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VISION_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2600" y="1503360"/>
              <a:ext cx="264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87640" y="120492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2680" y="50166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원하는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7200" y="30654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319640" y="3728880"/>
            <a:ext cx="1298520" cy="185760"/>
            <a:chOff x="4319640" y="3728880"/>
            <a:chExt cx="1298520" cy="185760"/>
          </a:xfrm>
        </p:grpSpPr>
        <p:sp>
          <p:nvSpPr>
            <p:cNvPr id="927" name=""/>
            <p:cNvSpPr/>
            <p:nvPr/>
          </p:nvSpPr>
          <p:spPr>
            <a:xfrm>
              <a:off x="4319640" y="3822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962600" y="3819240"/>
              <a:ext cx="65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3728880"/>
              <a:ext cx="13968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9040" y="37288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862640" y="2908440"/>
            <a:ext cx="2851920" cy="1538280"/>
            <a:chOff x="1862640" y="2908440"/>
            <a:chExt cx="2851920" cy="1538280"/>
          </a:xfrm>
        </p:grpSpPr>
        <p:sp>
          <p:nvSpPr>
            <p:cNvPr id="932" name=""/>
            <p:cNvSpPr/>
            <p:nvPr/>
          </p:nvSpPr>
          <p:spPr>
            <a:xfrm>
              <a:off x="1862640" y="2908440"/>
              <a:ext cx="2851920" cy="15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1  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060502   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3   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82960" y="3224160"/>
              <a:ext cx="24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53120" y="2881440"/>
            <a:ext cx="4239000" cy="1751400"/>
            <a:chOff x="5253120" y="2881440"/>
            <a:chExt cx="4239000" cy="1751400"/>
          </a:xfrm>
        </p:grpSpPr>
        <p:sp>
          <p:nvSpPr>
            <p:cNvPr id="935" name=""/>
            <p:cNvSpPr/>
            <p:nvPr/>
          </p:nvSpPr>
          <p:spPr>
            <a:xfrm>
              <a:off x="5253120" y="2881440"/>
              <a:ext cx="4239000" cy="17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REVISION_NO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1       960504   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2       960506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     3       960510   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     1       960509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3           1       960503   2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     2       960508   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75320" y="3182760"/>
              <a:ext cx="359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2F4C-3654-4DC0-A736-63D36E490D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-410400" y="1506600"/>
            <a:ext cx="8769240" cy="2274840"/>
          </a:xfrm>
          <a:prstGeom prst="roundRect">
            <a:avLst>
              <a:gd name="adj" fmla="val 6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(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0920" y="1027080"/>
            <a:ext cx="2378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44040" y="4359240"/>
            <a:ext cx="4558680" cy="1538280"/>
            <a:chOff x="1544040" y="4359240"/>
            <a:chExt cx="4558680" cy="1538280"/>
          </a:xfrm>
        </p:grpSpPr>
        <p:sp>
          <p:nvSpPr>
            <p:cNvPr id="941" name=""/>
            <p:cNvSpPr/>
            <p:nvPr/>
          </p:nvSpPr>
          <p:spPr>
            <a:xfrm>
              <a:off x="1544040" y="435924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466416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213520" y="5079960"/>
            <a:ext cx="801360" cy="609480"/>
            <a:chOff x="5213520" y="5079960"/>
            <a:chExt cx="801360" cy="609480"/>
          </a:xfrm>
        </p:grpSpPr>
        <p:sp>
          <p:nvSpPr>
            <p:cNvPr id="944" name=""/>
            <p:cNvSpPr/>
            <p:nvPr/>
          </p:nvSpPr>
          <p:spPr>
            <a:xfrm>
              <a:off x="5213520" y="507996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3520" y="568944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5955480" y="492444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68440" y="55213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1640" y="5172120"/>
            <a:ext cx="268632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D45F-BD4A-4A27-8687-BFB36E6083D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-360000" y="1473120"/>
            <a:ext cx="9210240" cy="2578680"/>
          </a:xfrm>
          <a:prstGeom prst="roundRect">
            <a:avLst>
              <a:gd name="adj" fmla="val 72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NVL(B.DATE, A.DAT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B.READING_ID  ||  B.REVISION_NO IS NULL 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92800" y="4057560"/>
            <a:ext cx="5514840" cy="2965320"/>
            <a:chOff x="4492800" y="4057560"/>
            <a:chExt cx="5514840" cy="2965320"/>
          </a:xfrm>
        </p:grpSpPr>
        <p:sp>
          <p:nvSpPr>
            <p:cNvPr id="952" name=""/>
            <p:cNvSpPr/>
            <p:nvPr/>
          </p:nvSpPr>
          <p:spPr>
            <a:xfrm>
              <a:off x="4492800" y="4057560"/>
              <a:ext cx="5514840" cy="2965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LEC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MERGE JOIN 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GROUP B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2680" y="5045040"/>
              <a:ext cx="5806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840" y="105084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2960" y="4486320"/>
            <a:ext cx="3782880" cy="2923560"/>
            <a:chOff x="642960" y="4486320"/>
            <a:chExt cx="3782880" cy="2923560"/>
          </a:xfrm>
        </p:grpSpPr>
        <p:sp>
          <p:nvSpPr>
            <p:cNvPr id="956" name=""/>
            <p:cNvSpPr/>
            <p:nvPr/>
          </p:nvSpPr>
          <p:spPr>
            <a:xfrm>
              <a:off x="647640" y="4486320"/>
              <a:ext cx="377208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2960" y="4791240"/>
              <a:ext cx="37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BDFA-F9EF-432E-A06A-2F6BB3BFA17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71400" y="1636560"/>
            <a:ext cx="8909280" cy="424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 ( 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 B.VALUE, A.VALUE ),  NVL ( B.REVISION_NO ,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b1.READING_ID, B2.REVISION_NO, B1.DATE, b1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SELECT  READING_ID, MAX(REVISION_NO) AS 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2 GROUP BY READING_ID)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 B1.READING_ID  = B2.READING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   B1.REVISION_NO = B2.REVISION_NO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)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READING_ID  =  B.READING_ID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READING_ID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82880" y="5102280"/>
            <a:ext cx="3797280" cy="2923560"/>
            <a:chOff x="2882880" y="5102280"/>
            <a:chExt cx="3797280" cy="2923560"/>
          </a:xfrm>
        </p:grpSpPr>
        <p:sp>
          <p:nvSpPr>
            <p:cNvPr id="961" name=""/>
            <p:cNvSpPr/>
            <p:nvPr/>
          </p:nvSpPr>
          <p:spPr>
            <a:xfrm>
              <a:off x="2887560" y="5102280"/>
              <a:ext cx="378612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82880" y="5407200"/>
              <a:ext cx="37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12840" y="117936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76B6-906B-4DE5-9C8A-B4E6B7FCC07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8155080" y="3060360"/>
            <a:ext cx="239760" cy="925920"/>
            <a:chOff x="8155080" y="3060360"/>
            <a:chExt cx="239760" cy="925920"/>
          </a:xfrm>
        </p:grpSpPr>
        <p:sp>
          <p:nvSpPr>
            <p:cNvPr id="965" name=""/>
            <p:cNvSpPr/>
            <p:nvPr/>
          </p:nvSpPr>
          <p:spPr>
            <a:xfrm>
              <a:off x="8280360" y="351936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55080" y="3828960"/>
              <a:ext cx="239760" cy="15732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98"/>
                  </a:moveTo>
                  <a:lnTo>
                    <a:pt x="76" y="0"/>
                  </a:lnTo>
                  <a:lnTo>
                    <a:pt x="15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8280360" y="306036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039000" y="4675320"/>
            <a:ext cx="1358640" cy="222120"/>
            <a:chOff x="6039000" y="4675320"/>
            <a:chExt cx="1358640" cy="222120"/>
          </a:xfrm>
        </p:grpSpPr>
        <p:sp>
          <p:nvSpPr>
            <p:cNvPr id="970" name=""/>
            <p:cNvSpPr/>
            <p:nvPr/>
          </p:nvSpPr>
          <p:spPr>
            <a:xfrm>
              <a:off x="6713640" y="477684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5800" y="4675320"/>
              <a:ext cx="23184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45" y="139"/>
                  </a:moveTo>
                  <a:lnTo>
                    <a:pt x="0" y="67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39000" y="477684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79640" y="3648240"/>
            <a:ext cx="1230480" cy="201600"/>
            <a:chOff x="2879640" y="3648240"/>
            <a:chExt cx="1230480" cy="201600"/>
          </a:xfrm>
        </p:grpSpPr>
        <p:sp>
          <p:nvSpPr>
            <p:cNvPr id="974" name=""/>
            <p:cNvSpPr/>
            <p:nvPr/>
          </p:nvSpPr>
          <p:spPr>
            <a:xfrm flipH="1">
              <a:off x="2890440" y="3741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79640" y="364824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126"/>
                  </a:moveTo>
                  <a:lnTo>
                    <a:pt x="132" y="6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1440" y="374184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235000" y="410688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35840" y="2681280"/>
            <a:ext cx="1357200" cy="222120"/>
            <a:chOff x="6135840" y="2681280"/>
            <a:chExt cx="1357200" cy="222120"/>
          </a:xfrm>
        </p:grpSpPr>
        <p:sp>
          <p:nvSpPr>
            <p:cNvPr id="979" name=""/>
            <p:cNvSpPr/>
            <p:nvPr/>
          </p:nvSpPr>
          <p:spPr>
            <a:xfrm flipH="1">
              <a:off x="6145200" y="27846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35840" y="2681280"/>
              <a:ext cx="23148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139"/>
                  </a:moveTo>
                  <a:lnTo>
                    <a:pt x="145" y="6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31000" y="27846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7345440" y="3983040"/>
            <a:ext cx="1827000" cy="272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334280" y="4489200"/>
            <a:ext cx="1846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2600" y="1079640"/>
            <a:ext cx="1869840" cy="2095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정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160020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59360" y="2362320"/>
            <a:ext cx="2090520" cy="29383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2979720"/>
            <a:ext cx="20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33560" y="2394000"/>
            <a:ext cx="1869840" cy="329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480" bIns="1144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예정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소요비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47600" y="30495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D4FB-7261-48DD-910C-8423DDBBC0C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6920" y="3135240"/>
            <a:ext cx="35546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주 범위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Driv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135240"/>
            <a:ext cx="32850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부 범위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(Check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5440" y="3048120"/>
            <a:ext cx="3002040" cy="2422440"/>
            <a:chOff x="3565440" y="3048120"/>
            <a:chExt cx="3002040" cy="2422440"/>
          </a:xfrm>
        </p:grpSpPr>
        <p:sp>
          <p:nvSpPr>
            <p:cNvPr id="172" name=""/>
            <p:cNvSpPr/>
            <p:nvPr/>
          </p:nvSpPr>
          <p:spPr>
            <a:xfrm>
              <a:off x="356544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748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632280" y="3135240"/>
            <a:ext cx="1149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성 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돋움"/>
              </a:rPr>
              <a:t>불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6560" y="3054240"/>
            <a:ext cx="7012080" cy="24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0080" y="3594240"/>
            <a:ext cx="7024680" cy="1385640"/>
            <a:chOff x="730080" y="3594240"/>
            <a:chExt cx="7024680" cy="1385640"/>
          </a:xfrm>
        </p:grpSpPr>
        <p:sp>
          <p:nvSpPr>
            <p:cNvPr id="177" name=""/>
            <p:cNvSpPr/>
            <p:nvPr/>
          </p:nvSpPr>
          <p:spPr>
            <a:xfrm>
              <a:off x="730080" y="3594240"/>
              <a:ext cx="70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0080" y="4030560"/>
              <a:ext cx="7010640" cy="949320"/>
              <a:chOff x="730080" y="4030560"/>
              <a:chExt cx="7010640" cy="94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0080" y="403056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0080" y="450540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080" y="497988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655040" y="3487680"/>
            <a:ext cx="1652400" cy="760320"/>
          </a:xfrm>
          <a:custGeom>
            <a:avLst/>
            <a:gdLst>
              <a:gd name="textAreaLeft" fmla="*/ 61200 w 1652400"/>
              <a:gd name="textAreaRight" fmla="*/ 1591200 w 1652400"/>
              <a:gd name="textAreaTop" fmla="*/ 28080 h 760320"/>
              <a:gd name="textAreaBottom" fmla="*/ 607320 h 760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주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/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부 조건의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변경 가능 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20" y="1209600"/>
            <a:ext cx="2391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부분범위 처리의 성능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2104920"/>
            <a:ext cx="2259360" cy="968400"/>
          </a:xfrm>
          <a:custGeom>
            <a:avLst/>
            <a:gdLst>
              <a:gd name="textAreaLeft" fmla="*/ 83520 w 2259360"/>
              <a:gd name="textAreaRight" fmla="*/ 2175840 w 2259360"/>
              <a:gd name="textAreaTop" fmla="*/ 35640 h 968400"/>
              <a:gd name="textAreaBottom" fmla="*/ 773640 h 968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사용 된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INDEX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의해서 결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1894-3719-4B49-A126-F4C23E0AE8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6760" y="976320"/>
            <a:ext cx="9820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: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+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직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: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4280" y="2462040"/>
            <a:ext cx="8163000" cy="4059720"/>
          </a:xfrm>
          <a:prstGeom prst="roundRect">
            <a:avLst>
              <a:gd name="adj" fmla="val 40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DISTINCT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 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294080" y="3713040"/>
            <a:ext cx="5743800" cy="3012840"/>
            <a:chOff x="4294080" y="3713040"/>
            <a:chExt cx="5743800" cy="3012840"/>
          </a:xfrm>
        </p:grpSpPr>
        <p:sp>
          <p:nvSpPr>
            <p:cNvPr id="994" name=""/>
            <p:cNvSpPr/>
            <p:nvPr/>
          </p:nvSpPr>
          <p:spPr>
            <a:xfrm>
              <a:off x="4294080" y="3713040"/>
              <a:ext cx="5743800" cy="3012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  ----------------------------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</a:t>
              </a:r>
              <a:r>
                <a:rPr b="1" lang="ko-KR" sz="1200" spc="-1" strike="noStrike">
                  <a:solidFill>
                    <a:srgbClr val="00cc99"/>
                  </a:solidFill>
                  <a:latin typeface="굴림체"/>
                  <a:ea typeface="굴림체"/>
                </a:rPr>
                <a:t>SORT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6   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63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364680" y="4925880"/>
              <a:ext cx="654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5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DBB3-BDDE-40CD-A01F-E0F88D4C8E1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1720" y="1766880"/>
            <a:ext cx="274680" cy="3935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6984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78000" y="1776240"/>
            <a:ext cx="92376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424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57400" y="1766880"/>
            <a:ext cx="2858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28880" y="1776240"/>
            <a:ext cx="924120" cy="39913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19920" y="1766880"/>
            <a:ext cx="2984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59788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2280" y="1766880"/>
            <a:ext cx="28548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312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184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8392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27928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72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2539800" y="1930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116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700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00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37532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82920" y="192564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136000" y="3629160"/>
            <a:ext cx="75096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8136000" y="3036600"/>
            <a:ext cx="765000" cy="1385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52760" y="2887560"/>
            <a:ext cx="971640" cy="1467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352760" y="5072040"/>
            <a:ext cx="970200" cy="60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52760" y="3598920"/>
            <a:ext cx="984240" cy="260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52760" y="2734920"/>
            <a:ext cx="854280" cy="148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193320" y="2900520"/>
            <a:ext cx="590400" cy="666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9190080" y="3051000"/>
            <a:ext cx="592200" cy="1616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786720" y="2676600"/>
            <a:ext cx="873000" cy="279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6720" y="2749680"/>
            <a:ext cx="931680" cy="18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786720" y="4437000"/>
            <a:ext cx="931680" cy="689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36000" y="4682880"/>
            <a:ext cx="750960" cy="142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1440" y="2697120"/>
            <a:ext cx="261720" cy="261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318600" y="192564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654520" y="2935080"/>
            <a:ext cx="800280" cy="563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54520" y="5054760"/>
            <a:ext cx="873360" cy="77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54520" y="4354560"/>
            <a:ext cx="8510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55840" y="2892600"/>
            <a:ext cx="839880" cy="72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59080" y="4913280"/>
            <a:ext cx="804960" cy="2192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5840" y="3571560"/>
            <a:ext cx="811440" cy="228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55840" y="4127400"/>
            <a:ext cx="811440" cy="795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06400" y="2813040"/>
            <a:ext cx="679680" cy="184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06400" y="4538520"/>
            <a:ext cx="663480" cy="527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06400" y="5029200"/>
            <a:ext cx="663480" cy="187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6400" y="2805120"/>
            <a:ext cx="695520" cy="471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887480" y="2827440"/>
            <a:ext cx="1042920" cy="998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887480" y="2965320"/>
            <a:ext cx="1036800" cy="285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873080" y="4127040"/>
            <a:ext cx="1051200" cy="90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552920"/>
            <a:ext cx="1014120" cy="3459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24960" y="4387680"/>
            <a:ext cx="284040" cy="466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21760" y="2752560"/>
            <a:ext cx="397440" cy="2659320"/>
            <a:chOff x="221760" y="2752560"/>
            <a:chExt cx="397440" cy="2659320"/>
          </a:xfrm>
        </p:grpSpPr>
        <p:sp>
          <p:nvSpPr>
            <p:cNvPr id="1048" name=""/>
            <p:cNvSpPr/>
            <p:nvPr/>
          </p:nvSpPr>
          <p:spPr>
            <a:xfrm>
              <a:off x="287280" y="2752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200" y="2752560"/>
              <a:ext cx="0" cy="2659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21760" y="5411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31280" y="4452840"/>
            <a:ext cx="293400" cy="505080"/>
            <a:chOff x="7631280" y="4452840"/>
            <a:chExt cx="293400" cy="505080"/>
          </a:xfrm>
        </p:grpSpPr>
        <p:sp>
          <p:nvSpPr>
            <p:cNvPr id="1052" name=""/>
            <p:cNvSpPr/>
            <p:nvPr/>
          </p:nvSpPr>
          <p:spPr>
            <a:xfrm>
              <a:off x="7680240" y="4452840"/>
              <a:ext cx="2332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24680" y="4452840"/>
              <a:ext cx="0" cy="50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631280" y="4957920"/>
              <a:ext cx="2822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8986680" y="2949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86320" y="35384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986320" y="46418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63880" y="29336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63880" y="377820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1180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63880" y="487692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1640" y="34894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381640" y="4305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81640" y="50356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840" y="3592440"/>
            <a:ext cx="817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13720" y="19479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31520" y="437508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7669080" y="2517840"/>
            <a:ext cx="347760" cy="290520"/>
            <a:chOff x="7669080" y="2517840"/>
            <a:chExt cx="347760" cy="290520"/>
          </a:xfrm>
        </p:grpSpPr>
        <p:sp>
          <p:nvSpPr>
            <p:cNvPr id="1069" name=""/>
            <p:cNvSpPr/>
            <p:nvPr/>
          </p:nvSpPr>
          <p:spPr>
            <a:xfrm>
              <a:off x="7669080" y="2517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500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10280" y="2517840"/>
            <a:ext cx="347400" cy="290520"/>
            <a:chOff x="5210280" y="2517840"/>
            <a:chExt cx="347400" cy="290520"/>
          </a:xfrm>
        </p:grpSpPr>
        <p:sp>
          <p:nvSpPr>
            <p:cNvPr id="1072" name=""/>
            <p:cNvSpPr/>
            <p:nvPr/>
          </p:nvSpPr>
          <p:spPr>
            <a:xfrm>
              <a:off x="5210280" y="2517840"/>
              <a:ext cx="34740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912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801720" y="3143160"/>
            <a:ext cx="725400" cy="573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844640" y="3289320"/>
            <a:ext cx="1089000" cy="426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963880" y="3243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65560" y="3289320"/>
            <a:ext cx="815760" cy="65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5080" y="3343320"/>
            <a:ext cx="961920" cy="169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1640" y="382896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62440" y="3838680"/>
            <a:ext cx="857520" cy="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765840" y="3552840"/>
            <a:ext cx="892440" cy="277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4960" y="3502080"/>
            <a:ext cx="28404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7631280" y="3552840"/>
            <a:ext cx="293400" cy="342720"/>
            <a:chOff x="7631280" y="3552840"/>
            <a:chExt cx="293400" cy="342720"/>
          </a:xfrm>
        </p:grpSpPr>
        <p:sp>
          <p:nvSpPr>
            <p:cNvPr id="1084" name=""/>
            <p:cNvSpPr/>
            <p:nvPr/>
          </p:nvSpPr>
          <p:spPr>
            <a:xfrm>
              <a:off x="7680240" y="355284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24680" y="355284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631280" y="3895560"/>
              <a:ext cx="2822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flipV="1">
            <a:off x="8129520" y="2690640"/>
            <a:ext cx="728640" cy="903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994600" y="26416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96600" y="34304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4943520" y="191448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19520" y="19051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0B03-0ACE-4F33-B57F-ED9BD90A2E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581120"/>
            <a:ext cx="6226200" cy="4558680"/>
          </a:xfrm>
          <a:prstGeom prst="roundRect">
            <a:avLst>
              <a:gd name="adj" fmla="val 6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ISTINCT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,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01A3-F468-497C-B131-29D8DD1ADC0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7560" y="1936800"/>
            <a:ext cx="277920" cy="39956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40" y="20527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9000" y="1940040"/>
            <a:ext cx="93636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8480" y="139212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6320" y="1936800"/>
            <a:ext cx="3081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16360" y="1940040"/>
            <a:ext cx="939960" cy="40640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32800" y="1936800"/>
            <a:ext cx="28872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07520" y="1940040"/>
            <a:ext cx="93960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45280" y="1936800"/>
            <a:ext cx="2775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19640" y="1940040"/>
            <a:ext cx="93852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57000" y="140328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08240" y="139392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43840" y="14032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98800" y="2038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43760" y="2052720"/>
            <a:ext cx="12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35360" y="2052720"/>
            <a:ext cx="1009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0148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8904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38432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7656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362400" y="2951280"/>
            <a:ext cx="747720" cy="458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354480" y="3429000"/>
            <a:ext cx="75564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44760" y="4770000"/>
            <a:ext cx="75096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946160" y="2460240"/>
            <a:ext cx="93672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60560" y="2532240"/>
            <a:ext cx="879480" cy="406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932120" y="2575080"/>
            <a:ext cx="966600" cy="652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46160" y="4333680"/>
            <a:ext cx="920880" cy="206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933560" y="2677680"/>
            <a:ext cx="979560" cy="122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320" y="2715840"/>
            <a:ext cx="876240" cy="314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841320" y="2949480"/>
            <a:ext cx="876240" cy="31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841320" y="4554360"/>
            <a:ext cx="830160" cy="51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841320" y="3905280"/>
            <a:ext cx="816120" cy="892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1320" y="2639880"/>
            <a:ext cx="876240" cy="627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5480" y="2583000"/>
            <a:ext cx="263520" cy="265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254880" y="203508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21760" y="2638440"/>
            <a:ext cx="397440" cy="2658960"/>
            <a:chOff x="221760" y="2638440"/>
            <a:chExt cx="397440" cy="2658960"/>
          </a:xfrm>
        </p:grpSpPr>
        <p:sp>
          <p:nvSpPr>
            <p:cNvPr id="1131" name=""/>
            <p:cNvSpPr/>
            <p:nvPr/>
          </p:nvSpPr>
          <p:spPr>
            <a:xfrm>
              <a:off x="287280" y="2638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200" y="2638440"/>
              <a:ext cx="0" cy="2658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21760" y="5297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054240" y="4273560"/>
            <a:ext cx="293760" cy="596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855880" y="4334040"/>
            <a:ext cx="289080" cy="637920"/>
            <a:chOff x="2855880" y="4334040"/>
            <a:chExt cx="289080" cy="637920"/>
          </a:xfrm>
        </p:grpSpPr>
        <p:sp>
          <p:nvSpPr>
            <p:cNvPr id="1136" name=""/>
            <p:cNvSpPr/>
            <p:nvPr/>
          </p:nvSpPr>
          <p:spPr>
            <a:xfrm>
              <a:off x="2903400" y="4334040"/>
              <a:ext cx="2318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44960" y="4334040"/>
              <a:ext cx="0" cy="6379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855880" y="4971960"/>
              <a:ext cx="2793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351400" y="315900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51400" y="383076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51400" y="441648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37480" y="3159000"/>
            <a:ext cx="276120" cy="82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737480" y="383076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37480" y="441648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661000" y="2936880"/>
            <a:ext cx="816120" cy="264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661000" y="339732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40480" y="446580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37400" y="2951280"/>
            <a:ext cx="923760" cy="218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21560" y="3411360"/>
            <a:ext cx="988920" cy="45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751800" y="4444560"/>
            <a:ext cx="958680" cy="338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037360" y="2930040"/>
            <a:ext cx="816120" cy="265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8037360" y="339084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016840" y="445932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334040" y="2957400"/>
            <a:ext cx="988920" cy="1831680"/>
            <a:chOff x="4334040" y="2957400"/>
            <a:chExt cx="988920" cy="1831680"/>
          </a:xfrm>
        </p:grpSpPr>
        <p:sp>
          <p:nvSpPr>
            <p:cNvPr id="1155" name=""/>
            <p:cNvSpPr/>
            <p:nvPr/>
          </p:nvSpPr>
          <p:spPr>
            <a:xfrm>
              <a:off x="4349880" y="2957400"/>
              <a:ext cx="923760" cy="219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4040" y="3417840"/>
              <a:ext cx="988920" cy="455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63920" y="4451040"/>
              <a:ext cx="959040" cy="3380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V="1">
            <a:off x="9136080" y="3414600"/>
            <a:ext cx="66024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910720" y="2895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10720" y="4735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10000" y="3394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41320" y="3441600"/>
            <a:ext cx="873360" cy="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32120" y="3400200"/>
            <a:ext cx="966600" cy="4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906640" y="2409840"/>
            <a:ext cx="347760" cy="290520"/>
            <a:chOff x="2906640" y="2409840"/>
            <a:chExt cx="347760" cy="290520"/>
          </a:xfrm>
        </p:grpSpPr>
        <p:sp>
          <p:nvSpPr>
            <p:cNvPr id="1165" name=""/>
            <p:cNvSpPr/>
            <p:nvPr/>
          </p:nvSpPr>
          <p:spPr>
            <a:xfrm>
              <a:off x="2906640" y="2409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87640" y="2489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054240" y="3344760"/>
            <a:ext cx="28440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855520" y="3381480"/>
            <a:ext cx="294120" cy="342720"/>
            <a:chOff x="2855520" y="3381480"/>
            <a:chExt cx="294120" cy="342720"/>
          </a:xfrm>
        </p:grpSpPr>
        <p:sp>
          <p:nvSpPr>
            <p:cNvPr id="1169" name=""/>
            <p:cNvSpPr/>
            <p:nvPr/>
          </p:nvSpPr>
          <p:spPr>
            <a:xfrm>
              <a:off x="2905200" y="338148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149640" y="338148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55520" y="3724200"/>
              <a:ext cx="28260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111840" y="33242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05720" y="43988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7840" y="36529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50720" y="206388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38C0-CDDE-4F8A-B0CD-A49246F6075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-350640" y="2625840"/>
            <a:ext cx="7567200" cy="1538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NVL(MAST_MENU_ID, ' ')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NVL(:B2, ' 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46720" y="243000"/>
            <a:ext cx="667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3.  NUL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처리를 위해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FAULT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0920" y="1103400"/>
            <a:ext cx="9820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01003M20  :  A01003M20_U2 : MENU_ID + MAST_MENU_ID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7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68840" y="2289240"/>
            <a:ext cx="5900760" cy="1584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 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     TABLE  ACCESS ( BY ROWID )  OF  'A01003M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232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 RANGE SCAN )  OF  'A01003M20_U2'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66320" y="4914000"/>
            <a:ext cx="6469920" cy="1538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MAST_MENU_ID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 NVL(:B2, 'X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3760" y="445464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07A3-6D6E-4654-9E64-B975D7473C1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-350280" y="2475000"/>
            <a:ext cx="7538400" cy="1729800"/>
          </a:xfrm>
          <a:prstGeom prst="roundRect">
            <a:avLst>
              <a:gd name="adj" fmla="val 8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O_DAT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OX_CODE = :VALUE2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1840" y="243000"/>
            <a:ext cx="36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1103400"/>
            <a:ext cx="93488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M600 : GFLM600_PK : CAR_CODE + BOX_CODE + IO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16680" y="1774800"/>
            <a:ext cx="2720880" cy="758880"/>
          </a:xfrm>
          <a:custGeom>
            <a:avLst/>
            <a:gdLst>
              <a:gd name="textAreaLeft" fmla="*/ 100440 w 2720880"/>
              <a:gd name="textAreaRight" fmla="*/ 2620440 w 2720880"/>
              <a:gd name="textAreaTop" fmla="*/ 28080 h 758880"/>
              <a:gd name="textAreaBottom" fmla="*/ 606240 h 758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두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UB-Quer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 차이는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80640" y="4410000"/>
            <a:ext cx="7730640" cy="2151720"/>
          </a:xfrm>
          <a:prstGeom prst="roundRect">
            <a:avLst>
              <a:gd name="adj" fmla="val 11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  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IO_DATE = (SELECT  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CAR_CODE = B.CAR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BOX_CODE = B.BOX_CODE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6680" y="2978280"/>
            <a:ext cx="321480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대로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4A7B-65B0-454B-B18B-A12652F9E91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-42120" y="1987560"/>
            <a:ext cx="8129520" cy="1726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DESC(A GFLM600_PK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47520" y="4656240"/>
            <a:ext cx="8223480" cy="1135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 (MAX (IO_DATE || STOCK_Q), 9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9640" y="25416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760" y="1082520"/>
            <a:ext cx="4797360" cy="365004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역순 인덱스 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효율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) SUBSTR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없을 때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6C43-2B18-4891-AFC6-870860EC28E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601640" y="243000"/>
            <a:ext cx="581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5.  MAX / M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분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1103400"/>
            <a:ext cx="73674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EQPM : THISEQPM_X1 :  EQPMDEPT + EQPMPART + EQPM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427680" y="4237200"/>
            <a:ext cx="9234720" cy="2353680"/>
          </a:xfrm>
          <a:prstGeom prst="roundRect">
            <a:avLst>
              <a:gd name="adj" fmla="val 97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ASC(A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V.MAX_ROOM - A.EQPMROOM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SELECT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/*+ INDEX_DESC(THISEQPM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EQPMROOM  AS  MAX_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FROM  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ROWNUM  = 1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INV ,  THISEQPM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ROWNUM = 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447120" y="2676600"/>
            <a:ext cx="9214560" cy="946080"/>
          </a:xfrm>
          <a:prstGeom prst="roundRect">
            <a:avLst>
              <a:gd name="adj" fmla="val 205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(MAX(EQPMROOM) - MIN(EQPMROOM))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EQPMDEPT = :VALUE1  AND  EQPMPART = :VALUE2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9600" y="381168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B0DC-3D0F-48F4-BE1E-4F7E2FF8F79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0120" y="1103400"/>
            <a:ext cx="93632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_TAB : A_TAB_IX1 : ID +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741600" y="2611440"/>
            <a:ext cx="11730960" cy="3517920"/>
          </a:xfrm>
          <a:prstGeom prst="roundRect">
            <a:avLst>
              <a:gd name="adj" fmla="val 78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&gt;= :B2  AND  SDATE &lt;= :B3   AND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ID,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, SERL) IN (SELECT  ID, SDATE, MIN(SE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F03B-C8AF-4A90-96E3-D8D55E31331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40" y="1514520"/>
            <a:ext cx="8080200" cy="3059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D, SUBSTR(MIN(SDATE || SERL),1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8000" y="4437000"/>
            <a:ext cx="4438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과 결과 다름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이 선택되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결과가 나오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지만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이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나온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2920" y="4675320"/>
            <a:ext cx="4299840" cy="16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ID      SDATE    SERL   DEPT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0   19970310     3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100   19970310     4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100   19970310     1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100   19970310     2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94800" y="425304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64600" y="5141880"/>
            <a:ext cx="1072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04040" y="508464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550692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78000" y="985680"/>
            <a:ext cx="4275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중간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31969-86A8-47C7-B0D3-D03A80CF264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600" y="1103400"/>
            <a:ext cx="85582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_A : TAB_A_X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YY + 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DD + SALE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17800" y="2933640"/>
            <a:ext cx="7428600" cy="1519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.YY || A.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ETWEEN '9410' AND '950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1D8E-CDAD-495B-AF96-3773AD4206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-318240" y="1712880"/>
            <a:ext cx="10888920" cy="2703960"/>
          </a:xfrm>
          <a:prstGeom prst="roundRect">
            <a:avLst>
              <a:gd name="adj" fmla="val 9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.ID, DECODE(V.DEPT, :B7, V.SDATE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ID, SDA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(MIN(SERL || DEPT),4,2) AS D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ID, SDATE ) V 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6760" y="1246320"/>
            <a:ext cx="9820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12240" y="45561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46760" y="1386000"/>
            <a:ext cx="4514760" cy="91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*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전제조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: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자리 숫자이며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ID + SDATE +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PK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를 구성한다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293080" y="5005440"/>
            <a:ext cx="4718160" cy="1532520"/>
            <a:chOff x="5293080" y="5005440"/>
            <a:chExt cx="4718160" cy="1532520"/>
          </a:xfrm>
        </p:grpSpPr>
        <p:sp>
          <p:nvSpPr>
            <p:cNvPr id="1215" name=""/>
            <p:cNvSpPr/>
            <p:nvPr/>
          </p:nvSpPr>
          <p:spPr>
            <a:xfrm>
              <a:off x="5711400" y="5005440"/>
              <a:ext cx="4299840" cy="15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ID      SDATE    SERL   DEPT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3    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100   19970310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100   1997031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   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2  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3080" y="5345280"/>
              <a:ext cx="10724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43680" y="5369040"/>
              <a:ext cx="36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99960" y="4656240"/>
            <a:ext cx="4560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ERL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에 중복이 발생할 때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여기서는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되었다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아무 로우도 선택되지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으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된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10120" y="543384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4455-0898-4F44-8B1E-0E7BFE5EC8F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899360" y="243000"/>
            <a:ext cx="38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7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상수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6760" y="1103400"/>
            <a:ext cx="98200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PNW : CPNU_PK : DL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46440" y="4673520"/>
            <a:ext cx="8146440" cy="1965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LTF = :B11  AND  SYSF = :B12  AND  RTDT = :B1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ITM = :B14  AND  USER = :B15  AND  VALUE = :B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 :B21  = 'Y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60" y="45957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2063880"/>
            <a:ext cx="8715600" cy="2246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DLTF, SYSF, RTDT, RITM, USER, VALU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:B11, :B12, :B13, :B14, :B15, :B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:B21 = 'Y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:B21 IS NOT NU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24CC-B114-46D6-9693-67E744207B7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88040" y="243000"/>
            <a:ext cx="716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8.  UNION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NION A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명확한 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760" y="947880"/>
            <a:ext cx="76676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SNO A : HSNO_PK  : HSNO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L  B : COL_PK1  : YEAR + HOUSE + SERIAL_NO + HSNO + SERIAL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X   : YEAR + HOUSE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DX1 : CLASS + D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520" y="2655720"/>
            <a:ext cx="4884840" cy="3956040"/>
          </a:xfrm>
          <a:prstGeom prst="roundRect">
            <a:avLst>
              <a:gd name="adj" fmla="val 6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&lt;&gt;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=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4520" y="2532240"/>
            <a:ext cx="4952880" cy="485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SORT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1" lang="ko-KR" sz="1200" spc="-1" strike="noStrike">
                <a:solidFill>
                  <a:srgbClr val="3333cc"/>
                </a:solidFill>
                <a:latin typeface="굴림체"/>
                <a:ea typeface="굴림체"/>
              </a:rPr>
              <a:t>      UNION-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78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738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498             INDEX (RANGE SCAN) OF 'COL_PK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391            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359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829            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220             INDEX (RANGE SCAN) OF 'COL_PK1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19680" y="2066760"/>
            <a:ext cx="1585800" cy="594000"/>
          </a:xfrm>
          <a:custGeom>
            <a:avLst/>
            <a:gdLst>
              <a:gd name="textAreaLeft" fmla="*/ 58680 w 1585800"/>
              <a:gd name="textAreaRight" fmla="*/ 1527120 w 1585800"/>
              <a:gd name="textAreaTop" fmla="*/ 21960 h 594000"/>
              <a:gd name="textAreaBottom" fmla="*/ 474480 h 594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Query</a:t>
            </a: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의 목적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따라 효율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A548-8628-483E-8E3F-7253E15EF72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629360" y="24300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6760" y="1166760"/>
            <a:ext cx="1366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160" y="4652280"/>
            <a:ext cx="8818920" cy="1775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NVL(DAT,'999999') &gt;=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TO_CHAR(SYS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00" y="1684440"/>
            <a:ext cx="925164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DAT, '999999') &gt;= 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ELECT  TO_CHAR(SYSDATE, '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SYS.DUA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760" y="4121280"/>
            <a:ext cx="201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80B8-F643-4CE4-B396-54E4B35042E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6760" y="1103400"/>
            <a:ext cx="9820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ULGOT_IX     : CHULDATE + ITEM 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STATUS_ITEM : STATUS + ITEM (CASE 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CHULNO      : CHULNO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13160" y="4159080"/>
            <a:ext cx="8868600" cy="2467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1  AND  CHULDATE  =  '94113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2  AND  CHULDATE+0  LIKE  '96%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4080" y="2682720"/>
            <a:ext cx="7129440" cy="11840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:SW =  1  AND  CHULDATE  =  '94113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:SW  = 2  AND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CHULDATE+0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LIKE  '96%'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760" y="410364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3EE2-7866-4AA4-BDF3-DAD8072082E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81960" y="1593720"/>
            <a:ext cx="5360760" cy="1384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HULNO = '254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 )  &gt;  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91600" y="3571920"/>
            <a:ext cx="6553080" cy="2686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 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HULNO = '25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) &gt; 0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6760" y="110340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760" y="36939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01E0-9CF8-4043-9FAA-09F61B4B2DC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7520" y="5299200"/>
            <a:ext cx="781848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 LIKE  DECODE( :SW, 1, '2%')         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STATUS  LIKE  DECODE( :SW, 1, '1%' , '3%') ;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4200" y="3306600"/>
            <a:ext cx="519660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(:SW = 1 AND (STATUS  LIKE '1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1 AND (STATUS  LIKE '2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2 AND (STATUS  LIKE '3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33600" y="1378080"/>
            <a:ext cx="7419960" cy="2064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SW = 1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TATUS  LIKE '1%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ATUS LIKE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%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 (:SW = 2 AND (STATUS  LIKE '3%'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760" y="97632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760" y="32338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42240" y="5189400"/>
            <a:ext cx="2273040" cy="501840"/>
          </a:xfrm>
          <a:custGeom>
            <a:avLst/>
            <a:gdLst>
              <a:gd name="textAreaLeft" fmla="*/ 83880 w 2273040"/>
              <a:gd name="textAreaRight" fmla="*/ 2189160 w 2273040"/>
              <a:gd name="textAreaTop" fmla="*/ 18360 h 501840"/>
              <a:gd name="textAreaBottom" fmla="*/ 401040 h 501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0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절 없음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760" y="52912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9DCC-516E-4FE4-9C7B-01E859B1129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61520" y="1598760"/>
            <a:ext cx="786564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:SW = 1 AND  STATUS = 1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 :SW = 2 AND  STATUS  BETWEEN  20  AND 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2800" y="4270320"/>
            <a:ext cx="815076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BETWEEN  DECODE ( :SW , 1 , 10 , 2, 2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DECODE ( :SW , 1 , 10 , 2,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760" y="111924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760" y="3852720"/>
            <a:ext cx="2406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5C46-97C6-4229-98C4-5381EB923B0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9720" y="1135080"/>
            <a:ext cx="6551640" cy="1193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          VARCHAR2(16) 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ESIGN_ID        VARCHAR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EVISION_DATE    VARCHAR2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5400000">
            <a:off x="5879520" y="2212560"/>
            <a:ext cx="5245200" cy="2899080"/>
          </a:xfrm>
          <a:custGeom>
            <a:avLst/>
            <a:gdLst>
              <a:gd name="textAreaLeft" fmla="*/ 194040 w 5245200"/>
              <a:gd name="textAreaRight" fmla="*/ 5051160 w 5245200"/>
              <a:gd name="textAreaTop" fmla="*/ 107280 h 2899080"/>
              <a:gd name="textAreaBottom" fmla="*/ 2315520 h 289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1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7760" y="2717640"/>
            <a:ext cx="6805440" cy="363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코딩으로 해결한  방법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D1 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: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B9B6-748A-4C4C-A665-9B5F883C3DA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000" y="2163600"/>
            <a:ext cx="4300560" cy="41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480" y="2290680"/>
            <a:ext cx="4455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ELECT   *  FROM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도면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WHERE   ( DRW_NO = SUBSTR( :d1 , 1, 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2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4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                 :d1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AND          ROWNUM  =  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5960" y="1123920"/>
            <a:ext cx="6090840" cy="554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202280" y="2733840"/>
            <a:ext cx="1511280" cy="3340080"/>
            <a:chOff x="4202280" y="2733840"/>
            <a:chExt cx="1511280" cy="3340080"/>
          </a:xfrm>
        </p:grpSpPr>
        <p:sp>
          <p:nvSpPr>
            <p:cNvPr id="1267" name=""/>
            <p:cNvSpPr/>
            <p:nvPr/>
          </p:nvSpPr>
          <p:spPr>
            <a:xfrm flipV="1">
              <a:off x="4229280" y="2733840"/>
              <a:ext cx="1469880" cy="29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14880" y="2824200"/>
              <a:ext cx="1484280" cy="32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14880" y="3201840"/>
              <a:ext cx="148428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02280" y="3656160"/>
              <a:ext cx="1511280" cy="170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992040" y="395280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01920" y="40640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EBE6-A655-4F80-AD18-F8D53A13D48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0080" y="1330200"/>
            <a:ext cx="1735560" cy="479160"/>
          </a:xfrm>
          <a:prstGeom prst="roundRect">
            <a:avLst>
              <a:gd name="adj" fmla="val 108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" y="1892160"/>
            <a:ext cx="773928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(A.YY = '94' AND A.MM BETWEEN '10'  AND '12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  (A.YY = '95' AND A.MM BETWEEN '01'  AND '04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5DED-6081-430C-8C32-5CB759B628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6760" y="1103400"/>
            <a:ext cx="9820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206640" y="1606680"/>
            <a:ext cx="10555560" cy="4619880"/>
          </a:xfrm>
          <a:prstGeom prst="roundRect">
            <a:avLst>
              <a:gd name="adj" fmla="val 3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 DC_STUS_ID, INACT_RSN, TOT_AMT_OF_WON, TOT_AMT_OF_DL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 SELECT  'Z', 'A', SUM(AMT_OF_WON), SUM(AMT_OF_DLR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CUS_DUTY_AMT), SUM(CONSUM_TAX_AM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UTY_TOT_AM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US_DUTY_TOT_AMT + CONSUM_TAX_TOT_AMT 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B5DA-E50F-4780-B483-B8A256DFBF6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1720" y="236520"/>
            <a:ext cx="9082080" cy="722844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DC_STUS_ID, INACT_RSN, TOT_AMT_OF_WON, TOT_AMT_OF_DL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UTY_TO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'Z', 'A', TOT_AMT_OF_WON,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US_DUTY_TOT_AMT + CONSUM_TAX_TOT_AMT + A.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(SELECT  SUM(AMT_OF_WON) AS TOT_AMT_OF_W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AMT_OF_DIR) AS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US_DUTY_AMT) AS CUS_DUTY_TOT_AMT,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ONSUM_TAX_AMT) AS CONSUM_TAX_TOT_AM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FROM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WHERE  BRK_CD = :BRK_C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DCL_YEAR = :DCL_YEAR )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BA003D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F9FA-42F6-4423-82B7-28638A113FE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673640" y="243000"/>
            <a:ext cx="59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080" y="1103400"/>
            <a:ext cx="1847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635120"/>
            <a:ext cx="6330960" cy="602568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CON_CODE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(CON_CODE IS NULL OR LENGTH(CON_CODE) =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CF22B-5639-417B-8C4D-6AA45DF68C2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-133200" y="1941480"/>
            <a:ext cx="10631160" cy="3844440"/>
          </a:xfrm>
          <a:prstGeom prst="roundRect">
            <a:avLst>
              <a:gd name="adj" fmla="val 7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 )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SUM(DACT_AMT)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MH 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AMT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MH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MH, 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AMT,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2040" y="128124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6D6F-2694-488A-85DC-1E99D0B7E11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760" y="1027080"/>
            <a:ext cx="208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220680" y="1407960"/>
            <a:ext cx="9406440" cy="5156280"/>
          </a:xfrm>
          <a:prstGeom prst="roundRect">
            <a:avLst>
              <a:gd name="adj" fmla="val 5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GROUP BY  B.TM, M.TAX, M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ORDER BY  B.TM, M.TAX, M.PUMMOK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B345-7D9E-4E60-9414-8437532E53A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360" y="1473120"/>
            <a:ext cx="8523000" cy="529632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3', P.KUMEK2, 0))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GROUP BY  B.TM, M.TAX, M.PUMMOK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0760" y="101268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F167-C7DF-4285-951B-E690AF238C2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4714920"/>
            <a:ext cx="4011840" cy="1637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 (DEPTNO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EMP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:B2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9000" y="243000"/>
            <a:ext cx="57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4. BINDING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변수의 인덱스 사용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03400"/>
            <a:ext cx="4097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테이블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MP :  EMP_EMPNO_PK :  EMP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4886280"/>
            <a:ext cx="585936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1314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TABLE ACCESS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Y ROWI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1314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INDEX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_EMPNO_PK'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QU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2360" y="3998880"/>
            <a:ext cx="3268800" cy="951120"/>
          </a:xfrm>
          <a:custGeom>
            <a:avLst/>
            <a:gdLst>
              <a:gd name="textAreaLeft" fmla="*/ 120960 w 3268800"/>
              <a:gd name="textAreaRight" fmla="*/ 3147840 w 3268800"/>
              <a:gd name="textAreaTop" fmla="*/ 34920 h 951120"/>
              <a:gd name="textAreaBottom" fmla="*/ 759600 h 951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51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1) Dynamic 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2)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HOST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변수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선언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76080" y="1147680"/>
            <a:ext cx="4117320" cy="1962360"/>
            <a:chOff x="1576080" y="1147680"/>
            <a:chExt cx="4117320" cy="1962360"/>
          </a:xfrm>
        </p:grpSpPr>
        <p:sp>
          <p:nvSpPr>
            <p:cNvPr id="198" name=""/>
            <p:cNvSpPr/>
            <p:nvPr/>
          </p:nvSpPr>
          <p:spPr>
            <a:xfrm>
              <a:off x="1576080" y="1147680"/>
              <a:ext cx="4117320" cy="196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      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EMPNO  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NAME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EPTNO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총 로우 수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:13,14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9160" y="157176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1CAC-4836-49FA-A891-E273A7E25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695160" y="2751120"/>
            <a:ext cx="11445840" cy="3714840"/>
          </a:xfrm>
          <a:prstGeom prst="roundRect">
            <a:avLst>
              <a:gd name="adj" fmla="val 6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NPTIDNO,INPTPKND,INPT,INPTLEVL,INPTMNDR,INPTDEPT,INPTCHRS,PBSCPN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LOOR(MONTH_BETWEEN(SYSDATE,TO_DATE(PBSCBIRT,'YYMMDD'))/1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BSCRSEX,PBSCPHNI,CODE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CODE  A,  THISPBSC  B,  THISINPT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C.INPTCHRS =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 u="sng">
                <a:solidFill>
                  <a:srgbClr val="3333cc"/>
                </a:solidFill>
                <a:uFillTx/>
                <a:latin typeface="굴림체"/>
                <a:ea typeface="굴림체"/>
              </a:rPr>
              <a:t>C.INPTDATE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GUBN IN  ('A', '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BYBY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IDNO = 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 u="sng">
                <a:solidFill>
                  <a:srgbClr val="00cc99"/>
                </a:solidFill>
                <a:uFillTx/>
                <a:latin typeface="굴림체"/>
                <a:ea typeface="굴림체"/>
              </a:rPr>
              <a:t>A.CODEGUBN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=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760" y="988920"/>
            <a:ext cx="972828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CODE  A : THISCODE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CODEGUBN + COD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PBSC  B : THISPBSC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INPT  C : THISINPT_IDX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INPTDATE + INPTC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4662360"/>
            <a:ext cx="5226120" cy="283032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-- 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0      TABLE  ACCESS (BY ROWID)  OF  'THISINP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1       INDEX (RANGE SCAN) OF 'THISINPT_IDX1'(NON-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4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TABLE  ACCESS (BY ROWID)  OF  'THISCOD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329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OF 'THISCODE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TABLE  ACCESS (BY ROWID)  OF  'THISPBSC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  INDEX (UNIQUE SCAN) OF 'THISPBSC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0" y="3848040"/>
            <a:ext cx="2343240" cy="749520"/>
          </a:xfrm>
          <a:custGeom>
            <a:avLst/>
            <a:gdLst>
              <a:gd name="textAreaLeft" fmla="*/ 86760 w 2343240"/>
              <a:gd name="textAreaRight" fmla="*/ 2256480 w 2343240"/>
              <a:gd name="textAreaTop" fmla="*/ 27720 h 749520"/>
              <a:gd name="textAreaBottom" fmla="*/ 598680 h 749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Access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비 효율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발생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4600" y="5465880"/>
            <a:ext cx="678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217B-6BD4-4726-A90D-7CB62FEC2B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어진수</dc:creator>
  <dc:description/>
  <dc:language>en-US</dc:language>
  <cp:lastModifiedBy>kssong</cp:lastModifiedBy>
  <cp:lastPrinted>1997-11-14T05:28:08Z</cp:lastPrinted>
  <dcterms:modified xsi:type="dcterms:W3CDTF">2001-04-13T00:24:03Z</dcterms:modified>
  <cp:revision>251</cp:revision>
  <dc:subject/>
  <dc:title>슬라이드 제목 없음</dc:title>
</cp:coreProperties>
</file>