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1B7A-F813-4EFA-8E17-05C92C530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892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94B9-F0FD-47F3-AB8A-A6682463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AEE0-1CFF-42DD-A29D-844868355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148E-6B71-4A69-B641-3C73D6E38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6ABE-9592-4C9E-9FD4-3DEFCD09A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84E0-54C1-4CD3-AD84-714519BB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AE10-0F98-43FE-AB45-DF9DCFEF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2C10-881F-4219-86A1-ED28D3F3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F4CA-28BA-4639-A97A-90EBE2FF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5345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EB60-0612-4D09-9633-EA46C114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6E39-BDFD-4A6F-BEAC-53E77398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0AFC-418D-48F5-8A34-8982457F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5623-91A1-428C-9EF0-F572CAF6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9A64-420F-45A3-8726-55F7EAF0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892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8D99-3F32-43C9-9D2D-13F4542B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33EF-3F96-47BC-984E-2DF2BDAD0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66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89232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A6EF-84C4-4DF3-9395-BE0721E1B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6926-6942-4E0C-898C-13F65410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F08D-5BCA-433A-B89A-8F859975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835A-E490-4919-A038-2B2F2B6C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380880"/>
            <a:ext cx="85345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48AF-FDC0-4342-B666-1BA9BE59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A9A1-7B00-4E4D-B105-4F564D79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892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1782-8C19-4AAD-A741-FD530E69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357120"/>
            <a:ext cx="8534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06632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89232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BE9B-1AC5-4294-B40E-8529BFED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7524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572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Times New Roman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552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2-</a:t>
            </a:r>
            <a:fld id="{A1D2A37A-3F5D-4B35-A38E-26056924AD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7524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209680" indent="-380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Times New Roman"/>
              </a:rPr>
              <a:t>Parallel Proces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1-</a:t>
            </a:r>
            <a:fld id="{16924978-2D2E-4B81-9225-E9A371B311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9.xml"/><Relationship Id="rId3" Type="http://schemas.openxmlformats.org/officeDocument/2006/relationships/slide" Target="slide38.xm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00"/>
                </a:solidFill>
                <a:latin typeface="굴림"/>
                <a:ea typeface="굴림"/>
              </a:rPr>
              <a:t>제</a:t>
            </a:r>
            <a:r>
              <a:rPr b="1" lang="en-US" sz="3200" spc="-1" strike="noStrike">
                <a:solidFill>
                  <a:srgbClr val="006600"/>
                </a:solidFill>
                <a:latin typeface="굴림"/>
                <a:ea typeface="굴림"/>
              </a:rPr>
              <a:t>2</a:t>
            </a:r>
            <a:r>
              <a:rPr b="1" lang="ko-KR" sz="3200" spc="-1" strike="noStrike">
                <a:solidFill>
                  <a:srgbClr val="006600"/>
                </a:solidFill>
                <a:latin typeface="굴림"/>
                <a:ea typeface="굴림"/>
              </a:rPr>
              <a:t>장</a:t>
            </a:r>
            <a:r>
              <a:rPr b="1" lang="en-US" sz="3200" spc="-1" strike="noStrike">
                <a:solidFill>
                  <a:srgbClr val="006600"/>
                </a:solidFill>
                <a:latin typeface="굴림"/>
                <a:ea typeface="굴림"/>
              </a:rPr>
              <a:t> </a:t>
            </a:r>
            <a:r>
              <a:rPr b="1" lang="ko-KR" sz="3200" spc="-1" strike="noStrike">
                <a:solidFill>
                  <a:srgbClr val="006600"/>
                </a:solidFill>
                <a:latin typeface="굴림"/>
                <a:ea typeface="굴림"/>
              </a:rPr>
              <a:t>병렬처리를 위한 하드웨어 기술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43200" y="3124080"/>
            <a:ext cx="4186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2.1 </a:t>
            </a:r>
            <a:r>
              <a:rPr b="1" lang="ko-KR" sz="2800" spc="-1" strike="noStrike" u="sng">
                <a:solidFill>
                  <a:srgbClr val="0066ff"/>
                </a:solidFill>
                <a:uFillTx/>
                <a:latin typeface="굴림"/>
                <a:hlinkClick r:id="rId1" action="ppaction://hlinksldjump"/>
              </a:rPr>
              <a:t>시스템 구조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2.2 </a:t>
            </a:r>
            <a:r>
              <a:rPr b="1" lang="ko-KR" sz="2800" spc="-1" strike="noStrike" u="sng">
                <a:solidFill>
                  <a:srgbClr val="0066ff"/>
                </a:solidFill>
                <a:uFillTx/>
                <a:latin typeface="굴림"/>
                <a:hlinkClick r:id="rId2" action="ppaction://hlinksldjump"/>
              </a:rPr>
              <a:t>프로세서 구조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2.3 </a:t>
            </a:r>
            <a:r>
              <a:rPr b="1" lang="ko-KR" sz="2800" spc="-1" strike="noStrike" u="sng">
                <a:solidFill>
                  <a:srgbClr val="0066ff"/>
                </a:solidFill>
                <a:uFillTx/>
                <a:latin typeface="굴림"/>
                <a:hlinkClick r:id="rId3" action="ppaction://hlinksldjump"/>
              </a:rPr>
              <a:t>기억장치시스템 구조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E1F269E8-FAEC-4BA8-A004-5F57AA458A70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Comic Sans MS"/>
              </a:rPr>
              <a:t>Shared-memory multiprocessor</a:t>
            </a:r>
            <a:r>
              <a:rPr b="0" lang="ko-KR" sz="2200" spc="-1" strike="noStrike" u="sng">
                <a:solidFill>
                  <a:srgbClr val="0000ff"/>
                </a:solidFill>
                <a:uFillTx/>
                <a:latin typeface="Comic Sans MS"/>
              </a:rPr>
              <a:t>를 위한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omic Sans MS"/>
              </a:rPr>
              <a:t>interconnection </a:t>
            </a:r>
            <a:r>
              <a:rPr b="0" lang="ko-KR" sz="2200" spc="-1" strike="noStrike" u="sng">
                <a:solidFill>
                  <a:srgbClr val="0000ff"/>
                </a:solidFill>
                <a:uFillTx/>
                <a:latin typeface="Comic Sans MS"/>
              </a:rPr>
              <a:t>방식</a:t>
            </a:r>
            <a:endParaRPr b="0" lang="en-US" sz="2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버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bus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크로스바 스위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crossbar switch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단계 상호연결망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multistage interconnection network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6AC17B57-3F20-4ADD-8384-933D98A539D6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Shared-bus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를 이용한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multiprocessor system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24" name="Picture 10" descr="2-5"/>
          <p:cNvPicPr/>
          <p:nvPr/>
        </p:nvPicPr>
        <p:blipFill>
          <a:blip r:embed="rId1"/>
          <a:stretch/>
        </p:blipFill>
        <p:spPr>
          <a:xfrm>
            <a:off x="971640" y="1844640"/>
            <a:ext cx="720072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E6A9E2B7-76E5-4524-92AB-F7A5B22BED55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0000ff"/>
                </a:solidFill>
                <a:uFillTx/>
                <a:latin typeface="Comic Sans MS"/>
              </a:rPr>
              <a:t>버스 구조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0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533520" y="1143000"/>
            <a:ext cx="8001000" cy="46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  <a:ea typeface="굴림"/>
              </a:rPr>
              <a:t>장점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가장 간단한 연결 구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  <a:ea typeface="굴림"/>
              </a:rPr>
              <a:t>단점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버스 경합으로 인한 지연 증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  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  <a:ea typeface="굴림"/>
              </a:rPr>
              <a:t>성능저하 보완방법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버스 전송 속도 증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캐쉬 기억장치 사용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캐쉬 일관성 문제 발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버스 수 증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다중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버스 시스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(multiple-bus syste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  <a:ea typeface="굴림"/>
              </a:rPr>
              <a:t>UMA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  <a:ea typeface="굴림"/>
              </a:rPr>
              <a:t>모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48F0DA15-F0C9-4A4C-A669-2F5C10EF66BF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층버스 구조를 가진 다중프로세서시스템의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907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NUMA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모델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3" name="Picture 1029" descr="2-6"/>
          <p:cNvPicPr/>
          <p:nvPr/>
        </p:nvPicPr>
        <p:blipFill>
          <a:blip r:embed="rId1"/>
          <a:stretch/>
        </p:blipFill>
        <p:spPr>
          <a:xfrm>
            <a:off x="1116000" y="1413000"/>
            <a:ext cx="691200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61AB50CE-8872-44FE-BFB6-263C6D78ED94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Crossbar switch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를 이용한 시스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443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들과 기억장치들 사이에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ull connectivity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제공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단점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H/W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복잡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비용 증가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 수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굴림"/>
              </a:rPr>
              <a:t>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굴림"/>
              </a:rPr>
              <a:t> N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개의 크로스바 스위치 필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8" name="Picture 9" descr="2-7"/>
          <p:cNvPicPr/>
          <p:nvPr/>
        </p:nvPicPr>
        <p:blipFill>
          <a:blip r:embed="rId1"/>
          <a:stretch/>
        </p:blipFill>
        <p:spPr>
          <a:xfrm>
            <a:off x="1476360" y="3141720"/>
            <a:ext cx="55450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B3117B8A-1FF2-4E22-B149-9E363FF03E9C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00ff"/>
                </a:solidFill>
                <a:uFillTx/>
                <a:latin typeface="Comic Sans MS"/>
              </a:rPr>
              <a:t>다단계 상호연결망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MIN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Multistage Interconnection Network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Bus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rossbar switch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중간 정도의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/W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복잡도와 성능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예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] Multistage Cube Network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3" name="Picture 9" descr="2-8"/>
          <p:cNvPicPr/>
          <p:nvPr/>
        </p:nvPicPr>
        <p:blipFill>
          <a:blip r:embed="rId1"/>
          <a:stretch/>
        </p:blipFill>
        <p:spPr>
          <a:xfrm>
            <a:off x="914400" y="2971800"/>
            <a:ext cx="6705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DEA10A65-E3DD-46B3-A7B3-D3CA82232AD7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다단계 상호연결망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입력단 및 출력단의 노드 수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일 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필요한 단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stage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수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m = lo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각 단계의 스위칭 소자 수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s = N/2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접속 모드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8" name="Picture 6" descr="2-9"/>
          <p:cNvPicPr/>
          <p:nvPr/>
        </p:nvPicPr>
        <p:blipFill>
          <a:blip r:embed="rId1"/>
          <a:stretch/>
        </p:blipFill>
        <p:spPr>
          <a:xfrm>
            <a:off x="971640" y="4653000"/>
            <a:ext cx="730872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87614CCF-55CF-4E16-9707-E565FC7BF2D9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2)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분산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-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기억장치 시스템 구조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소결합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IMD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시스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loosely-coupled MIMD syste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들이 자신의 기억장치를 별도로 가지고 있는 구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ff"/>
                </a:solidFill>
                <a:latin typeface="굴림"/>
              </a:rPr>
              <a:t>다중</a:t>
            </a:r>
            <a:r>
              <a:rPr b="1" lang="en-US" sz="2400" spc="-1" strike="noStrike">
                <a:solidFill>
                  <a:srgbClr val="0000ff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ff"/>
                </a:solidFill>
                <a:latin typeface="굴림"/>
              </a:rPr>
              <a:t>컴퓨터시스템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이라고도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부름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장단점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장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각 프로세서가 프로그램과 데이터를 지역 기억장치에 저장하므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프로세서간 통신량 감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메시지 전송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message-passing)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방식을 사용하기 때문에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통신 시간 증가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상호연결망의 예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하이퍼큐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hypercube)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3A4171AA-6CB4-44E7-8A1A-D75C6E05FC23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하이퍼큐브의 기본 구조</a:t>
            </a:r>
            <a:r>
              <a:rPr b="0" lang="ko-KR" sz="32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56" name="Picture 6" descr="2-10"/>
          <p:cNvPicPr/>
          <p:nvPr/>
        </p:nvPicPr>
        <p:blipFill>
          <a:blip r:embed="rId1"/>
          <a:stretch/>
        </p:blipFill>
        <p:spPr>
          <a:xfrm>
            <a:off x="1763640" y="1557360"/>
            <a:ext cx="554364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1D64CE75-10A2-4AAC-A43C-61469F14E738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.2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프로세서 구조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52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병렬컴퓨터에서 사용되는 프로세서의 복잡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omplexity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는 병렬처리 단위의 크기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즉 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granularity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 의해 결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단위 작업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grain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크기와 프로세서 구조의 관계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큰 그레인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coarse-grain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복잡한 연산을 포함한 작업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복잡한 구조의 프로세서 필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작은 그레인 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fine-grain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간단한 연산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작고 간단한 구조의 프로세서 사용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6AA576EB-AE4D-498B-A3EF-92C28FC7B8FE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2.1 </a:t>
            </a:r>
            <a:r>
              <a:rPr b="0" lang="ko-KR" sz="3200" spc="-1" strike="noStrike">
                <a:solidFill>
                  <a:srgbClr val="006600"/>
                </a:solidFill>
                <a:latin typeface="Comic Sans MS"/>
              </a:rPr>
              <a:t>시스템  구조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굴림"/>
              </a:rPr>
              <a:t>2.1.1 </a:t>
            </a:r>
            <a:r>
              <a:rPr b="1" lang="ko-KR" sz="2800" spc="-1" strike="noStrike">
                <a:solidFill>
                  <a:srgbClr val="3333cc"/>
                </a:solidFill>
                <a:latin typeface="굴림"/>
              </a:rPr>
              <a:t>배열 프로세서 구조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시스템 내 모든 프로세싱 요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PE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들이 하나의 제어 유니트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U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통제 하에 동기적으로 동작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주로 계산 전용 컴퓨터로 활용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PE (processing element) :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ALU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와 레지스터들로 구성되어 간단한 연산만 수행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CU (control unit)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명령어를 해독하고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그것을 실행할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PE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들을 결정하고 통제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호스트 컴퓨터 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host computer)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프로그램을 컴파일하고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CU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로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download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시키는 외부 범용 컴퓨터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A52B1E62-D29A-40F9-8B5C-8423BF8D5DF4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그레인 크기에 따른 프로세서 구조의 특성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그레인 크기에 따른 병렬성의 분류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미세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그레인 병렬성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fine-grain parallelis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중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그레인 병렬성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medium-grain parallelis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큰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그레인 병렬성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oarse-grain parallelis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0A771CCC-2E55-4E22-96F3-B2A46340F78F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미세 그레인 병렬처리를 위한 프로세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프로그램을 가장 작은 단위로 분할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고급언어 프로그램의 한 문장</a:t>
            </a: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,  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어셈블리 명령어</a:t>
            </a: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혹은 산술</a:t>
            </a: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-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논리 연산 단위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간단한 프로세서 구조 필요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많은 프로세서간 통신량 발생 </a:t>
            </a:r>
            <a:r>
              <a:rPr b="1" lang="ko-K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고속 상호연결망 필요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미세 그레인 병렬성을 이용한 시스템의 예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51"/>
              </a:spcBef>
              <a:buClr>
                <a:srgbClr val="00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굴림"/>
              </a:rPr>
              <a:t>Thinking Machine</a:t>
            </a:r>
            <a:r>
              <a:rPr b="1" lang="ko-KR" sz="1800" spc="-1" strike="noStrike">
                <a:solidFill>
                  <a:srgbClr val="009900"/>
                </a:solidFill>
                <a:latin typeface="굴림"/>
              </a:rPr>
              <a:t>사의 </a:t>
            </a:r>
            <a:r>
              <a:rPr b="1" lang="en-US" sz="1800" spc="-1" strike="noStrike">
                <a:solidFill>
                  <a:srgbClr val="009900"/>
                </a:solidFill>
                <a:latin typeface="굴림"/>
              </a:rPr>
              <a:t>CM-1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의 병렬 프로세서 유니트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유니트 당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024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의 프로세서 모듈로 구성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각 프로세서 모듈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6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E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억장치 및 라우터 등으로 구성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E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64K (65,536)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51"/>
              </a:spcBef>
              <a:buClr>
                <a:srgbClr val="0099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굴림"/>
              </a:rPr>
              <a:t>MIT</a:t>
            </a:r>
            <a:r>
              <a:rPr b="1" lang="ko-KR" sz="1800" spc="-1" strike="noStrike">
                <a:solidFill>
                  <a:srgbClr val="009900"/>
                </a:solidFill>
                <a:latin typeface="굴림"/>
              </a:rPr>
              <a:t>의 </a:t>
            </a:r>
            <a:r>
              <a:rPr b="1" lang="en-US" sz="1800" spc="-1" strike="noStrike">
                <a:solidFill>
                  <a:srgbClr val="009900"/>
                </a:solidFill>
                <a:latin typeface="굴림"/>
              </a:rPr>
              <a:t>J-machine, STARAN </a:t>
            </a:r>
            <a:r>
              <a:rPr b="1" lang="ko-KR" sz="1800" spc="-1" strike="noStrike">
                <a:solidFill>
                  <a:srgbClr val="009900"/>
                </a:solidFill>
                <a:latin typeface="굴림"/>
              </a:rPr>
              <a:t>시스템</a:t>
            </a:r>
            <a:r>
              <a:rPr b="1" lang="en-US" sz="1800" spc="-1" strike="noStrike">
                <a:solidFill>
                  <a:srgbClr val="009900"/>
                </a:solidFill>
                <a:latin typeface="굴림"/>
              </a:rPr>
              <a:t>, MPP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등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8F482C11-0A77-4189-B9D9-6C58064E600E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CM-1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시스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72" name="Picture 4" descr="fig2-15a"/>
          <p:cNvPicPr/>
          <p:nvPr/>
        </p:nvPicPr>
        <p:blipFill>
          <a:blip r:embed="rId1"/>
          <a:stretch/>
        </p:blipFill>
        <p:spPr>
          <a:xfrm>
            <a:off x="1981080" y="990720"/>
            <a:ext cx="5216760" cy="54864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B4DAE477-0EEB-4E8C-A410-ABF8BEE69391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CM-1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프로세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77" name="Picture 4" descr="fig2-15b"/>
          <p:cNvPicPr/>
          <p:nvPr/>
        </p:nvPicPr>
        <p:blipFill>
          <a:blip r:embed="rId1"/>
          <a:stretch/>
        </p:blipFill>
        <p:spPr>
          <a:xfrm>
            <a:off x="2057400" y="990720"/>
            <a:ext cx="5133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E3CA2CF5-28CC-4BFA-8FE4-722DBB586496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큰 그레인 병렬처리를 위한 프로세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1267920"/>
            <a:ext cx="8305560" cy="52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많은 계산을 필요로 하는 작업 단위의 병렬처리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]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벡터 혹은 매트릭스 계산을 위한 전체 반복 루프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고속 벡터 계산을 위한 파이프라인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ALU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필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적은 수의 크고 복잡한 프로세서들로 구성된 슈퍼컴퓨터 사용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개 미만의 고성능 프로세서들로 구성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RAY Y-MP : 16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개의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RAY-1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들로 구성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DF2C53AD-B330-4932-93AF-FC37F79B0DFB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CRAY-1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내부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85" name="Picture 6" descr="fig2-16"/>
          <p:cNvPicPr/>
          <p:nvPr/>
        </p:nvPicPr>
        <p:blipFill>
          <a:blip r:embed="rId1"/>
          <a:stretch/>
        </p:blipFill>
        <p:spPr>
          <a:xfrm>
            <a:off x="2411280" y="1125360"/>
            <a:ext cx="46418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38B1F7C0-79FC-4D04-AF37-A9267CD332BF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중간 그레인 병렬처리를 위한 프로세서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미세 및 큰 그레인의 중간 크기로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반복 계산 루프의 내부 루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다중 사용자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multi -user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시스템의 한 작업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job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이나 프로세스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process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단위의 병렬처리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PU : 32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비트 혹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64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비트 마이크로프로세서 사용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수십 혹은 수백 개의 프로세서들로 이루어진 다중프로세서시스템으로 처리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수천 개의 프로세서들을 가진 대규모 병렬처리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MPP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구조로 발전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사례 시스템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] SGI  Origin 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시스템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, HP 9000 SuperDome, Intel iPSC 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시스템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등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D77C0649-E907-4F79-90C1-6934EA4B6777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.2.2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슈퍼스칼라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, VLIW,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슈퍼파이프라인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1341360"/>
            <a:ext cx="830556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 속도 향상을 위하여 각 명령어 실행 시간을 한 사이클 이하로 줄이기 위한 시도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대표적인 방식들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슈퍼스칼라 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superscalar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VLIW(Very Long Instruction Word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슈퍼파이프라인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superpipeline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83DB40F5-A5E5-4D0B-AF41-A3A4760F94F0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1)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슈퍼스칼라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superscalar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 내에 파이프라인 된 기능 유니트를 여러 개 포함시켜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매 사이클 마다 한 개 이상의 명령어들이 동시에 실행되게 하는 기술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8" name="Picture 11" descr="2-13"/>
          <p:cNvPicPr/>
          <p:nvPr/>
        </p:nvPicPr>
        <p:blipFill>
          <a:blip r:embed="rId1"/>
          <a:stretch/>
        </p:blipFill>
        <p:spPr>
          <a:xfrm>
            <a:off x="1835280" y="2852640"/>
            <a:ext cx="496728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D4A1E7FC-B9D9-4EDB-9A69-83180D1201D9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6600"/>
                </a:solidFill>
                <a:uFillTx/>
                <a:latin typeface="Comic Sans MS"/>
              </a:rPr>
              <a:t>슈퍼스칼라 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6600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효율 향상을 위한 조건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동시에 실행하는 명령어들 간에 데이터 의존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data dependency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이 존재하지 않아야 한다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속도 향상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k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단계 수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N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명령어 수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m 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슈퍼스칼라의 정도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degree of superscalar) =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능 유니트의 수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m = 1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인 경우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명령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의 실행 시간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 T(1, 1) = k + N – 1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m = m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인 경우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명령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개의 실행 시간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T(m, 1) = k + (N - m) / m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N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∞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명령어 수가 많아지면 속도 향상은 기능 유니트의 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m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접근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최신 프로세서들은 대부분 슈퍼스칼라 구조를 가지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m = 6~8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로 증가되는 경향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1523880" y="4191120"/>
                <a:ext cx="464832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1,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1C3CBCD3-7ACF-472D-A313-160AED26023C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배열 프로세서의 기본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91" name="Picture 5" descr="2-1"/>
          <p:cNvPicPr/>
          <p:nvPr/>
        </p:nvPicPr>
        <p:blipFill>
          <a:blip r:embed="rId1"/>
          <a:stretch/>
        </p:blipFill>
        <p:spPr>
          <a:xfrm>
            <a:off x="1187280" y="1413000"/>
            <a:ext cx="69343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36C45908-D684-45CD-AF10-A94D38B63234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펜티엄 프로세서의 슈퍼스칼라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207" name="Picture 4" descr="fig2-18"/>
          <p:cNvPicPr/>
          <p:nvPr/>
        </p:nvPicPr>
        <p:blipFill>
          <a:blip r:embed="rId1"/>
          <a:stretch/>
        </p:blipFill>
        <p:spPr>
          <a:xfrm>
            <a:off x="1828800" y="1219320"/>
            <a:ext cx="50306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641441DB-234F-404D-914A-6640204B16B3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2) VLIW (Very Long Instruction Word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동시에 실행 가능한 명령어들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연산들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을 하나의 긴 명령어로 재배열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통합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하여 동시 처리하는 기술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2" name="Picture 9" descr="fig2-19"/>
          <p:cNvPicPr/>
          <p:nvPr/>
        </p:nvPicPr>
        <p:blipFill>
          <a:blip r:embed="rId1"/>
          <a:stretch/>
        </p:blipFill>
        <p:spPr>
          <a:xfrm>
            <a:off x="2209680" y="2514600"/>
            <a:ext cx="473256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29143BA3-B2D0-410A-8680-C2747225E9B4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VLIW 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프로세서의 실행 시간도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216" name="Picture 5" descr="2-16"/>
          <p:cNvPicPr/>
          <p:nvPr/>
        </p:nvPicPr>
        <p:blipFill>
          <a:blip r:embed="rId1"/>
          <a:stretch/>
        </p:blipFill>
        <p:spPr>
          <a:xfrm>
            <a:off x="1447920" y="1752480"/>
            <a:ext cx="63244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AE7B43B4-9CDE-44E3-A396-57630789F28C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VLIW 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하나의 명령어 내에 포함시킬 수 있는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동시 실행 가능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연산들을 어느 정도 찾을 수 있는지가 효율을 결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슈퍼스칼라와의 차이점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명령어 코드가 길지만 하나로 취급되기 때문에 인출과 해독은 하나의 회로에 의해 이루어지고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각 연산의 실행 사이클만 여러 개의 유니트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ALU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들로 나누어져 동시에 처리된다는 점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예</a:t>
            </a: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]  TRACE-7 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시스템 </a:t>
            </a: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: 7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개의 기능 유니트</a:t>
            </a: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, 256-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비트 명령어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TRACE-28 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시스템 </a:t>
            </a: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: 28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개의 기능 유니트</a:t>
            </a:r>
            <a:r>
              <a:rPr b="1" lang="en-US" sz="2000" spc="-1" strike="noStrike">
                <a:solidFill>
                  <a:srgbClr val="009900"/>
                </a:solidFill>
                <a:latin typeface="굴림"/>
              </a:rPr>
              <a:t>, 1024-</a:t>
            </a:r>
            <a:r>
              <a:rPr b="1" lang="ko-KR" sz="2000" spc="-1" strike="noStrike">
                <a:solidFill>
                  <a:srgbClr val="009900"/>
                </a:solidFill>
                <a:latin typeface="굴림"/>
              </a:rPr>
              <a:t>비트 명령어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9FBE600D-751C-470F-87D6-D9D43A8C677F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3)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슈퍼파이프라인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superpipeline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7777080" cy="535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파이프라인의 클럭 사이클 시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lock cycle time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을 줄이는 방식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슈퍼파이프라이닝의 정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degree of superpipeline) = 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능 유니트의 클럭 사이클 시간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=  1/n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] n = 2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인 경우의 프로세서 실행 시간도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5" name="Picture 11" descr="2-17"/>
          <p:cNvPicPr/>
          <p:nvPr/>
        </p:nvPicPr>
        <p:blipFill>
          <a:blip r:embed="rId1"/>
          <a:stretch/>
        </p:blipFill>
        <p:spPr>
          <a:xfrm>
            <a:off x="755640" y="4221000"/>
            <a:ext cx="748836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0D62A517-6296-42A4-935B-8E109E94325E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슈퍼파이프라인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속도 향상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k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계 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N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명령어 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슈퍼파이프라이닝의 정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클록 사이클의 분할도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 = 1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인 경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명령어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개의 실행 시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T(1, 1) = k + N – 1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 = n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인 경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명령어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개의 실행 시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T(1, n) = k + (1/n) (N -1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∞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명령어 수의 많아지면 따라 속도 향상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n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에 접근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] CDC 7600, CRAY-1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정술 산술 유니트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n = 3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5"/>
              <p:cNvSpPr txBox="1"/>
              <p:nvPr/>
            </p:nvSpPr>
            <p:spPr>
              <a:xfrm>
                <a:off x="1905120" y="3733920"/>
                <a:ext cx="43434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1,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FD4F3053-3BBD-4AEE-94A7-9D766D443AA0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Superpipelined Superscalar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 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슈퍼파이프라인과 슈퍼스칼라가 결합된 구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N → ∞ ,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속도 향상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p = mn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13"/>
              <p:cNvSpPr txBox="1"/>
              <p:nvPr/>
            </p:nvSpPr>
            <p:spPr>
              <a:xfrm>
                <a:off x="1143000" y="1828800"/>
                <a:ext cx="52578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1,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36" name="Picture 14" descr="2-18"/>
          <p:cNvPicPr/>
          <p:nvPr/>
        </p:nvPicPr>
        <p:blipFill>
          <a:blip r:embed="rId1"/>
          <a:stretch/>
        </p:blipFill>
        <p:spPr>
          <a:xfrm>
            <a:off x="1676520" y="3809880"/>
            <a:ext cx="502920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540B1026-0321-4221-9638-AE83396003F9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첨단 프로세서 구조의 문제점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슈퍼스칼라 및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VLIW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동시 실행 가능한 명령어 수가 충분하지 않는 경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즉 명령어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수준의 병렬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instruction-level parallelism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이 높지 않으면 하드웨어 이용률이 낮아져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하는 정도의 성능을 얻기 어려움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슈퍼파이프라인 구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고속의 부품들로 구성되는 스위칭 메커니즘을 구현할 수 있어야 함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A767FE79-9F49-4367-AC16-51E78DB37343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305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2.3 </a:t>
            </a:r>
            <a:r>
              <a:rPr b="0" lang="ko-KR" sz="3200" spc="-1" strike="noStrike">
                <a:solidFill>
                  <a:srgbClr val="0000ff"/>
                </a:solidFill>
                <a:latin typeface="Comic Sans MS"/>
              </a:rPr>
              <a:t>기억장치 시스템 구조</a:t>
            </a:r>
            <a:endParaRPr b="0" lang="en-US" sz="32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196640"/>
            <a:ext cx="853416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로 인한 병렬컴퓨터시스템의 성능 저하 요인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는 프로세서에 비하여 속도가 현저히 느림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충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memory conflict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 의한 지연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공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구조를 가진 병렬컴퓨터에서 여러 개의 프로세서들이 동시에 같은 기억장치 모듈을 액세스하는 경우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캐쉬 기억장치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cache memory) 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및 기억장치 인터리빙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memory interleaving)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방식을 사용하여 성능 개선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24EA0060-5C61-4E9D-9DBF-3A1FC9C2A6D0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.3.1 Cache memory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프로세서와 주기억장치간의 속도 차이를 보완하여 프로세서의 대기 시간을 최소화 시키도록 프로세서와 주기억장치 사이에 위치시키는  고속 반도체 기억장치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속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기억장치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보조기억장치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비용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기억장치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보조기억장치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용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l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기억장치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&lt;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보조기억장치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9" name="Picture 4" descr="fig2-23"/>
          <p:cNvPicPr/>
          <p:nvPr/>
        </p:nvPicPr>
        <p:blipFill>
          <a:blip r:embed="rId1"/>
          <a:stretch/>
        </p:blipFill>
        <p:spPr>
          <a:xfrm>
            <a:off x="1523880" y="4876920"/>
            <a:ext cx="5856480" cy="120960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5"/>
          <p:cNvSpPr/>
          <p:nvPr/>
        </p:nvSpPr>
        <p:spPr>
          <a:xfrm>
            <a:off x="6629400" y="4952880"/>
            <a:ext cx="1066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0FAC9184-B344-4977-91BB-D8FC6C1E0F57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PE</a:t>
            </a:r>
            <a:r>
              <a:rPr b="0" lang="ko-KR" sz="2800" spc="-1" strike="noStrike" u="sng">
                <a:solidFill>
                  <a:srgbClr val="0000ff"/>
                </a:solidFill>
                <a:uFillTx/>
                <a:latin typeface="Comic Sans MS"/>
              </a:rPr>
              <a:t>의 내부 구조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내부 구성요소들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Ri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내부 레지스터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Ai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주소 레지스터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Ii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인덱스 레지스터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Ti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데이터 전송 레지스터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Fi 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플래그 레지스터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= 1 : PE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가 계산 에 참여</a:t>
            </a:r>
            <a:br>
              <a:rPr sz="2200"/>
            </a:b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= 0 : PE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가 대기 상태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ALU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6" name="Picture 1028" descr="2-2"/>
          <p:cNvPicPr/>
          <p:nvPr/>
        </p:nvPicPr>
        <p:blipFill>
          <a:blip r:embed="rId1"/>
          <a:stretch/>
        </p:blipFill>
        <p:spPr>
          <a:xfrm>
            <a:off x="5003640" y="1268280"/>
            <a:ext cx="434340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25839C8C-658F-4037-ADA3-4C6C6DF24102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6600"/>
                </a:solidFill>
                <a:uFillTx/>
                <a:latin typeface="Comic Sans MS"/>
              </a:rPr>
              <a:t>평균 기억장치 액세스 시간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 적중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ache hit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프로세서가 원하는 데이터가 캐쉬 내에 있을 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적중률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hit ratio) h =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프로그램과 데이터의 지역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locality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에 크게 의존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 미스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ache miss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프로세서가 원하는 데이터가 캐쉬에 없을 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미스율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(1-h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평균 기억장치 액세스 시간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굴림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=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 액세스 시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굴림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기억장치 액세스 시간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3809880" y="2209680"/>
                <a:ext cx="3048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원하는</m:t>
                        </m:r>
                        <m:r>
                          <m:rPr>
                            <m:lit/>
                            <m:nor/>
                          </m:rPr>
                          <m:t xml:space="preserve">데이터가</m:t>
                        </m:r>
                        <m:r>
                          <m:rPr>
                            <m:lit/>
                            <m:nor/>
                          </m:rPr>
                          <m:t xml:space="preserve">캐쉬에</m:t>
                        </m:r>
                        <m:r>
                          <m:rPr>
                            <m:lit/>
                            <m:nor/>
                          </m:rPr>
                          <m:t xml:space="preserve">있는</m:t>
                        </m:r>
                        <m:r>
                          <m:rPr>
                            <m:lit/>
                            <m:nor/>
                          </m:rPr>
                          <m:t xml:space="preserve">횟수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전체</m:t>
                        </m:r>
                        <m:r>
                          <m:rPr>
                            <m:lit/>
                            <m:nor/>
                          </m:rPr>
                          <m:t xml:space="preserve">기억장치</m:t>
                        </m:r>
                        <m:r>
                          <m:rPr>
                            <m:lit/>
                            <m:nor/>
                          </m:rPr>
                          <m:t xml:space="preserve">액세스</m:t>
                        </m:r>
                        <m:r>
                          <m:rPr>
                            <m:lit/>
                            <m:nor/>
                          </m:rPr>
                          <m:t xml:space="preserve">횟수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5"/>
              <p:cNvSpPr txBox="1"/>
              <p:nvPr/>
            </p:nvSpPr>
            <p:spPr>
              <a:xfrm>
                <a:off x="4343400" y="5029200"/>
                <a:ext cx="32004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v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F826A076-C67D-4108-922B-3FD44F14C82C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00ff"/>
                </a:solidFill>
                <a:uFillTx/>
                <a:latin typeface="Comic Sans MS"/>
              </a:rPr>
              <a:t>캐쉬의 최적 설계 목표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 적중률의 극대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 액세스 시간의 최소와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 실패에 따른 지연시간의 최소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주기억장치와 캐쉬간의 데이터 일관성 유지 및 그에 따른 오버헤드의 최소화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4C0709D0-7815-4966-AA29-E4F2AE5F48AF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00ff"/>
                </a:solidFill>
                <a:uFillTx/>
                <a:latin typeface="Comic Sans MS"/>
              </a:rPr>
              <a:t>캐쉬 설계를 위한 고려 사항들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캐쉬의 크기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cache size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용량 증가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적중률 향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비용 상승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최적 캐쉬의 크기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1 ~ 128 Kword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인출 방식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fetch algorith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요구 인출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demand fetch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선인출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prefetch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필요한 정보를 인출할 때 근접한 위치에 있는 정보들을 함께 인출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지역성이 높은 경우에 효율적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최적 블록의 크기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4 ~ 8 word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65342584-3713-42FF-BE39-F0C4928EC5A9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캐쉬 설계를 위한 고려 사항들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사상 방식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mapping method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직접 사상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direct mapping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간단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동일한 그룹에 속한 블록들이 빈번히 액세스 될 경우에 캐쉬 실패율이 증가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완전 연관 사상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fully associative mapping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높은 유연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flexibility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모든 캐쉬 슬롯들의 태그 번호들을 고속 검색하기 위한 복잡한 회로 필요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집합 연관 사상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set associative mapping)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집합의 크기는 캐쉬 적중률에 영향을 주는 요소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최적 집합 크기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2-way, 4-way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EE46B827-5EE7-4954-8EF6-9F531F443EC6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캐쉬 설계를 위한 고려 사항들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4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교체 방식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replacement algorithm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LRU (Least Recently Used)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가장 높은 적중률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FIFO (First In First Out)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원형 버퍼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circular buffer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로 구현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LFU (Least Frequently Used)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수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counter)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Random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B6F89628-4C9D-4608-933E-71404719741C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캐쉬 설계를 위한 고려 사항들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5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쓰기 정책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write policy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Write through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에서 수정된 데이터를 주기억장치에도 갱신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액세스 횟수가 많아져서 병목 현상을 야기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Write back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데이터 수정은 캐쉬에서만 이루어짐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기억장치의 일부 데이터들 무효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돌발적 사고 발생시 데이터 분실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77" name="Picture 4" descr="2-20"/>
          <p:cNvPicPr/>
          <p:nvPr/>
        </p:nvPicPr>
        <p:blipFill>
          <a:blip r:embed="rId1"/>
          <a:stretch/>
        </p:blipFill>
        <p:spPr>
          <a:xfrm>
            <a:off x="1905120" y="3886200"/>
            <a:ext cx="495288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D6408122-531E-417A-B77D-D2C7ADD62496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 u="sng">
                <a:solidFill>
                  <a:srgbClr val="0000ff"/>
                </a:solidFill>
                <a:uFillTx/>
                <a:latin typeface="Comic Sans MS"/>
              </a:rPr>
              <a:t>캐쉬 설계를 위한 고려 사항들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0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ultiprocessor system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서의 데이터 일관성 문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data consistency problem)  </a:t>
            </a: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--- 4.4</a:t>
            </a: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절 참조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2" name="Picture 4" descr="2-21"/>
          <p:cNvPicPr/>
          <p:nvPr/>
        </p:nvPicPr>
        <p:blipFill>
          <a:blip r:embed="rId1"/>
          <a:stretch/>
        </p:blipFill>
        <p:spPr>
          <a:xfrm>
            <a:off x="2590920" y="2286000"/>
            <a:ext cx="43434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D74C2816-4D7D-4DCC-B284-24A837C4349C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947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6) 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다중 캐쉬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multiple cache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4751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계층적 캐쉬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hierarchical cache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2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레벨 혹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3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레벨 캐쉬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차 캐쉬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2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차 캐쉬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3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차 캐쉬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계층적으로 설치</a:t>
            </a:r>
            <a:br>
              <a:rPr sz="2400"/>
            </a:br>
            <a:r>
              <a:rPr b="1" lang="ko-KR" sz="2000" spc="-1" strike="noStrike">
                <a:solidFill>
                  <a:srgbClr val="000000"/>
                </a:solidFill>
                <a:latin typeface="서울도시"/>
              </a:rPr>
              <a:t>용량</a:t>
            </a:r>
            <a:r>
              <a:rPr b="1" lang="en-US" sz="2000" spc="-1" strike="noStrike">
                <a:solidFill>
                  <a:srgbClr val="000000"/>
                </a:solidFill>
                <a:latin typeface="서울도시"/>
              </a:rPr>
              <a:t>: L1 &lt; L2 &lt; L3 &lt; M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ﵵ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온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-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칩 캐쉬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on-chip cache):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CPU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칩 내부에 설치되는 캐쉬로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액세스 시간이 가장 짧다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7" name="Picture 4" descr="2-22"/>
          <p:cNvPicPr/>
          <p:nvPr/>
        </p:nvPicPr>
        <p:blipFill>
          <a:blip r:embed="rId1"/>
          <a:stretch/>
        </p:blipFill>
        <p:spPr>
          <a:xfrm>
            <a:off x="5724360" y="2133720"/>
            <a:ext cx="23623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45FC0D15-88EF-45DE-A781-EF4FBB951B20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다중 캐쉬의 액세스 시간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omic Sans MS"/>
              </a:rPr>
              <a:t>(2003</a:t>
            </a:r>
            <a:r>
              <a:rPr b="0" lang="ko-KR" sz="1800" spc="-1" strike="noStrike" u="sng">
                <a:solidFill>
                  <a:srgbClr val="0000ff"/>
                </a:solidFill>
                <a:uFillTx/>
                <a:latin typeface="Comic Sans MS"/>
              </a:rPr>
              <a:t>년 기준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1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]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펜티엄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IV: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온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칩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L1)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데이터 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1 n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온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칩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L1)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명령어 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2 n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L2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3.5 ns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]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아이테니움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L1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온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칩 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2 n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L2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온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칩 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6 n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 L3 (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외부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캐쉬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21 ns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F76CB6F8-FB29-4DAB-864C-EB766F2AEFD1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다중 캐쉬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계층적 캐쉬를 가진 기억장치시스템의 액세스 시간</a:t>
            </a:r>
            <a:br>
              <a:rPr sz="2400"/>
            </a:b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1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차 캐쉬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2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차 캐쉬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적중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적중률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L1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액세스 시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L2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의 액세스 시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m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주기억장치의 액세스 시간이라 할 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</a:t>
            </a:r>
            <a:br>
              <a:rPr sz="2400"/>
            </a:br>
            <a:br>
              <a:rPr sz="2400"/>
            </a:br>
            <a:r>
              <a:rPr b="1" lang="ko-KR" sz="2400" spc="-1" strike="noStrike" u="sng">
                <a:solidFill>
                  <a:srgbClr val="009900"/>
                </a:solidFill>
                <a:uFillTx/>
                <a:latin typeface="굴림"/>
              </a:rPr>
              <a:t>평균 기억장치 액세스 시간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a =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x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L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+ (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-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 x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L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+ (1 -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 x Tm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3360" indent="-60336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00ff"/>
                </a:solidFill>
                <a:latin typeface="굴림"/>
              </a:rPr>
              <a:t>예제 </a:t>
            </a:r>
            <a:r>
              <a:rPr b="1" lang="en-US" sz="2400" spc="-1" strike="noStrike">
                <a:solidFill>
                  <a:srgbClr val="0000ff"/>
                </a:solidFill>
                <a:latin typeface="굴림"/>
              </a:rPr>
              <a:t>2-2] </a:t>
            </a:r>
            <a:r>
              <a:rPr b="1" lang="ko-KR" sz="2400" spc="-1" strike="noStrike">
                <a:solidFill>
                  <a:srgbClr val="0000ff"/>
                </a:solidFill>
                <a:latin typeface="굴림"/>
              </a:rPr>
              <a:t>참조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2B20FED6-BC2C-446F-97A2-D11F803A73DE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배열 프로세서의 다른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00" name="Picture 5" descr="2-3"/>
          <p:cNvPicPr/>
          <p:nvPr/>
        </p:nvPicPr>
        <p:blipFill>
          <a:blip r:embed="rId1"/>
          <a:stretch/>
        </p:blipFill>
        <p:spPr>
          <a:xfrm>
            <a:off x="1143000" y="1208160"/>
            <a:ext cx="678168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2FF05B65-B45C-4BF4-880D-D5329D7917A7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다중 캐쉬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012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분리 캐쉬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split cache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차 캐쉬가 명령어 캐쉬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instruction cache)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와 데이터 캐쉬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data cache)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로 분리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   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[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예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] PowerPC 620 </a:t>
            </a: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프로세서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0" name="Picture 4" descr="2-23"/>
          <p:cNvPicPr/>
          <p:nvPr/>
        </p:nvPicPr>
        <p:blipFill>
          <a:blip r:embed="rId1"/>
          <a:stretch/>
        </p:blipFill>
        <p:spPr>
          <a:xfrm>
            <a:off x="1476360" y="2781360"/>
            <a:ext cx="640872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95F96983-AE92-4076-A48D-AB2F8310DEEB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6600"/>
                </a:solidFill>
                <a:uFillTx/>
                <a:latin typeface="Comic Sans MS"/>
              </a:rPr>
              <a:t>다중 캐쉬 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(</a:t>
            </a:r>
            <a:r>
              <a:rPr b="0" lang="ko-KR" sz="2400" spc="-1" strike="noStrike" u="sng">
                <a:solidFill>
                  <a:srgbClr val="006600"/>
                </a:solidFill>
                <a:uFillTx/>
                <a:latin typeface="Comic Sans MS"/>
              </a:rPr>
              <a:t>계속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3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레벨 캐쉬의 예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아이테니움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Itanium) 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프로세서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5" name="Picture 4" descr="2-24"/>
          <p:cNvPicPr/>
          <p:nvPr/>
        </p:nvPicPr>
        <p:blipFill>
          <a:blip r:embed="rId1"/>
          <a:stretch/>
        </p:blipFill>
        <p:spPr>
          <a:xfrm>
            <a:off x="971640" y="2205000"/>
            <a:ext cx="676728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DA89E1BE-B9F3-4B55-A25B-0DCB00E1554C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78920" y="40464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2.3.2 </a:t>
            </a:r>
            <a:r>
              <a:rPr b="1" lang="ko-KR" sz="2800" spc="-1" strike="noStrike">
                <a:solidFill>
                  <a:srgbClr val="0000ff"/>
                </a:solidFill>
                <a:latin typeface="Comic Sans MS"/>
              </a:rPr>
              <a:t>기억장치 인터리빙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(memory interleaving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hared-memory system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emory conflict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 의한 병목 현상을 완화시키기 위한 방법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를 여러 개의 독립적인 모듈로 나누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주소지정 방식을 적절히 조정함으로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순차적으로 배열된 명령어들 또는 데이터들이 기억장치 모듈들에 분산 저장되도록 함 </a:t>
            </a:r>
            <a:r>
              <a:rPr b="1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 병렬 액세스 가능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구성 방식</a:t>
            </a:r>
            <a:endParaRPr b="1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상위 인터리빙 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high-order interleaving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하위 인터리빙 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low-order interleaving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혼합 인터리빙 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high-low-order interleaving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509E4105-964D-4746-A5A5-109E38C15811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454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가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) H</a:t>
            </a:r>
            <a:r>
              <a:rPr b="0" lang="en-US" sz="3100" spc="-1" strike="noStrike">
                <a:solidFill>
                  <a:srgbClr val="0000ff"/>
                </a:solidFill>
                <a:latin typeface="Comic Sans MS"/>
              </a:rPr>
              <a:t>igh-order interleaving</a:t>
            </a:r>
            <a:endParaRPr b="0" lang="en-US" sz="31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000" y="764640"/>
            <a:ext cx="8389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주소를 모듈들에 순차적으로 지정하는 방식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설계 방법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주소의 상위 비트들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모듈 선택 신호로 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주소의 하위 비트들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모듈내 기억 장소의 선택에 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14" name="Picture 13" descr="fig2-26"/>
          <p:cNvPicPr/>
          <p:nvPr/>
        </p:nvPicPr>
        <p:blipFill>
          <a:blip r:embed="rId1"/>
          <a:stretch/>
        </p:blipFill>
        <p:spPr>
          <a:xfrm>
            <a:off x="2050920" y="3156120"/>
            <a:ext cx="49039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9B1A71ED-7F97-4799-AA3E-C80BDE84064D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High-order interleaving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예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4 KByte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1 Kbyte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모듈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4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개로구성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주소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= 12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비트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19" name="Picture 4" descr="fig2-27"/>
          <p:cNvPicPr/>
          <p:nvPr/>
        </p:nvPicPr>
        <p:blipFill>
          <a:blip r:embed="rId1"/>
          <a:stretch/>
        </p:blipFill>
        <p:spPr>
          <a:xfrm>
            <a:off x="2340000" y="2276640"/>
            <a:ext cx="51483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27E46C13-3AAE-4D93-9D8A-09AFD06D9D5E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2400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나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) Low</a:t>
            </a:r>
            <a:r>
              <a:rPr b="0" lang="en-US" sz="3100" spc="-1" strike="noStrike">
                <a:solidFill>
                  <a:srgbClr val="0000ff"/>
                </a:solidFill>
                <a:latin typeface="Comic Sans MS"/>
              </a:rPr>
              <a:t>-order interleaving</a:t>
            </a:r>
            <a:endParaRPr b="0" lang="en-US" sz="31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주소가 모듈 단위로 인터리빙 되는 방식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설계 방법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기억장치 주소의 하위 비트들 </a:t>
            </a: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모듈 선택 신호로 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기억장치 주소의 상위 비트들 </a:t>
            </a:r>
            <a:r>
              <a:rPr b="1" lang="en-US" sz="2000" spc="-1" strike="noStrike">
                <a:solidFill>
                  <a:srgbClr val="ff0000"/>
                </a:solidFill>
                <a:latin typeface="굴림"/>
              </a:rPr>
              <a:t>: </a:t>
            </a: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모듈내 기억 장소의 선택에 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24" name="Picture 9" descr="fig2-24"/>
          <p:cNvPicPr/>
          <p:nvPr/>
        </p:nvPicPr>
        <p:blipFill>
          <a:blip r:embed="rId1"/>
          <a:stretch/>
        </p:blipFill>
        <p:spPr>
          <a:xfrm>
            <a:off x="2195640" y="3141720"/>
            <a:ext cx="42480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473288DB-5A11-4273-9F2D-341B9CAB989F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Low-order interleaving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예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1 Kbyte x 4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기억장치 주소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= 12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비트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29" name="Picture 4" descr="fig2-25"/>
          <p:cNvPicPr/>
          <p:nvPr/>
        </p:nvPicPr>
        <p:blipFill>
          <a:blip r:embed="rId1"/>
          <a:stretch/>
        </p:blipFill>
        <p:spPr>
          <a:xfrm>
            <a:off x="1619280" y="1773360"/>
            <a:ext cx="57974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C36BA9C2-50EA-4B28-A2B7-C633CEEBD2E8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95280" y="380880"/>
            <a:ext cx="83678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(</a:t>
            </a:r>
            <a:r>
              <a:rPr b="0" lang="ko-KR" sz="2800" spc="-1" strike="noStrike">
                <a:solidFill>
                  <a:srgbClr val="0000ff"/>
                </a:solidFill>
                <a:latin typeface="Comic Sans MS"/>
              </a:rPr>
              <a:t>다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) High-low</a:t>
            </a:r>
            <a:r>
              <a:rPr b="0" lang="en-US" sz="3100" spc="-1" strike="noStrike">
                <a:solidFill>
                  <a:srgbClr val="0000ff"/>
                </a:solidFill>
                <a:latin typeface="Comic Sans MS"/>
              </a:rPr>
              <a:t>-order interleaving</a:t>
            </a:r>
            <a:endParaRPr b="0" lang="en-US" sz="31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68360" y="1066320"/>
            <a:ext cx="770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뱅크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memory bank)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내부 모듈들 간에는 상위 인터리빙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외부 모듈 간에는 하위 인터리빙으로 주소지정하는 방식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억장치 뱅크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기억장치 모듈들로 이루어지는 그룹</a:t>
            </a:r>
            <a:endParaRPr b="1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34" name="Picture 11" descr="2-29"/>
          <p:cNvPicPr/>
          <p:nvPr/>
        </p:nvPicPr>
        <p:blipFill>
          <a:blip r:embed="rId1"/>
          <a:stretch/>
        </p:blipFill>
        <p:spPr>
          <a:xfrm>
            <a:off x="1619280" y="2637000"/>
            <a:ext cx="532764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6D0AAF87-7149-4729-A90B-92E4793FC6CB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High-low-order interleaving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의 예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155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 Kbyte x 4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주소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12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비트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뱅크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2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개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39" name="Picture 5" descr="2-30"/>
          <p:cNvPicPr/>
          <p:nvPr/>
        </p:nvPicPr>
        <p:blipFill>
          <a:blip r:embed="rId1"/>
          <a:stretch/>
        </p:blipFill>
        <p:spPr>
          <a:xfrm>
            <a:off x="1619280" y="1773360"/>
            <a:ext cx="576108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3F8D7133-5B2C-4BB2-81FA-E3E3F2DFFF6C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24000" y="380880"/>
            <a:ext cx="8439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(2) C-</a:t>
            </a:r>
            <a:r>
              <a:rPr b="1" lang="ko-KR" sz="2800" spc="-1" strike="noStrike">
                <a:solidFill>
                  <a:srgbClr val="0000ff"/>
                </a:solidFill>
                <a:latin typeface="Comic Sans MS"/>
              </a:rPr>
              <a:t>액세스 및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S-</a:t>
            </a:r>
            <a:r>
              <a:rPr b="1" lang="ko-KR" sz="2800" spc="-1" strike="noStrike">
                <a:solidFill>
                  <a:srgbClr val="0000ff"/>
                </a:solidFill>
                <a:latin typeface="Comic Sans MS"/>
              </a:rPr>
              <a:t>액세스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C-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액세스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Concurrent access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각 기억장치 모듈별로 주소가 도착하면 액세스 동작을 시작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9900"/>
                </a:solidFill>
                <a:latin typeface="굴림"/>
              </a:rPr>
              <a:t>액세스 시간 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T = T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굴림"/>
              </a:rPr>
              <a:t>a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 + (M x t</a:t>
            </a:r>
            <a:r>
              <a:rPr b="1" lang="en-US" sz="2400" spc="-1" strike="noStrike" baseline="-25000">
                <a:solidFill>
                  <a:srgbClr val="009900"/>
                </a:solidFill>
                <a:latin typeface="굴림"/>
              </a:rPr>
              <a:t>b</a:t>
            </a:r>
            <a:r>
              <a:rPr b="1" lang="en-US" sz="2400" spc="-1" strike="noStrike">
                <a:solidFill>
                  <a:srgbClr val="009900"/>
                </a:solidFill>
                <a:latin typeface="굴림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굴림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액세스 시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굴림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=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버스 클럭의 주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M =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모듈의 수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44" name="Picture 7" descr="fig2-30"/>
          <p:cNvPicPr/>
          <p:nvPr/>
        </p:nvPicPr>
        <p:blipFill>
          <a:blip r:embed="rId1"/>
          <a:stretch/>
        </p:blipFill>
        <p:spPr>
          <a:xfrm>
            <a:off x="1835280" y="3454560"/>
            <a:ext cx="569268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82FFF0D5-5B20-4BB0-A87C-7EAB98B875FE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006600"/>
                </a:solidFill>
                <a:uFillTx/>
                <a:latin typeface="Comic Sans MS"/>
              </a:rPr>
              <a:t>상호연결망 </a:t>
            </a:r>
            <a:r>
              <a:rPr b="0" lang="en-US" sz="2800" spc="-1" strike="noStrike" u="sng">
                <a:solidFill>
                  <a:srgbClr val="006600"/>
                </a:solidFill>
                <a:uFillTx/>
                <a:latin typeface="Comic Sans MS"/>
              </a:rPr>
              <a:t>(Interconnection Networks)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정적 네트워크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Static network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연결 구조가 고정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차원 토폴로지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선형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차원 토폴로지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원형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성형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나무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매쉬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시스토릭 배열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차원 토폴로지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완전 연결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코달 원형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큐브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동적 네트워크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Dynamic network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실행 시간 중에 연결 구조 변경 가능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주로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MIMD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시스템에 사용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CBEA4571-056D-485E-95FF-06AE254B801F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C-</a:t>
            </a:r>
            <a:r>
              <a:rPr b="1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액세스 및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S-</a:t>
            </a:r>
            <a:r>
              <a:rPr b="1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액세스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(</a:t>
            </a:r>
            <a:r>
              <a:rPr b="1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계속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)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53416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S-</a:t>
            </a:r>
            <a:r>
              <a:rPr b="1" lang="ko-KR" sz="2400" spc="-1" strike="noStrike">
                <a:solidFill>
                  <a:srgbClr val="ff0000"/>
                </a:solidFill>
                <a:latin typeface="굴림"/>
              </a:rPr>
              <a:t>액세스</a:t>
            </a:r>
            <a:r>
              <a:rPr b="1" lang="en-US" sz="2400" spc="-1" strike="noStrike">
                <a:solidFill>
                  <a:srgbClr val="ff0000"/>
                </a:solidFill>
                <a:latin typeface="굴림"/>
              </a:rPr>
              <a:t>(Simultaneous access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하위 인터리빙 방식으로 구성된 기억장치 모듈들에 주소가 동시에 인가하면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모든 모듈들에서 동시에 액세스 동작이 시작되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액세스 된 데이터들은 순차적으로 전송하는 방식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연속적인 입력 데이터 흐름이 필요한 파이프라인 컴퓨터에 유용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액세스 시간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-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액세스와 같음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장점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동시 액세스 보장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연속적 전송 가능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(burst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버스 모드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02475E49-23B6-494C-8A39-5C239C643B52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omic Sans MS"/>
              </a:rPr>
              <a:t>S-</a:t>
            </a:r>
            <a:r>
              <a:rPr b="0" lang="ko-KR" sz="2400" spc="-1" strike="noStrike" u="sng">
                <a:solidFill>
                  <a:srgbClr val="0000ff"/>
                </a:solidFill>
                <a:uFillTx/>
                <a:latin typeface="Comic Sans MS"/>
              </a:rPr>
              <a:t>액세스 기억장치 시스템의 구조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352" name="Picture 4" descr="fig2-31"/>
          <p:cNvPicPr/>
          <p:nvPr/>
        </p:nvPicPr>
        <p:blipFill>
          <a:blip r:embed="rId1"/>
          <a:stretch/>
        </p:blipFill>
        <p:spPr>
          <a:xfrm>
            <a:off x="2395440" y="1125360"/>
            <a:ext cx="522468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바닥글 개체 틀 5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슬라이드 번호 개체 틀 6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774EADE1-FD59-4D83-9129-4427E527A224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</a:rPr>
              <a:t>S-</a:t>
            </a:r>
            <a:r>
              <a:rPr b="0" lang="ko-KR" sz="2000" spc="-1" strike="noStrike" u="sng">
                <a:solidFill>
                  <a:srgbClr val="0000ff"/>
                </a:solidFill>
                <a:uFillTx/>
                <a:latin typeface="Comic Sans MS"/>
              </a:rPr>
              <a:t>액세스의 시간흐름도</a:t>
            </a:r>
            <a:endParaRPr b="0" lang="en-US" sz="20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560" y="1196640"/>
            <a:ext cx="7723080" cy="52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액세스 시간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(M </a:t>
            </a:r>
            <a:r>
              <a:rPr b="1" i="1" lang="en-US" sz="2400" spc="-1" strike="noStrike">
                <a:solidFill>
                  <a:srgbClr val="000000"/>
                </a:solidFill>
                <a:latin typeface="굴림"/>
                <a:ea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57" name="Picture 4" descr="2-33"/>
          <p:cNvPicPr/>
          <p:nvPr/>
        </p:nvPicPr>
        <p:blipFill>
          <a:blip r:embed="rId1"/>
          <a:stretch/>
        </p:blipFill>
        <p:spPr>
          <a:xfrm>
            <a:off x="1619280" y="2276640"/>
            <a:ext cx="6121440" cy="36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FEFA9D80-0744-495D-9669-A4434AAA6E25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6600"/>
                </a:solidFill>
                <a:uFillTx/>
                <a:latin typeface="Comic Sans MS"/>
              </a:rPr>
              <a:t>정적 상호연결 네트워크</a:t>
            </a:r>
            <a:endParaRPr b="0" lang="en-US" sz="2400" spc="-1" strike="noStrike">
              <a:solidFill>
                <a:srgbClr val="006600"/>
              </a:solidFill>
              <a:latin typeface="Comic Sans MS"/>
            </a:endParaRPr>
          </a:p>
        </p:txBody>
      </p:sp>
      <p:pic>
        <p:nvPicPr>
          <p:cNvPr id="108" name="Picture 5" descr="2-4"/>
          <p:cNvPicPr/>
          <p:nvPr/>
        </p:nvPicPr>
        <p:blipFill>
          <a:blip r:embed="rId1"/>
          <a:stretch/>
        </p:blipFill>
        <p:spPr>
          <a:xfrm>
            <a:off x="1979640" y="1052640"/>
            <a:ext cx="49291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95B9DF11-C4FD-4BF2-91F1-3577FE442CB7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굴림"/>
                <a:ea typeface="굴림"/>
              </a:rPr>
              <a:t>2.1.2 </a:t>
            </a:r>
            <a:r>
              <a:rPr b="1" lang="ko-KR" sz="2800" spc="-1" strike="noStrike">
                <a:solidFill>
                  <a:srgbClr val="0000ff"/>
                </a:solidFill>
                <a:latin typeface="굴림"/>
                <a:ea typeface="굴림"/>
              </a:rPr>
              <a:t>다중프로세서시스템 구조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공유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기억장치 시스템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shared-memory system)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밀결합 구조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tightly-coupled system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주기억장치가 모든 프로세서들에 의해 공유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5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분산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ff0000"/>
                </a:solidFill>
                <a:latin typeface="굴림"/>
              </a:rPr>
              <a:t>기억장치 시스템</a:t>
            </a:r>
            <a:r>
              <a:rPr b="1" lang="en-US" sz="2200" spc="-1" strike="noStrike">
                <a:solidFill>
                  <a:srgbClr val="ff0000"/>
                </a:solidFill>
                <a:latin typeface="굴림"/>
              </a:rPr>
              <a:t>(distributed-memory system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소결합 시스템 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loosely-coupled system)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각 프로세서가 기억장치를 공유하지 않고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자신의 지역 기억장치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local memory)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를 별도로 소유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독립적인 컴퓨터들의 결합 형태이므로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다중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컴퓨터시스템</a:t>
            </a: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(multiple-computer system)</a:t>
            </a:r>
            <a:r>
              <a:rPr b="1" lang="ko-KR" sz="2200" spc="-1" strike="noStrike">
                <a:solidFill>
                  <a:srgbClr val="000000"/>
                </a:solidFill>
                <a:latin typeface="굴림"/>
              </a:rPr>
              <a:t>라고도 부름</a:t>
            </a:r>
            <a:endParaRPr b="1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바닥글 개체 틀 4"/>
          <p:cNvSpPr/>
          <p:nvPr/>
        </p:nvSpPr>
        <p:spPr>
          <a:xfrm>
            <a:off x="2286000" y="655308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Comic Sans MS"/>
              </a:rPr>
              <a:t>Parallel Computer Archite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슬라이드 번호 개체 틀 5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2-</a:t>
            </a:r>
            <a:fld id="{C6EB84AC-E157-4376-A233-0F1C582FC9FC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(1)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Shared-memory multiprocessor architecture</a:t>
            </a:r>
            <a:endParaRPr b="0" lang="en-US" sz="2800" spc="-1" strike="noStrike">
              <a:solidFill>
                <a:srgbClr val="0066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4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장점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공유 데이터들이 공유 기억장치에 저장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별도의 프로세서간 통신 메커니즘의 불필요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태스크들을 프로세서들에게 균등 할당이 가능</a:t>
            </a:r>
            <a:br>
              <a:rPr sz="2000"/>
            </a:b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프로세서 이용률을 극대화 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시스템 효율 향상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14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0000"/>
                </a:solidFill>
                <a:latin typeface="굴림"/>
              </a:rPr>
              <a:t>단점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프로세서간 버스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혹은 상호연결망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통신량 증가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경합으로 인한 지연 발생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-5335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공유자원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I/O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장치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에 충돌 발생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99072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       </a:t>
            </a:r>
            <a:r>
              <a:rPr b="1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상호연결망의 고속화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캐쉬 기억장치의 사용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억장치 인터리빙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4T02:04:40Z</dcterms:created>
  <dc:creator/>
  <dc:description/>
  <dc:language>en-US</dc:language>
  <cp:lastModifiedBy>dwa2007</cp:lastModifiedBy>
  <dcterms:modified xsi:type="dcterms:W3CDTF">2009-06-23T07:33:05Z</dcterms:modified>
  <cp:revision>67</cp:revision>
  <dc:subject/>
  <dc:title>제2장. 병렬처리를 위한 하드웨어 기술</dc:title>
</cp:coreProperties>
</file>