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1AC-BC18-401E-A20F-6FD28EA2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07F4-0C66-4358-8358-E8EBC187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45A-E610-4746-8C6C-82F5481F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F30-4997-40B9-ABC5-29C365E2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C0E9-4B35-42C1-82F8-D98059C8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10B-8ABF-4F3F-B1E7-300ADFC3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269F-3698-4199-BD3D-832D16A5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4DEB-4B2C-4377-912C-D873886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1420-8573-4CF7-998A-03C62BEF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4650-C3BE-4898-8661-8C6CCDD5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68A2-9B12-4C88-8A59-8675C415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67AA-E827-4AB4-B7BF-89B587B4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97E1-D001-45DA-90AA-2EB26A53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B2F3-9A6C-4771-81C6-6F21CCBE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0FB-95CC-4734-A91E-A61CB960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FAAF-004E-48A0-9E8F-D6BA46FFE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920D-9C79-470B-90EE-0A95DC89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3C7-0FA9-423C-AAD4-D35F339D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B0C6-9C9A-4F06-A30D-BAF921D7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964-DE93-4A8E-B206-BC0930E9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CE4-3572-4921-B3D2-D6994FC8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F1D2-83BF-4776-A919-F421120B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DE8-EB15-4E96-AD60-B1E17165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E33-89EB-41B0-B357-1081EF3F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8D81-A3FB-4603-93B4-359987EC3DCE}" type="datetime3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2026년 7월 28일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D793-C53B-4F6F-AF8A-28A52339B90D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BA4-25FB-4AD0-AB71-0CC08AC06149}" type="datetime3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2026년 7월 28일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427F-D32D-45C7-9D79-0F2229549C53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oc.org/" TargetMode="External"/><Relationship Id="rId2" Type="http://schemas.openxmlformats.org/officeDocument/2006/relationships/hyperlink" Target="http://www.toc.org/" TargetMode="External"/><Relationship Id="rId3" Type="http://schemas.openxmlformats.org/officeDocument/2006/relationships/hyperlink" Target="http://www.toc.org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7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하드웨어와 데이터 웨어하우스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ong Soo P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jpark@cs.sungshin.ac.k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3BC-5977-4F10-B5FF-C0D0E6B8266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F6056-2403-447A-AEB7-CD68ABF491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2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지원하는 데이터베이스의 방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특정한 하드웨어에만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에 사용되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기능을 포함하는 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개방형 컴퓨터 기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하드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6E2D-85E4-495C-8070-8A19CB136A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3F75DC-8190-4224-BD13-839E3DF2777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titio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테이블의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(tuple)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수억 건 이상 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과 인덱스 파티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파티션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tatic partition and hash part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tar que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o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가 적은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부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여 최종적으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fact tab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과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join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하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구축시 꼭 필요하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72F5-79F0-4E21-9058-3EEDB4608F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96F30-EA80-4345-9E85-402747B799F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W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를 지원하는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DB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기능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Bitmap ind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빠르고 인덱스 테이블도 작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arallel Loading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한꺼번에 많은 데이터를 로딩할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Portable table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운영 시스템의 테이블을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버에서 바로 데이터베이스에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Loadable Table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범용 데이터베이스에 있는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018-D866-4330-AC4F-9E60A8125F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ABD39-46AE-463E-A462-745BC872B06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3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-D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벤치 마크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(Transaction Processing Performance Counc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1"/>
              </a:rPr>
              <a:t>www.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2"/>
              </a:rPr>
              <a:t>tpc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ea typeface="굴림"/>
                <a:hlinkClick r:id="rId3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TPC-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굴림"/>
              </a:rPr>
              <a:t> represents a broad range of decision support (DS) applications that require complex, long running queries against large complex data structures. (</a:t>
            </a:r>
            <a:r>
              <a:rPr b="0" i="1" lang="en-US" sz="2400" spc="-1" strike="noStrike">
                <a:solidFill>
                  <a:srgbClr val="3333cc"/>
                </a:solidFill>
                <a:latin typeface="Verdana"/>
                <a:ea typeface="굴림"/>
              </a:rPr>
              <a:t>Obsolete as of 4/6/99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0DA9-8862-4BA7-BD6E-3D9F65DF6D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A82E5-6AB7-4E35-97C2-E9D1D1D49F0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TPC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C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on-line transaction processing benchmark, Version 5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H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n ad-hoc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R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business reporting, decision support benchma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Verdana"/>
                <a:ea typeface="굴림"/>
              </a:rPr>
              <a:t>TPC-W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  <a:ea typeface="굴림"/>
              </a:rPr>
              <a:t> is a transactional web e-Commerce benchma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A35-C2D8-41D3-8F1C-979A42C1AEA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F6644-7402-442C-A6AC-5532AC34FC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제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7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장 하드웨어와 데이터베이스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데이터베이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TPC-D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벤치마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86DF-1E11-4726-B9BA-57B808B5A86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BB4A8-FF17-4AAF-ADDF-CE3C5082770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1.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데이터 웨어하우스와 하드웨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를 위한 하드웨어 기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강력한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 기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cal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시스템의 안정화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6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it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8D5-A7DA-403A-98F6-5A7599F648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464AE-5373-4B2C-8712-E2A2EFEBB8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MP(Symmetric Multi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emory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및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들은 서로 독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에 있는 프로그램과 데이터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hared bu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통해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공유 버스에서 충돌 현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해결방법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rossbar switch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사용하기 편리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수준에서 로드 분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디스크 액세스 시에 충돌이 일어나지 않는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835-B025-463D-83A4-79D956461C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555A6-0C72-452D-948E-9F042B199CE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(Massively Parallel Process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od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구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PU-Memory-Disk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 한조가 되어 운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노드마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베이스가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한 노드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처럼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여러 개의 노드로 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Internode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LAN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Mesh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ta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형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1B4-2954-4A80-98FF-47CC371B63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FE8A2-FBD5-4B96-B9C2-C9ACA4FC755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MP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지역성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locality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Local disk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액세스하는 것은 빠르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mote disk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액세스는 느리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지역성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노드간 데이터의 분산 정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좋다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로컬 디스크에 있는 데이터를 노드 내부에서 액세스하는 경우가 많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나쁘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격 디스크의 데이터를 자주 액세스한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분산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의 내용과 액세스 형태를 고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7DE1-1966-43BA-886A-04169A456C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F9DAE-3C9C-4DDF-9D5A-9746D74D20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NUMA(Non-Uniform Memory Acces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MP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장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NUMA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메모리를 공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프로그램과 데이터는 동일한 주소 환경에 존재하므로 지역성이 매우 강하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S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나 데이터베이스도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SM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처럼 하나만 존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D40-D101-4FBC-AA75-943E1D78F5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188BF-4C1F-4561-BC5A-D3B2915103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를 도입할 때 고려사항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 server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의 기능들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하드웨어의 아키텍처만 보고 속단 금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자사의 데이터 양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의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Update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주기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Access pattern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등을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여러 하드웨어를 비교 검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일반적인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하드웨어 선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Tahoma"/>
                <a:ea typeface="굴림"/>
              </a:rPr>
              <a:t>요건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 대한 면밀한 고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능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가격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안정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확장성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지원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교육 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8D7-87A7-48F6-A612-097A77CC2E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25B7C-6635-4B88-9BD2-B4AED3F648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하드웨어의 용량 산정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izing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디스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33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페이지 테이블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, 814% +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약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메모리 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보통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GB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이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PU 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량 산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요약 테이블을 생성시 시간이 많이 걸리는 경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에서 주기적으로 일어나는 중요한 프로세서들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tch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ta Warehou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96F-B658-4492-B9C3-D20DEED92B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0A74-9798-4153-82C0-ABA1BE2EB3F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dwa2007</cp:lastModifiedBy>
  <cp:lastPrinted>1999-09-10T20:38:56Z</cp:lastPrinted>
  <dcterms:modified xsi:type="dcterms:W3CDTF">2009-06-23T07:32:58Z</dcterms:modified>
  <cp:revision>237</cp:revision>
  <dc:subject/>
  <dc:title>제6장 데이터 웨어하우스의 관리</dc:title>
</cp:coreProperties>
</file>