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C1D-5DF3-471C-B261-F14D7701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56B-2B0E-474F-A584-EE505E82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8C16-6479-45D3-8CD7-C5EE121B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8F3-C1F7-4375-AC00-3880FCD0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A482-D7FE-4408-B2C3-A8595BA2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CF7-2121-4F42-9844-FC0A2BFC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7A5A-B571-4D66-8F7D-50E214BB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9C19-7057-4436-9F10-CFDEDF94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03AA-14AD-438C-9109-F0E7F2F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7230-7D4A-4998-A8FB-1CC5F88A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6B9B-D395-4AAA-8BA0-1DFE32D7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F58-E851-453E-B2BF-87D88C1A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EA7-F851-4ED6-8F24-40DA2ECF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7E7E-B54B-4918-8976-66DC6AB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6B34-9771-4E4F-8A26-5ADAF4D4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A6E-B36B-4D3B-A1F8-BE35829A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8837-0C75-49CF-A4DE-7867BB58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3A8-D2B0-402D-A7F0-D2A0BE1A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03A-2D0D-4FDA-88A8-06ACB3C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2F1-4791-492C-9EE0-EC6FD06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7A60-B5E3-46A2-8004-80705347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C81-F28C-4565-A531-D23A2BE8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F35-874F-435F-8159-C66B4FF7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960-876C-41D9-87C8-DAD92780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3912-F869-45C5-8591-E03075E1BC33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C5D-9A19-496E-8AE0-C2A4B2578C9B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8B4-299B-4D95-9BD3-E38ECBF19E7F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4EE7-780E-44A9-8257-4DFBE5558C14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77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 </a:t>
            </a:r>
            <a:br>
              <a:rPr sz="5400"/>
            </a:b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 —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굴림"/>
              </a:rPr>
              <a:t>Chapter 3 —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411444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Engineering L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chool of Computing Science and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ungshin Women’s University, Ko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9662-509E-4486-B2FA-546F34A03BA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E7B2D-2019-489F-B93C-6AB6271DC4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데이터의 상주 위치 및 계산 위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자 데이터 웨어하우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tomic data wareho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하나의 클라이언트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서버 응용 프로그램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t-client  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스타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응용 프로그램 서버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층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MDD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조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-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D08-8C91-4C2B-BBE5-BEFE9E3F13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63A72-6BCF-4D0C-9D91-BC055EBF150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품질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질을 보장하는 것은 가장 중요한 문제 중의 하나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I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불량 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관성 유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통합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들이 잠재적인 문제점을 인식한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본값과 같은 일관성 있는 정책 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344-958B-4B88-8A66-A747F5A8F7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A7DEE-0AF6-4B41-B8D5-D22FE380AC1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이주와 로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이주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를 초기화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그것을 갱신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드 과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전 처리 단계 포함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집계 수행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갱신시 수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5AC-F612-4E8C-B370-92B6E8E066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CF3C4-2160-46D0-92CE-FB1F99823DD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메타데이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터데이터 저장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있는 데이터의 다양한 양상을 설명하는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타데이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리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administrative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자 메터데이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nd-user meta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853-45CF-41EF-A80D-AF4F5D05254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6919E-9272-491A-8685-4CF5CBD78F3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관리하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리 관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process administr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 계획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저장 장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/O, CPU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안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백업 사본을 보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리관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갱신 처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워크플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2EB-DA34-4BDC-A8E0-119DED7FFB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D8327-A54F-4F40-BB94-CD1C219D6A9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데이터 스토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스토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저장소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존 트랜잭션 데이터베이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관계형 또는 비관계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트랜잭션 데이터베이스에서 얻은 사본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관계형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차원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사업 측정치의 세부 사항과 합계를 그러한 측정치의 속성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Fact and Dimens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다차원 분석을 위한 속도와 특별 연산자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E84-142E-4B75-B798-20327088758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F23EF-77A6-4F6D-A6AF-7B1F5AB92F6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웨어하우스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MS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성능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접근 최적자를 가지고 소프트웨어를 개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-ma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의 색인 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R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저장장치 구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맞게 재설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렬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M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병렬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7E1-C832-4B93-ACB1-D796CF94E3D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F215C-2F68-42A6-AA80-58AA86268FB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결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법과 기술의 집합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조직체 전체에 걸쳐 분산되었던 정보에 대한 최종 사용자 접근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성공 요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보 시스템 전문가들과 지식 노동자들의 헌신과 고된 작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훌륭한 웨어하우스의 이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비용 절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입 개선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만족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1878-190A-45D1-9D7A-91E8951447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76772-7AD3-4C42-98F3-6AA859AE22B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Chapter 3: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징에 대한 소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  <a:ea typeface="굴림"/>
              </a:rPr>
              <a:t>Management Information System since 1950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base Management Systems since 196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orporate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데이터베이스 관리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양한 응용 프로그램을 지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된 공통 데이터베이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C9F-6AC0-4074-8E93-208B40FE9F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8176E-1052-4BF1-BA58-AEFE3BCE064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의 사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표준 보고서와 그래프로 된 프리젠테이션을 위해 사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차원 분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mensional analysis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조회 및 보고 유형을 지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식 노동자가 점점 세부적으로 그리고 다른 차원 관점에서 조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마이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ata mining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이라는 흥미로운 새로운 기술을 가능케 하는 핵심적인 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1B0-F8DD-4D4C-A1D5-911AD2ED17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9014F-B9FE-4533-892A-7A5248F8943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대 트랜잭션 시스템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요건과 작동 특성에 있어서 극과 극의 대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목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 입력 등의 트랜잭션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과 같은 특정 주제에 관해 조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사용자 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백 명 – 수천 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많아야 이삼백 명 또는 백 명 이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규모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5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GB OLTP DB :: TB DW D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적은 수의 열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수 많은 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243E-224C-4666-9323-DBE15A4985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50FD77-4678-4FAA-901F-34BD5F65E86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333399"/>
              </a:solidFill>
              <a:latin typeface="Tahoma"/>
              <a:ea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 데이터를 간직하는 짧은 기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년 전까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갱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속적인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기적으로 일괄해서 갱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1E6-F3A1-4513-A3D2-3A35BE8ABC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16D74-66A6-4C98-8B66-84D0FB481AE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무엇이 데이터 웨어하우징을 어렵게 만드는가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관련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순전한 크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설계 문제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끊임없이 변화하는 요건에 적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 DB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변경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추가 되거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낡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ourc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삭제될 수 있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새로운 사용자 요구를 만족하도록 끊임없이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거 데이터뿐만 아니라 여러 출처에서 나온 데이터를 통합하는 문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35F-28EF-450C-B6FA-CF070DFF86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AF195-4940-44A5-AE30-C7E0324DA2C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성요소와 구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성요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소스 데이터에 접근하여 그것을 변형시키는 데이터 이주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설명하는 메타데이터 저장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신속한 데이터 접근을 제공하는 웨어하우스 데이터 스토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검색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형식화 및 분석을 위한 도구 모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웨어하우스 환경을 관리하기 위한 도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2E8B-B085-4E84-B733-1C7758B6B0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4F84D-3C86-4B0A-9CB7-35597F3A25E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기업 데이터 웨어하우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조직 전체에 걸쳐 있는 여러 가지 주제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고객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제품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판매량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부동산 또는 직원 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관한 모든 정보를 수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세분화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위 세트 또는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의 유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그림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-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리적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 데이터 마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996E-250C-4AC3-B8D7-136AC063C0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35A3A-8DA8-46DF-A099-1CA75B8492B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ata Warehouse Development: A Recommended Approa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6019920"/>
            <a:ext cx="77724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4120" y="6019920"/>
            <a:ext cx="63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efine a high-level corporate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3886200"/>
            <a:ext cx="12956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886200"/>
            <a:ext cx="108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62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886200"/>
            <a:ext cx="1295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886200"/>
            <a:ext cx="108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053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676520" y="464832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7528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3657600"/>
            <a:ext cx="19810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447920"/>
            <a:ext cx="243828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666880"/>
            <a:ext cx="0" cy="3353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676520" y="32000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200400" y="1980720"/>
            <a:ext cx="2057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895120" y="3200040"/>
            <a:ext cx="7621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477120" y="49528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00800" y="266688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1080" y="2209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Data M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6765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Tier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8680" y="373392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nterprise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533412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odel refi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C53-C40E-4351-A2E4-840BC8FC32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3A492-C6A0-4D78-AA70-BC3595F33D7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iawei Han</dc:creator>
  <dc:description/>
  <dc:language>en-US</dc:language>
  <cp:lastModifiedBy>박종수</cp:lastModifiedBy>
  <cp:lastPrinted>1999-09-10T20:38:56Z</cp:lastPrinted>
  <dcterms:modified xsi:type="dcterms:W3CDTF">2001-04-03T06:58:27Z</dcterms:modified>
  <cp:revision>200</cp:revision>
  <dc:subject/>
  <dc:title>No Slide Title</dc:title>
</cp:coreProperties>
</file>