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C8BE-DDC5-4C56-861F-BD306E50E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432576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ED3C-D414-461F-888D-A55BC3ED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1140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7201-4C4F-4147-8409-2CDF5BB40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3000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0316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3000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0316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E631-19F6-4948-9C52-C2F6AB7D0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7C53-124D-49F5-B289-019DE1182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6840" y="205704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5150-7119-42DB-9EE2-48A065FC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00E0-045A-4BF8-AA12-E0FC27C5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622A-38EE-4EDA-B1F7-F665CEAB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8A22-6A09-493D-B053-773E936B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218960" y="609480"/>
            <a:ext cx="771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8C8C-632A-4E53-BCB1-9FA4627A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296E-75B6-4A5F-B947-2B5F16B2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205704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CD39-3BEF-4719-920B-851CE981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1140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B83E-316E-4F85-A153-C7F9D0B6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6A19-7D6A-4DA7-BED8-4C89DFF3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6840" y="432576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07D1-B43E-4442-8030-9C52067F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1140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970C-2DF2-43CA-A2C5-D5F89930A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3000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03160" y="205704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684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3000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203160" y="4325760"/>
            <a:ext cx="2736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9136-E862-4274-9332-0A5754FD7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A3A0-EDCF-4E0E-B0D9-FB18E1F7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89FB-586E-4415-8CAA-5D697681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2CB4-6515-4BDB-BE5A-8FE2FB9F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18960" y="609480"/>
            <a:ext cx="7716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8AC5-2C82-4BA3-BB22-D19F04E5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E945-AEFC-465F-B190-2400F4C7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11400" y="432576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A0FE-C0B5-4A7C-95F9-3D742563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1400" y="2057040"/>
            <a:ext cx="414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325760"/>
            <a:ext cx="8497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50C5-E37D-45DC-BE28-B4DFB388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4400" y="1523880"/>
            <a:ext cx="368280" cy="4748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6840" y="205704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6416-64B4-469A-81E5-F98286240F5B}" type="datetime3">
              <a:rPr b="0" lang="ko-KR" sz="1200" spc="-1" strike="noStrike">
                <a:solidFill>
                  <a:srgbClr val="ffffff"/>
                </a:solidFill>
                <a:latin typeface="Tahoma"/>
                <a:ea typeface="굴림"/>
              </a:rPr>
              <a:t>2026년 7월 28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428640" y="6477120"/>
            <a:ext cx="2895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B0BE-E0BF-46DE-8DEC-CD2DEFFF50FD}" type="slidenum">
              <a:rPr b="0" lang="ko-KR" sz="1400" spc="-1" strike="noStrike">
                <a:solidFill>
                  <a:srgbClr val="ffffff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969696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E642-0AE0-47D9-82D6-30C915D05A75}" type="datetime3">
              <a:rPr b="0" lang="ko-KR" sz="1400" spc="-1" strike="noStrike">
                <a:solidFill>
                  <a:srgbClr val="969696"/>
                </a:solidFill>
                <a:latin typeface="Tahoma"/>
                <a:ea typeface="굴림"/>
              </a:rPr>
              <a:t>2026년 7월 28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969696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969696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969696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3669-8131-49C4-8050-1F8C44C30B33}" type="slidenum">
              <a:rPr b="0" lang="ko-KR" sz="1400" spc="-1" strike="noStrike">
                <a:solidFill>
                  <a:srgbClr val="969696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92320" y="655308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1067-45CE-49E9-9F78-0414A344C1D3}" type="slidenum">
              <a:rPr b="0" lang="ko-KR" sz="1400" spc="-1" strike="noStrike">
                <a:solidFill>
                  <a:srgbClr val="969696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914400"/>
            <a:ext cx="80773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  <a:ea typeface="굴림"/>
              </a:rPr>
              <a:t>Data Mining: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  <a:ea typeface="굴림"/>
              </a:rPr>
              <a:t>Concepts and Technique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— Slides for Textbook —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 — Chapter 1 —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4114440"/>
            <a:ext cx="83055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ahoma"/>
                <a:ea typeface="굴림"/>
              </a:rPr>
              <a:t>©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Jiawei Han and Micheline Kamb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ntelligent Database Systems Research La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chool of Computing Scienc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imon Fraser University, Cana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http://www.cs.sfu.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6BEE-C453-4967-9384-793D4355175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193FDA-78AA-4266-8E61-567F2321F3C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Market Analysis and Management (1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Where are the data sources for analysi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redit card transactions, loyalty cards, discount coupons, customer complaint calls, plus (public) lifestyle stud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Target marke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Find clusters of “model” customers who share the same characteristics: interest, income level, spending habits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etermine customer purchasing patterns over 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onversion of single to a joint bank account: marriage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Cross-market analy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ssociations/co-relations between product s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rediction based on the association inform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27E8-D81B-46BB-966B-7C4FBBD99AF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A6EF34-97E6-4B14-815F-686C7F1D123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Market Analysis and Management (2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Customer profi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 can tell you what types of customers buy what products (clustering or classificatio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dentifying customer requir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dentifying the best products for different custom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use prediction to find what factors will attract new custom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Provides summary inform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various multidimensional summary repor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statistical summary information (data central tendency and variatio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579B-B20A-4650-8262-578A1FC5004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F362D5-45DF-48F3-8CA3-E067DAC4A40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Corporate Analysis and Risk Managem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Finance planning and asset evalu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ash flow analysis and predi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ontingent claim analysis to evaluate asset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ross-sectional and time series analysis (financial-ratio, trend analysis, etc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Resource planning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summarize and compare the resources and spend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Competi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onitor competitors and market direction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group customers into classes and a class-based pricing proced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set pricing strategy in a highly competitive mark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1EFE-DCF6-415E-AE80-400871CFF07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C13C20-F71A-41C7-BDB0-A2030B8F4A6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Fraud Detection and Management (1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widely used in health care, retail, credit card services, telecommunications (phone card fraud)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pproa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use historical data to build models of fraudulent behavior and use data mining to help identify similar instan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uto insuranc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 detect a group of people who stage accidents to collect on insura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money launder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 detect suspicious money transactions (US Treasury's Financial Crimes Enforcement Network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medical insuranc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 detect professional patients and ring of doctors and ring of referen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CEA9-013A-4539-9BAA-38EBF6834D0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7EE380-7528-4D6C-8012-E39EACA559A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924680" cy="9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Fraud Detection and Management (2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etecting inappropriate medical treat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ustralian Health Insurance Commission identifies that in many cases blanket screening tests were requested  (save Australian $1m/yr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etecting telephone frau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Telephone call model: destination of the call, duration, time of day or week.  Analyze patterns that deviate from an expected nor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British Telecom identified discrete groups of callers with frequent intra-group calls, especially mobile phones, and broke a multimillion dollar frau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Reta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nalysts estimate that 38% of retail shrink is due to dishonest employe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FC90-E83D-4120-9BB5-61AE017D5D6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20D3E4-32A9-4D55-9B86-6A419460EC6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28800" y="533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Other Applica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por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BM Advanced Scout analyzed NBA game statistics (shots blocked, assists, and fouls) to gain competitive advantage for New York Knicks and Miami He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stronom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JPL and the Palomar Observatory discovered 22 quasars with the help of data mi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nternet Web Surf-A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BM Surf-Aid applies data mining algorithms to Web access logs for market-related pages to discover customer preference and behavior pages, analyzing effectiveness of Web marketing, improving Web site organization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A084-99C1-4117-825E-8D3FB5AC60F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CE0F0D-89A2-4F91-8706-FE7E99B15D8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: A KDD Proces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 mining: the core of knowledge discovery proce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219320" y="5105160"/>
            <a:ext cx="99036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781680" y="1599840"/>
            <a:ext cx="99072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05520" y="2666880"/>
            <a:ext cx="99036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276720" y="3733560"/>
            <a:ext cx="99036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5562720"/>
            <a:ext cx="685800" cy="1522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5638680"/>
            <a:ext cx="685800" cy="40644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5943600"/>
            <a:ext cx="685800" cy="1522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5943600"/>
            <a:ext cx="685800" cy="1522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6019920"/>
            <a:ext cx="685800" cy="40644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6324480"/>
            <a:ext cx="685800" cy="15264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5715000"/>
            <a:ext cx="685800" cy="1522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5791320"/>
            <a:ext cx="685800" cy="40644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6095880"/>
            <a:ext cx="685800" cy="15264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2760" y="4876920"/>
            <a:ext cx="174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Clea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96240" y="541008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Integr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71600" y="62485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b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4114800"/>
            <a:ext cx="19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 Wareh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62320" y="4572000"/>
            <a:ext cx="685800" cy="68580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19720" y="3429000"/>
            <a:ext cx="457200" cy="45720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77120" y="1981080"/>
            <a:ext cx="75960" cy="609840"/>
          </a:xfrm>
          <a:prstGeom prst="rect">
            <a:avLst/>
          </a:prstGeom>
          <a:solidFill>
            <a:srgbClr val="ff505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53080" y="2209680"/>
            <a:ext cx="76320" cy="381240"/>
          </a:xfrm>
          <a:prstGeom prst="rect">
            <a:avLst/>
          </a:prstGeom>
          <a:solidFill>
            <a:srgbClr val="3333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00800" y="2133720"/>
            <a:ext cx="76320" cy="457200"/>
          </a:xfrm>
          <a:prstGeom prst="rect">
            <a:avLst/>
          </a:prstGeom>
          <a:solidFill>
            <a:srgbClr val="00e4a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29400" y="2362320"/>
            <a:ext cx="76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2590920"/>
            <a:ext cx="685800" cy="75960"/>
          </a:xfrm>
          <a:prstGeom prst="rect">
            <a:avLst/>
          </a:prstGeom>
          <a:solidFill>
            <a:srgbClr val="00e4a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2362320"/>
            <a:ext cx="152280" cy="228600"/>
          </a:xfrm>
          <a:prstGeom prst="rect">
            <a:avLst/>
          </a:prstGeom>
          <a:solidFill>
            <a:srgbClr val="ff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086600" y="990720"/>
            <a:ext cx="174312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Knowledg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9" name=""/>
          <p:cNvSpPr/>
          <p:nvPr/>
        </p:nvSpPr>
        <p:spPr>
          <a:xfrm>
            <a:off x="2511000" y="3276720"/>
            <a:ext cx="228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Task-relevant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41760" y="405288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Sel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65280" y="2590920"/>
            <a:ext cx="15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imes New Roman"/>
                <a:ea typeface="굴림"/>
              </a:rPr>
              <a:t>Data Mi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54560" y="1676520"/>
            <a:ext cx="22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Pattern Evalu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124080"/>
            <a:ext cx="0" cy="21337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15200" y="2057400"/>
            <a:ext cx="0" cy="3200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962160" y="5257800"/>
            <a:ext cx="33526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962520" y="4343400"/>
            <a:ext cx="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15200" y="5257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286000" y="6095880"/>
            <a:ext cx="502920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1905120" y="5409720"/>
            <a:ext cx="380880" cy="6858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7400" y="5410080"/>
            <a:ext cx="160020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657600" y="4191120"/>
            <a:ext cx="0" cy="121896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2A03-7A58-4B99-9508-064A99CB7B7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8C6447-DF0F-460C-9A1D-207A1E6AFEA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57909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Steps of a KDD Proces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Learning the application domai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relevant prior knowledge and goals of applic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reating a target data set: data sele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e4a8"/>
                </a:solidFill>
                <a:latin typeface="Tahoma"/>
                <a:ea typeface="굴림"/>
              </a:rPr>
              <a:t>Data clean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and preprocessing: (may take 60% of effort!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e4a8"/>
                </a:solidFill>
                <a:latin typeface="Tahoma"/>
                <a:ea typeface="굴림"/>
              </a:rPr>
              <a:t>Data reduction and transformat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Find useful features, dimensionality/variable reduction, invariant representatio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hoosing functions of data min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summarization, classification, regression, association, clustering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hoosing the mining algorithm(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e4a8"/>
                </a:solidFill>
                <a:latin typeface="Tahoma"/>
                <a:ea typeface="굴림"/>
              </a:rPr>
              <a:t>Data min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 search for patterns of intere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e4a8"/>
                </a:solidFill>
                <a:latin typeface="Tahoma"/>
                <a:ea typeface="굴림"/>
              </a:rPr>
              <a:t>Pattern evaluation and knowledge presen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visualization, transformation, removing redundant patterns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Use of discovered knowled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9D93-0AFF-42F9-BCA4-80BFAED8952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C0B77B-3013-4D8D-8D5C-5AB3483C977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Data Mining and Business Intelligenc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1447920"/>
            <a:ext cx="7467480" cy="5029200"/>
          </a:xfrm>
          <a:prstGeom prst="flowChartExtra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5867280"/>
            <a:ext cx="655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76520" y="5257800"/>
            <a:ext cx="5638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09680" y="4495680"/>
            <a:ext cx="457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3733920"/>
            <a:ext cx="3352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289548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533520" y="1447920"/>
            <a:ext cx="0" cy="5029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839080" y="1447920"/>
            <a:ext cx="0" cy="5029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7960" y="1509840"/>
            <a:ext cx="1911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Increasing poten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to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business decis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50440" y="1955880"/>
            <a:ext cx="99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End 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754400" y="2946240"/>
            <a:ext cx="94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Busin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Analy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843320" y="3784680"/>
            <a:ext cx="84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Analy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103600" y="568944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굴림"/>
              </a:rPr>
              <a:t>DB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3960" y="20574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Mak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ecis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58680" y="2998800"/>
            <a:ext cx="19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Pres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77440" y="3352680"/>
            <a:ext cx="25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Visualization Techniq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71440" y="377208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Mi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2360" y="403848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Information Discov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57600" y="4572000"/>
            <a:ext cx="1889280" cy="368280"/>
          </a:xfrm>
          <a:prstGeom prst="rect">
            <a:avLst/>
          </a:prstGeom>
          <a:noFill/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Explo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7280" y="556272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OLAP, M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61240" y="4800600"/>
            <a:ext cx="43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Statistical Analysis, Querying and Report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8480" y="5257800"/>
            <a:ext cx="32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Warehouses / Data Mar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11680" y="586728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Sour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96600" y="6095880"/>
            <a:ext cx="605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Paper, Files, Information Providers, Database Systems, OL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6477120"/>
            <a:ext cx="8381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CEF2-A91A-457E-8861-ABC70A76F63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5C9B09-B916-45BF-8A11-DD8FE787C35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Architecture of a Typical Data Mining Syste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3200400" y="5486400"/>
            <a:ext cx="91440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00400" y="533412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52880" y="6172200"/>
            <a:ext cx="129564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52880" y="5486400"/>
            <a:ext cx="129564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52880" y="5334120"/>
            <a:ext cx="1295640" cy="30456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76920" y="556272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Wareh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257800" y="4038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4038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19920" y="380988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3276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4120" y="3276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57600" y="49528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9528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5029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cleaning &amp; data integ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62720" y="49528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Filte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617220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5486400"/>
            <a:ext cx="91440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533412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617220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90920" y="5791320"/>
            <a:ext cx="13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b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43200" y="49528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4343400"/>
            <a:ext cx="3504960" cy="68580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4343400"/>
            <a:ext cx="26672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base or data warehouse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3505320"/>
            <a:ext cx="3505320" cy="53316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Data mining eng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90920" y="2666880"/>
            <a:ext cx="3504960" cy="60984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Pattern eval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14600" y="1752480"/>
            <a:ext cx="3657600" cy="60984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Graphical user 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52680" y="23623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7672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4120" y="23623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14479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5880" y="2971800"/>
            <a:ext cx="106704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3200400"/>
            <a:ext cx="990720" cy="3808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162920" y="3124080"/>
            <a:ext cx="914400" cy="83844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297180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3809880"/>
            <a:ext cx="914400" cy="38124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53080" y="4114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Knowledge-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A3E9-C021-47C4-8BF8-2CF79A0BCF4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066611-EE6D-4BE1-8730-91827F90DAC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3049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Acknowledgemen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This work on this set of slides started with my (Han’s) tutorial for UCLA Extension course in February 199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r. 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  <a:ea typeface="굴림"/>
              </a:rPr>
              <a:t>Hongjun L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from Hong Kong Univ. of Science and Technology taught jointly with me a Data Mining Summer Course in Shanghai, China in July 1998.  He has contributed many excellent slides to 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ome graduate students have contributed many new slides in the following years.  Notable contributors include 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  <a:ea typeface="굴림"/>
              </a:rPr>
              <a:t>Eugene Belchev, Jian Pe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, and </a:t>
            </a:r>
            <a:r>
              <a:rPr b="0" lang="en-US" sz="2400" spc="-1" strike="noStrike">
                <a:solidFill>
                  <a:srgbClr val="ffcf01"/>
                </a:solidFill>
                <a:latin typeface="Tahoma"/>
                <a:ea typeface="굴림"/>
              </a:rPr>
              <a:t>Osmar R. Zaia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(now teaching in Univ. of Albert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A79B-1C6A-4B43-9F54-881C99C0B91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1FA00B-9641-4C8E-93AC-40DEEFEA4D7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: On What Kind of Data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Relational datab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ata warehou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Transactional datab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dvanced DB and information reposito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bject-oriented and object-relational datab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Spatial datab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Time-series data and temporal d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Text databases and multimedia datab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Heterogeneous and legacy datab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DDB4-5372-40AB-BC1B-D5D19F146BB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133352-F509-4837-9207-2489E6350C0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52120" y="685440"/>
            <a:ext cx="6496200" cy="63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 Functionalities (1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Concept description: Characterization and discrimin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Generalize, summarize, and contrast data characteristics, e.g., dry vs. wet reg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ssoci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correlation and causalit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Multi-dimensional vs. single-dimensional associa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ge(X, “20..29”) ^ income(X, “20..29K”)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buys(X, “PC”) [support = 2%, confidence = 60%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contains(T, “computer”)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contains(x, “software”) [1%, 75%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D662-3226-42CE-9CD4-72E1A37CEC1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F5EE69-24F2-46FC-ADB1-4BB78BE74FD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39800" y="700200"/>
            <a:ext cx="6664320" cy="63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 Functionalities (2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Classification and Predict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Finding models (functions) that describe and distinguish classes or concepts for future predi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.g., classify countries based on climate, or classify cars based on gas mile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resentation: decision-tree, classification rule, neural netwo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rediction: Predict some unknown or missing numerical valu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Cluster analy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lass label is unknown: Group data to form new classes, e.g., cluster houses to find distribution patter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lustering based on the principle: maximizing the intra-class similarity and minimizing the interclass similar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ACE8-E621-40DC-A750-4AC82F43529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287955-AC8E-479C-9079-15AB8CF52B8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39800" y="700200"/>
            <a:ext cx="6664320" cy="63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 Functionalities (3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utlier analy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Outlier: a data object that does not comply with the general behavior of the da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It can be considered as noise or exception but is quite useful in fraud detection, rare events analys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Trend and evolution analy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Trend and deviation:  regression analy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Sequential pattern mining, periodicity analy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Similarity-based analy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ther pattern-directed or statistical analy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849C-B50A-4CDE-BDAD-B627BBBB7E2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71B8A2-72BE-4F84-96BE-6C6F2D09FDF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Are All the “Discovered” Patterns Interesting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3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 data mining system/query may generate thousands of patterns, not all of them are interest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3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Suggested approach: Human-centered, query-based, focused min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3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Interestingness measur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: A pattern is </a:t>
            </a:r>
            <a:r>
              <a:rPr b="0" lang="en-US" sz="2000" spc="-1" strike="noStrike">
                <a:solidFill>
                  <a:srgbClr val="ff5050"/>
                </a:solidFill>
                <a:latin typeface="Tahoma"/>
                <a:ea typeface="굴림"/>
              </a:rPr>
              <a:t>interest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if it i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easily understoo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by humans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valid on new or test dat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with some degree of certainty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potentially usefu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novel, or validates some hypothesi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that a user seeks to confirm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3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bjective vs. subjective interestingness measur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3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bjective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 based on statistics and structures of patterns, e.g., support, confidence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3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Subjective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 based on user’s belief in the data, e.g., unexpectedness, novelty, actionability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1A0D-3542-4986-B37B-EBB3F55F912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03AC3D-E2F4-4871-9097-B7EBAE2D764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Can We Find All and Only Interesting Patterns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Find all the interesting patterns: Completen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an a data mining system find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l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the interesting pattern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ssociation vs. classification vs. cluster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Search for only interesting patterns: Optimiz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an a data mining system find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onl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the interesting pattern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pproach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First general all the patterns and then filter out the uninteresting on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Generate only the interesting patterns—mining query optimiz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4985-9929-47FD-8788-1F278C483BB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B4EC0C-E842-4338-80F2-93383A2C35C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74678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: Confluence of Multiple Discipline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3429000" y="3429000"/>
            <a:ext cx="2209680" cy="914400"/>
          </a:xfrm>
          <a:prstGeom prst="rect">
            <a:avLst/>
          </a:prstGeom>
          <a:solidFill>
            <a:srgbClr val="ffcf0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Data Mi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52480" y="1905120"/>
            <a:ext cx="1981440" cy="76176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ba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05520" y="1905120"/>
            <a:ext cx="1981080" cy="76176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tatis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38680" y="5257800"/>
            <a:ext cx="1981440" cy="76212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iscip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71600" y="5181480"/>
            <a:ext cx="1981080" cy="76212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ci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3505320"/>
            <a:ext cx="1981440" cy="76176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Mach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Lear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505320"/>
            <a:ext cx="1981440" cy="761760"/>
          </a:xfrm>
          <a:prstGeom prst="rect">
            <a:avLst/>
          </a:prstGeom>
          <a:solidFill>
            <a:srgbClr val="00e4a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Visual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362320" y="3886200"/>
            <a:ext cx="10666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95480" y="2666880"/>
            <a:ext cx="1295640" cy="7621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876560" y="2666880"/>
            <a:ext cx="1143000" cy="7621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714640" y="3886200"/>
            <a:ext cx="10666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5028840" y="4419720"/>
            <a:ext cx="152388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438280" y="4419720"/>
            <a:ext cx="1600200" cy="761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8300-52BF-469D-8910-4796C280513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A9A421-3DFF-497D-8B46-1166BE12CDA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Data Mining: Classification Schem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General function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escriptive data min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Predictive data mi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굴림"/>
              </a:rPr>
              <a:t>Different views, different classifi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Kinds of databases to be min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Kinds of knowledge to be discove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Kinds of techniques utiliz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Kinds of applications adap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7285-7831-4C39-AD53-7F01354D238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1C996E-A0D1-4E97-B7C7-AC92E0F5A65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A Multi-Dimensional View of Data Mining Classific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atabases to be min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Relational, transactional, object-oriented, object-relational, active, spatial, time-series, text, multi-media, heterogeneous, legacy, WWW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Knowledge to be min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haracterization, discrimination, association, classification, clustering, trend, deviation and outlier analysis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ultiple/integrated functions and mining at multiple leve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Techniques utiliz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base-oriented, data warehouse (OLAP), machine learning, statistics, visualization, neural network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pplications adap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Retail, telecommunication, banking, fraud analysis, DNA mining, stock market analysis, Web mining, Weblog analysis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A9FA-84E8-4E2D-83CD-7A76FBE0B5A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777459-BBC5-496E-9118-3E097BAB657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OLAP Mining: An Integration of Data Mining and Data Warehous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 mining systems, DBMS, Data warehouse systems coup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No coupling, loose-coupling, semi-tight-coupling, tight-coupl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On-line analytical mining d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ntegration of mining and OLAP technolog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nteractive mining multi-level knowled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Necessity of mining knowledge and patterns at different levels of abstraction by drilling/rolling, pivoting, slicing/dicing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2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Integration of multiple mining fun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2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haracterized classification, first clustering and then associ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3A5C-926C-4DCA-B553-743352256A9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0B1201-E7E6-4249-9CF7-175DEFCFD5F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169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PMingLiU"/>
              </a:rPr>
              <a:t>CMPT-459-00.3 Course Schedu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1. Introduction {W1:L2, L3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2. Data warehousing and OLAP technology for data mining {W2:L1-3, W3:L1-2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Homework # 1 distribution (SQLServer7.0+ DBMiner2.0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3. Data preprocessing {W3:L3, W4: L1-L2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4. Data mining primitives, languages and system architectures  {W4: L3, W5: L1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Homework #1 due, homework #2 distribu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5. Concept description: Characterization and comparison  {W5: L2, L3, W6: L2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W6:L1 Thanksgiving Da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6. Mining association rules in large databases  {W6: L3, W7: L1-3, W8: L2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Midterm {W8: L2}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7. Classification and prediction {W8:L3, W9: L1-L3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8. Clustering analysis  {W10: L1-L3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W10: L3 Homework #2 du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9. Mining complex types of data {W11: L2-L3, W12:L1-L3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W11:L1 Remembrance Day, W12:L3 Course project du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Chapter 10. Data mining applications and trends in data mining {W13: L1-L3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Final Exam (W14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9548-C914-4A50-855B-61C00EE9861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D22784-92E4-467F-A8C5-F13E16C554E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467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An OLAM Architectu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5715000" y="4495680"/>
            <a:ext cx="685800" cy="22860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15000" y="4114800"/>
            <a:ext cx="685800" cy="1522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15000" y="4191120"/>
            <a:ext cx="685800" cy="40644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886200"/>
            <a:ext cx="1143000" cy="10666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81080" y="5791320"/>
            <a:ext cx="91440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81080" y="5638680"/>
            <a:ext cx="914400" cy="38124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6477120"/>
            <a:ext cx="129564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952880" y="5791320"/>
            <a:ext cx="129564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952880" y="5638680"/>
            <a:ext cx="1295640" cy="30492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76920" y="586728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Wareh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62720" y="4648320"/>
            <a:ext cx="133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Meta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352680" y="4114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굴림"/>
              </a:rPr>
              <a:t>MDD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4724280" y="4343040"/>
            <a:ext cx="838440" cy="2286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43000" y="1676520"/>
            <a:ext cx="5715000" cy="7596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3505320"/>
            <a:ext cx="5715000" cy="7596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2057400"/>
            <a:ext cx="2514600" cy="10666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굴림"/>
              </a:rPr>
              <a:t>OL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굴림"/>
              </a:rPr>
              <a:t>Eng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76920" y="2057400"/>
            <a:ext cx="2514600" cy="10666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굴림"/>
              </a:rPr>
              <a:t>OL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굴림"/>
              </a:rPr>
              <a:t>Eng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2362320" y="3657600"/>
            <a:ext cx="91440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2133360" y="3809880"/>
            <a:ext cx="106668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876920" y="3657600"/>
            <a:ext cx="60948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952880" y="3657240"/>
            <a:ext cx="990720" cy="6094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600200" y="3124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33720" y="3124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67280" y="3124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553080" y="31240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200400" y="2438280"/>
            <a:ext cx="1600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743200"/>
            <a:ext cx="160020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523880" y="1752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09680" y="1752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15000" y="1752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77120" y="17524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95480" y="1676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User GUI A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46680" y="3124080"/>
            <a:ext cx="185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 Cube A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95280" y="5181480"/>
            <a:ext cx="5715000" cy="7632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438280" y="5257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62720" y="5257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2438280" y="4647960"/>
            <a:ext cx="91440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 flipV="1">
            <a:off x="4495320" y="4800600"/>
            <a:ext cx="68580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22640" y="5181480"/>
            <a:ext cx="16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base A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95480" y="6248520"/>
            <a:ext cx="2057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6720" y="617220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01480" y="5867280"/>
            <a:ext cx="15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clea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048120" y="62485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integ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8600" y="3581280"/>
            <a:ext cx="86104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8600" y="5181480"/>
            <a:ext cx="86104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600" y="1676520"/>
            <a:ext cx="86104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238880" y="2057400"/>
            <a:ext cx="1905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굴림"/>
              </a:rPr>
              <a:t>Layer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OLAP/OL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38880" y="3886200"/>
            <a:ext cx="1905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굴림"/>
              </a:rPr>
              <a:t>Layer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MDD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238880" y="5562720"/>
            <a:ext cx="19051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굴림"/>
              </a:rPr>
              <a:t>Layer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Data Reposit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238880" y="838080"/>
            <a:ext cx="1905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굴림"/>
              </a:rPr>
              <a:t>Layer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굴림"/>
              </a:rPr>
              <a:t>User 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876920" y="14479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876920" y="14479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6477120" y="11426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52578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Filtering&amp;Integ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562720" y="52578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Filte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981080" y="647712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066680" y="5791320"/>
            <a:ext cx="914400" cy="838080"/>
          </a:xfrm>
          <a:prstGeom prst="rect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066680" y="5638680"/>
            <a:ext cx="914400" cy="38124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66680" y="6477120"/>
            <a:ext cx="914400" cy="38088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71600" y="6095880"/>
            <a:ext cx="13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Datab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523880" y="5257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23880" y="14479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14479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1523880" y="12952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80880" y="8380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Mining qu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10080" y="8380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굴림"/>
              </a:rPr>
              <a:t>Mining resu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095880" y="3657600"/>
            <a:ext cx="228600" cy="4572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23B2-1147-4667-B83D-18EF6A977AC3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B15AE6-4E79-4AE0-A15C-6531D77975D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Major Issues in Data Mining (1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Mining methodology and user intera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ining different kinds of knowledge in datab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nteractive mining o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knowledge at multiple levels of abstra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ncorporation of background knowled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 query languages and ad-hoc data mi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xpression and visualization of data mining resul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Handling noise and incomplete da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attern evaluation: the interestingness probl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Performance and scala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fficiency and scalability of data mining algorith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arallel, distributed and incremental mining metho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B915-0CFD-4098-8A7F-D7CB21E9FF7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B9F3B6-372D-4B3E-B319-DEB6B666358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47920" y="609480"/>
            <a:ext cx="73152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Major Issues in Data Mining (2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Issues relating to the diversity of data typ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Handling relational and complex types of da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ining information from heterogeneous databases and global information systems (WWW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Issues related to applications and social impa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pplication of discovered knowled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omain-specific data mining too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ntelligent query answer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rocess control and decision mak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Integration of the discovered knowledge with existing knowledge: A knowledge fusion probl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Protection of data security, integrity, and privac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425A-68DE-4019-A677-CD5254F2692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EACD09-6ED9-48FB-BDF8-594EFF6AE0B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23880" y="837720"/>
            <a:ext cx="3276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: discovering interesting patterns from large amounts of da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 natural evolution of database technology, in great demand, with wide applic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 KDD process includes data cleaning, data integration, data selection, transformation, data mining, pattern evaluation, and knowledge presen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ining can be performed in a variety of information repositor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 functionalities: characterization, discrimination, association, classification, clustering, outlier and trend analysis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Classification of data mining syst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Major issues in data mi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714C-FECD-41E9-8EC5-7F4E94514E6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F7D0C6-FDCE-49F4-8A82-A955DB9F324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A Brief History of Data Mining Socie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1989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IJCAI Workshop on Knowledge Discovery in Databases (Piatetsky-Shapiro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Knowledge Discovery in Databases (G. Piatetsky-Shapiro and W. Frawley, 1991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1991-1994 Workshops on Knowledge Discovery in Datab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Advances in Knowledge Discovery and Data Mining (U. Fayyad, G. Piatetsky-Shapiro, P. Smyth, and R. Uthurusamy, 1996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1995-1998 International Conferences on Knowledge Discovery in Databases and Data Mining (KDD’95-98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Journal of Data Mining and Knowledge Discovery (1997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1998 ACM SIGKDD, SIGKDD’1999-2001 conferences, and SIGKDD Explor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More conferences on data mi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PAKDD, PKDD, SIAM-Data Mining, (IEEE) ICDM, et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6372-EA06-4196-84CD-878E741E9CE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38AF1A-511A-4A6A-A014-85C58A490DB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23880" y="685800"/>
            <a:ext cx="7010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Where to Find References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ata mining and KDD (SIGKDD member CDROM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Conference proceedings: KDD, and others, such as PKDD, PAKDD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Journal: Data Mining and Knowledge Discove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atabase field (SIGMOD member CD ROM)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Conference proceedings: ACM-SIGMOD, ACM-PODS, VLDB, ICDE, EDBT, DASFA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Journals: ACM-TODS, J. ACM, IEEE-TKDE, JIIS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AI and Machine Learning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Conference proceedings: Machine learning, AAAI, IJCAI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Journals: Machine Learning, Artificial Intelligence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Statistic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Conference proceedings: Joint Stat. Meeting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Journals: Annals of statistics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Visualizatio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Conference proceedings: CHI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Journals: IEEE Trans. visualization and computer graphics, et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C953-B9A7-400A-9D22-BCAB94C1C79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07F323-B994-4E79-B15C-17F02DD68EA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99760" y="609480"/>
            <a:ext cx="7155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Referenc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U. M. Fayyad, G. Piatetsky-Shapiro, P. Smyth, and R. Uthurusamy. Advances in Knowledge Discovery and Data Mining. AAAI/MIT Press, 1996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J. Han and M. Kamber. Data Mining: Concepts and Techniques. Morgan Kaufmann, 2000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T. Imielinski and H. Mannila. A database perspective on knowledge discovery. Communications of ACM, 39:58-64, 1996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G. Piatetsky-Shapiro, U. Fayyad, and P. Smith. From data mining to knowledge discovery: An overview. In U.M. Fayyad, et al. (eds.), Advances in Knowledge Discovery and Data Mining, 1-35. AAAI/MIT Press, 1996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G. Piatetsky-Shapiro and W. J. Frawley. Knowledge Discovery in Databases. AAAI/MIT Press, 1991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F083-B2FE-4F7B-B3FB-F3826E0E34E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A1ABE1-8865-4680-BDCC-D7E76A2D0EC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3310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굴림"/>
              </a:rPr>
              <a:t>http://www.cs.sfu.ca/~h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120" y="54097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5050"/>
                </a:solidFill>
                <a:latin typeface="Arial"/>
                <a:ea typeface="굴림"/>
              </a:rPr>
              <a:t>Thank you !!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2590920" y="1219320"/>
          <a:ext cx="418932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219320"/>
                    <a:ext cx="418932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EFF4-CEFC-4674-A245-F2E081ED4AD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A00653-36AF-4715-99F3-F67839F9BAC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71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PMingLiU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PMingLiU"/>
              </a:rPr>
              <a:t>CMPT-843 Course Arrangem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  <a:ea typeface="PMingLiU"/>
              </a:rPr>
              <a:t>1st week: full instructor teach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  <a:ea typeface="PMingLiU"/>
              </a:rPr>
              <a:t>2nd to 11th week: 1/2 graduate student + 1/2 instructor teach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  <a:ea typeface="PMingLiU"/>
              </a:rPr>
              <a:t>12-13th week: full student graduate project present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  <a:ea typeface="PMingLiU"/>
              </a:rPr>
              <a:t>Course evaluatio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presentation (quality of presentation slides 7% + presentation 8%) 15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midterm exam 35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project (presentation 5% + report 25%)  total 30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homework  (2): 20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Tahoma"/>
                <a:ea typeface="PMingLiU"/>
              </a:rPr>
              <a:t>Deadline for the selection of your work in the semester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selection of course presentation: at the end of the 1st wee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selection of the course project: at the end of the 3rd wee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project proposal due date: at the end of the 4th wee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homework due dates: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project due date: end of the semes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Your presentation slides due date: one day before the presenta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Tahoma"/>
                <a:ea typeface="PMingLiU"/>
              </a:rPr>
              <a:t>midterm date: end of the 8th wee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E697-6AF3-418B-A19A-ED6531E3270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22270E-C71A-4707-95D3-0E38C4B2226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Where to Find the Set of Slide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8153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Tutorial sections (MS PowerPoint files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http://www.cs.sfu.ca/~han/dmboo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Other conference presentation slides (.ppt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http://db.cs.sfu.ca/ or http://www.cs.sfu.ca/~h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Research papers, DBMiner system, and other related information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http://db.cs.sfu.ca/ or http://www.cs.sfu.ca/~h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2001-9A16-4E92-BC40-E1CF6677B9F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0037D5-1F69-41E4-B05E-B5F7D19F058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  <a:ea typeface="굴림"/>
              </a:rPr>
              <a:t>Chapter 1.  Introdu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Motivation: Why data mini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What is data mini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 Mining: On what kind of dat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 mining functiona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re all the patterns interesti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Classification of data mining syste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6178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Major issues in data mi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1A35-9C7B-470B-9991-5F3D72A6C1A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D73F6-217B-4BC4-B518-EBBABBE300C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Motivation:  “Necessity is the Mother of Invention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Data explosion proble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5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Automated data collection tools and mature database technology lead to tremendous amounts of data stored in databases, data warehouses and other information repositories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5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We are drowning in data, but starving for knowledge!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5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  <a:ea typeface="굴림"/>
              </a:rPr>
              <a:t>Solution: Data warehousing and data mi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5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Data warehousing and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on-line analytical process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15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xtraction of interesting knowledge (rules, regularities,  patterns, constraints) from data in large datab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53EB-5935-482A-8AFF-1CF1A8037A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16EF4E-3604-4BCB-BC54-5B63D29D02F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920" y="53352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Evolution of Database Technology</a:t>
            </a:r>
            <a:br>
              <a:rPr sz="3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(See Fig. 1.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Tahoma"/>
                <a:ea typeface="굴림"/>
              </a:rPr>
              <a:t>196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collection, database creation, IMS and network DB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1970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Relational data model, relational DBMS implemen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1980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RDBMS, advanced data models (extended-relational, OO, deductive, etc.) and application-oriented DBMS (spatial, scientific, engineering, etc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1990s—2000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 and data warehousing, multimedia databases, and Web datab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6C40-548B-42E8-8698-0B2AA9DA3C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7582FF-0F68-4BF2-BE56-A8D9DAC88CA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58640" y="699840"/>
            <a:ext cx="7507080" cy="80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What Is Data Mining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Data mining (knowledge discovery in databases):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xtraction of interesting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  <a:ea typeface="굴림"/>
              </a:rPr>
              <a:t>(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non-trivial,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implicit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previously unknown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potentially useful)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nformation or patterns from data in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Tahoma"/>
              </a:rPr>
              <a:t>large datab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Alternative names and their “inside stories”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 mining: a misnomer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Knowledge discovery(mining) in databases (KDD), knowledge extraction, data/pattern analysis, data archeology, data dredging, information harvesting, business intelligence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굴림"/>
              </a:rPr>
              <a:t>What is not data mini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(Deductive) query processing.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Expert systems or small ML/statistical progra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772400" y="228600"/>
            <a:ext cx="1087560" cy="1174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238880" y="4932360"/>
            <a:ext cx="1905120" cy="13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56DA-599D-4E17-9B77-43DD4479EB4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6A5CF6-285F-4DCA-8DF9-E7C609B2384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굴림"/>
              </a:rPr>
              <a:t>Why Data Mining? — Potential Applica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Database analysis and decision suppor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2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Market analysis and manage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target marketing, customer relation management,  market basket analysis, cross selling, market segmen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2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Risk analysis and manage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Forecasting, customer retention, improved underwriting, quality control, competitive analy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2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Fraud detection and manage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120000"/>
              </a:lnSpc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굴림"/>
              </a:rPr>
              <a:t>Other Applic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2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Text mining (news group, email, documents) and Web analysi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120000"/>
              </a:lnSpc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굴림"/>
              </a:rPr>
              <a:t>Intelligent query answer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Mining: Concepts and Techniqu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49A7-510B-4185-8E63-B88F1B0C047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A00B4E-F011-4180-B6B4-D6CC5A6C9D1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1T22:01:55Z</dcterms:created>
  <dc:creator>Jiawei Han</dc:creator>
  <dc:description/>
  <dc:language>en-US</dc:language>
  <cp:lastModifiedBy>Jong Soo Park</cp:lastModifiedBy>
  <cp:lastPrinted>2000-06-01T21:00:25Z</cp:lastPrinted>
  <dcterms:modified xsi:type="dcterms:W3CDTF">2002-05-14T02:30:51Z</dcterms:modified>
  <cp:revision>167</cp:revision>
  <dc:subject/>
  <dc:title>Mining Frequent Patterns Without Candidate Generation</dc:title>
</cp:coreProperties>
</file>