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78A9-A576-4E8C-8847-07AA22E74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6A63-DC07-4033-BB28-9FD070BC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68B1-5B1A-4F02-994D-9ED583422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342B-0680-4223-BFE0-5590E50C1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DFC5-B067-4FC0-A46B-0DE9FB186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95AD-AF88-4644-B79F-7DB1C4D6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41BB-BACD-4834-B4B2-2B5A2EBC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D40D-DBF4-45BF-8875-48D8E1B6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0162-8A39-4B0B-BE7E-2EEB0245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EEAE-B757-48DA-98AB-DBBE601C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6AE5-765E-4539-A82B-2B9F5A68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896E-BAAB-4198-BF48-B23DF7C2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2170-16BF-46EA-B7EC-DAA81D46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CA0F-F542-48B6-8D71-5FFCF001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BAEB-7080-4C7E-9311-FE9160DE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D243-3E70-40FA-AA84-2E7241360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656C-BFEF-4572-B3E7-D0C2BAB0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731F-5FEE-42D2-BF80-80D2860C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EE13-88BA-4288-A18F-C3F9E702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C189-ECD2-4EF8-8316-76719C16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47A3-3E58-4A7E-B7B0-A47DF711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3AEC-A5C1-4302-B251-7111450D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D93D-F0A7-459D-9E23-9F9ADE17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1699-65C1-42AB-9CAB-0FAACB4A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B654-8B3B-40E3-8EDE-77DBA43F8D35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28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6144-842C-4C83-9185-E95B0BF22555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9E4D-CB21-462D-9937-76A380F4700C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28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9ED9-D655-4B96-AFC0-19EA20993478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개발 전략 </a:t>
            </a:r>
            <a:br>
              <a:rPr sz="5400"/>
            </a:b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 —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Chapter 4 —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411444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©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Engineering L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chool of Computing Science and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ungshin Women’s University, Ko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4F3D-C3F7-44F1-B338-FC40FEAC767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D8764D-CE02-4537-9E62-26FF075DB38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3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조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그림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4-4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핵심 구성 요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모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변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 저장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사 결정 지원 응용 프로그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관리 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최종 사용자 의사 결정 지원 도구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 workst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A40E-062B-422C-B4B1-F8368A0B083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060E1D-2342-43F5-AC5B-2BEF2BEA5A3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4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기술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기술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플랫폼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과 관련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ool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요건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념 증명 프로젝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 기술이 데이터 웨어하우징에 적합한지를 확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기술 범주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1" action="ppaction://hlinksldjump"/>
              </a:rPr>
              <a:t>그림 4-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술 플랫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드웨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프트웨어 그리고 통신 네트워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련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관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생산성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최종사용자 의사 결정 지원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 저장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6D3D-7A8D-4B19-8947-B8C2A8B3200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A825A7-D944-45BA-BD4D-F4ABA0B65E01}" type="datetime3">
              <a:rPr lang="en-US"/>
              <a:t>July 28, 20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457200" y="1523880"/>
          <a:ext cx="8381880" cy="5024520"/>
        </p:xfrm>
        <a:graphic>
          <a:graphicData uri="http://schemas.openxmlformats.org/drawingml/2006/table">
            <a:tbl>
              <a:tblPr/>
              <a:tblGrid>
                <a:gridCol w="2057040"/>
                <a:gridCol w="2667240"/>
                <a:gridCol w="1752480"/>
                <a:gridCol w="1905120"/>
              </a:tblGrid>
              <a:tr h="69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플랫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웨어하우스 관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최종 사용자 도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서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모델링과 데이터베이스의 정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특별조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 저장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운영체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리엔니지니어링과 클리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관리조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DB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추출과 변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다차원 분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응용프로그램 서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운영과 성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마이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네트워크 프로토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의사결정지원 응용프로그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워크스테이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시스템 유틸리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1447920" y="457200"/>
            <a:ext cx="6476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1" action="ppaction://hlinksldjump"/>
              </a:rPr>
              <a:t>그림 4-5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기술 범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B080-8A7F-4D1D-A9B8-B0369BEE6FFD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56687C-579F-4123-820D-442B98D9952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5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조직체 요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팀을 조직체 내의 배치 위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보 시스템 조직과 업무 사용자 조직의 역할과 책임 명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그림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4-6 :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굴림"/>
              </a:rPr>
              <a:t>데이터 웨어하우징 팀의 역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인적 구성 수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숙련 기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 표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정보 자원 관리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IRM: information resource managem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업무 사용자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 처리 전문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소스 응용 프로그램 시스템 전문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술 전문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9360-C943-4AAA-A951-2896C246ED2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B35CD-2664-46EC-B3D7-9087B032265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23880" y="8380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6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팀의 역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62120" y="1447920"/>
          <a:ext cx="8076960" cy="4749840"/>
        </p:xfrm>
        <a:graphic>
          <a:graphicData uri="http://schemas.openxmlformats.org/drawingml/2006/table">
            <a:tbl>
              <a:tblPr/>
              <a:tblGrid>
                <a:gridCol w="2438280"/>
                <a:gridCol w="5638680"/>
              </a:tblGrid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역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주요 책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웨어하우스 관리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웨어하우스 전략 수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웨어하우스 계획 및 관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웨어하우징 목표 전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구축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기업 데이터 모델 개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요건 분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웨어하우징 데이터 구조 설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업무 데이터 시각 정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(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저장소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관리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 표준 정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메타데이터 저장소 및 사용자 디렉토리 관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베이스 관리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물리적 데이터베이스 구조 작성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,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적재 감시 및  조회 수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33E2-6C26-4F4A-AAC8-B963105794B2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5660F6-8D02-4665-8C3C-8DDBBE0BCBD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43000" y="8380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6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팀의 역할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계속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62120" y="1447920"/>
          <a:ext cx="8076960" cy="5043240"/>
        </p:xfrm>
        <a:graphic>
          <a:graphicData uri="http://schemas.openxmlformats.org/drawingml/2006/table">
            <a:tbl>
              <a:tblPr/>
              <a:tblGrid>
                <a:gridCol w="2438280"/>
                <a:gridCol w="5638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역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주요 책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업무 사용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설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업무 규칙 지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변환 결과 시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응용프로그램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/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처리분석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의사 결정 지원 응용 프로그램 개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소스응용프로그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시스템전문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기존 시스템 데이터의 정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변환분석가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프로그래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소스 데이터와 데이터 웨어하우스의 대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를 선택 및 적재할 프로그램 작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기술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도구 지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기술 구성 지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교육 전문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데이터 웨어하우스 접근에 관한 교육 제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생산 지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3333cc"/>
                        </a:buClr>
                        <a:buSzPct val="6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소스 시스템 작업 진행 및 데이터 웨어하우징 적재 감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A025-25EE-4103-A98B-666BD24A515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D86A5E-9A49-490D-B641-1E435CFEDB9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6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발 과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환경을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작업 세분화 구조와 작업 계획의 근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반복적인 방법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최소한의 일련의 데이터를 시작으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추가적인 데이터가 연속적으로 반복해서 추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-7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개발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6110-A2C6-4789-8553-364A07ED81A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4F5CE-273D-4882-9EB1-3430C571269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09680" y="20574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운영 환경 수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6002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프로젝트 착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25146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기업정보 구조개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3048120"/>
            <a:ext cx="1676520" cy="47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데이터베이스 설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34290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데이터 변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426708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4724280"/>
            <a:ext cx="198108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최종사용자 인터페이스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14800" y="5257800"/>
            <a:ext cx="1371600" cy="34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생산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5410080"/>
            <a:ext cx="1676520" cy="58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도구 및 응용 프로그램 관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10280" y="5867280"/>
            <a:ext cx="1676520" cy="58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및 롤아웃 개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8380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7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개발 과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676520" y="2209680"/>
            <a:ext cx="533160" cy="228600"/>
            <a:chOff x="1676520" y="2209680"/>
            <a:chExt cx="533160" cy="228600"/>
          </a:xfrm>
        </p:grpSpPr>
        <p:sp>
          <p:nvSpPr>
            <p:cNvPr id="142" name=""/>
            <p:cNvSpPr/>
            <p:nvPr/>
          </p:nvSpPr>
          <p:spPr>
            <a:xfrm>
              <a:off x="1676520" y="24382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765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895480" y="2666880"/>
            <a:ext cx="533160" cy="228600"/>
            <a:chOff x="2895480" y="2666880"/>
            <a:chExt cx="533160" cy="228600"/>
          </a:xfrm>
        </p:grpSpPr>
        <p:sp>
          <p:nvSpPr>
            <p:cNvPr id="145" name=""/>
            <p:cNvSpPr/>
            <p:nvPr/>
          </p:nvSpPr>
          <p:spPr>
            <a:xfrm>
              <a:off x="2895480" y="2895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95480" y="2666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191120" y="3124080"/>
            <a:ext cx="533160" cy="228600"/>
            <a:chOff x="4191120" y="3124080"/>
            <a:chExt cx="533160" cy="228600"/>
          </a:xfrm>
        </p:grpSpPr>
        <p:sp>
          <p:nvSpPr>
            <p:cNvPr id="148" name=""/>
            <p:cNvSpPr/>
            <p:nvPr/>
          </p:nvSpPr>
          <p:spPr>
            <a:xfrm>
              <a:off x="4191120" y="33526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91120" y="3124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91320" y="3505320"/>
            <a:ext cx="533160" cy="228600"/>
            <a:chOff x="5791320" y="3505320"/>
            <a:chExt cx="533160" cy="228600"/>
          </a:xfrm>
        </p:grpSpPr>
        <p:sp>
          <p:nvSpPr>
            <p:cNvPr id="151" name=""/>
            <p:cNvSpPr/>
            <p:nvPr/>
          </p:nvSpPr>
          <p:spPr>
            <a:xfrm>
              <a:off x="5791320" y="37339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91320" y="3505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362320" y="4038480"/>
            <a:ext cx="4419360" cy="381240"/>
            <a:chOff x="2362320" y="4038480"/>
            <a:chExt cx="4419360" cy="381240"/>
          </a:xfrm>
        </p:grpSpPr>
        <p:sp>
          <p:nvSpPr>
            <p:cNvPr id="154" name=""/>
            <p:cNvSpPr/>
            <p:nvPr/>
          </p:nvSpPr>
          <p:spPr>
            <a:xfrm flipH="1">
              <a:off x="2362320" y="4419720"/>
              <a:ext cx="441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81680" y="40384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752480" y="4876920"/>
            <a:ext cx="533160" cy="228600"/>
            <a:chOff x="1752480" y="4876920"/>
            <a:chExt cx="533160" cy="228600"/>
          </a:xfrm>
        </p:grpSpPr>
        <p:sp>
          <p:nvSpPr>
            <p:cNvPr id="157" name=""/>
            <p:cNvSpPr/>
            <p:nvPr/>
          </p:nvSpPr>
          <p:spPr>
            <a:xfrm>
              <a:off x="1752480" y="51055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5248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876920" y="5638680"/>
            <a:ext cx="533160" cy="228600"/>
            <a:chOff x="4876920" y="5638680"/>
            <a:chExt cx="533160" cy="228600"/>
          </a:xfrm>
        </p:grpSpPr>
        <p:sp>
          <p:nvSpPr>
            <p:cNvPr id="160" name=""/>
            <p:cNvSpPr/>
            <p:nvPr/>
          </p:nvSpPr>
          <p:spPr>
            <a:xfrm>
              <a:off x="4876920" y="58672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76920" y="5638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581280" y="5334120"/>
            <a:ext cx="533160" cy="228600"/>
            <a:chOff x="3581280" y="5334120"/>
            <a:chExt cx="533160" cy="228600"/>
          </a:xfrm>
        </p:grpSpPr>
        <p:sp>
          <p:nvSpPr>
            <p:cNvPr id="163" name=""/>
            <p:cNvSpPr/>
            <p:nvPr/>
          </p:nvSpPr>
          <p:spPr>
            <a:xfrm>
              <a:off x="3581280" y="55627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1280" y="5334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77120" y="6019920"/>
            <a:ext cx="533160" cy="228600"/>
            <a:chOff x="6477120" y="6019920"/>
            <a:chExt cx="533160" cy="228600"/>
          </a:xfrm>
        </p:grpSpPr>
        <p:sp>
          <p:nvSpPr>
            <p:cNvPr id="166" name=""/>
            <p:cNvSpPr/>
            <p:nvPr/>
          </p:nvSpPr>
          <p:spPr>
            <a:xfrm>
              <a:off x="6477120" y="62485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77120" y="6019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8481-8094-4B1D-911C-17D50B9A860B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C7C06-DEE4-40AF-992B-EA64CA33383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7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발 일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직체에 알맞은 구현 및 개발 순서 제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반복적이며 단계 지향적인 방법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 시스템 전환과 제거에 대한 논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현 순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존 시스템 교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-9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초기 데이터 웨어하우스 구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-10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대상 데이터 웨어하우스 구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존 시스템은 제거되었다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6F3A-1CA1-4AE9-B812-CD030C9DC18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A542BD-B638-4CB7-AFEE-E4157595457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8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념 증명 프로젝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목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술적으로 가능할 때마다 방법론이나 도구들에서 나타나는 모순을 파악하고 정정하기 위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제되고 제한된 환경에서 데이터 웨어하우스를 개발하고 시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념 증명 프로젝트 성공 요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 편이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수 조회 및 응용 프로그램을 이용한 데이터 접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융통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투명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젝트 구현 계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규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간 및 다원을 추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47D8-7471-4CD3-AA65-8F40EA6D4C6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68BCB8-F868-4FFB-906B-B84CBC99B28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hapter 4: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개발 전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cc3300"/>
                </a:solidFill>
                <a:latin typeface="Tahoma"/>
                <a:ea typeface="굴림"/>
              </a:rPr>
              <a:t>점</a:t>
            </a:r>
            <a:r>
              <a:rPr b="0" lang="ko-KR" sz="2800" spc="-1" strike="noStrike">
                <a:solidFill>
                  <a:srgbClr val="cc33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  <a:ea typeface="굴림"/>
              </a:rPr>
              <a:t>point)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나의 부서에서 필요한 구체적이고 협소한 의미의 요건들을 해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연통 접근 방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후 업무에 대한 통합된 시각을 제공하는 의사 결정 지원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전략의 개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전략의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개발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전략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문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내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C08F-5628-4527-B739-D0EB9E3A283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B2AC6-F0EF-415A-B932-FD7E5ED18CD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9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관리 관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포함 요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성공 요인과 성과 측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높은 수준의 가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위험 요소와 위험을 줄이기 위한 제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대 사항 관리에 관한 토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목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결정적 성공 요인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4-11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가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위험 평가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대사항 관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DEBA-5478-41F3-A2D3-5AE23187E3C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2C53B5-6F61-430F-9BC0-77B3921B70A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결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전략을 개발하기위한 한 가지 접근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략문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계획된 그리고 조정된 데이터 웨어하우징 개발이 이루어질 수 있는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체계화된 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을 구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목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목표 그리고 개념들을 조직체에게 전달하고 이해시키기 위한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미래의 비전 제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상에 도달하는 확실한 단계들 제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AEF6-B8C0-4BDC-9903-258750FA9A7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7D5C23-1370-4B52-A0CE-7AA3DD32986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전략 개발 과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전략의 개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작성 및 발표는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월 이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직체의 규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면담 횟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전에 문서화된 구조상의 노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술 상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후원자의 긴급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리고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팀 규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85F2-2FB6-4ED9-A1C6-EDB3A62387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021971-90EF-4BB1-8DFB-EC72B6A5A27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목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직체의 정보 필요성 만족 범위 평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영역에서의 실행 과정을 권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사 결정 지원 목적을 위하여 전략 정보의 적시 포착과 배포에 적합한 구조 창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 기반 도구를 비롯한 새로운 기술 활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C627-386A-4910-B582-509A64D08F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2D5098-36A5-461B-AA1C-C12619B3DE7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전략 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연구팀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2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명 –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외부 자문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일제 팀 구성원 중 한 명은 내부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66AE-48A5-4817-BA48-1DAE71CE34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A4F75C-08A6-44E7-9419-DAD7E1CF768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전략 연구 활동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요건 수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요 사업 관계 인사와 면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의 잔존 시스템과 관련된 문서 조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의 구조 문서 검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4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권고사항 전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실행 과정을 권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업 조직체의 우선 순위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정보 필요사항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 및 기술 환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2BA9-9D14-4EC6-8AC6-E828D3F0088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454E37-4882-4F99-8632-92276E049F6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 전략 문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 전략 차례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4-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 평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구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술 구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직체 요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발 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일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념 증명 프로젝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5040" indent="-452520"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리 고려 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964E-E3F3-44B2-AA04-1A3E96671D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CB4083-FBFD-4C8A-BBEB-EF93D5FF043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개요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에 전략과 관련된 핵심적인 권고 사항들을 요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에 대한 타당한 사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술과 조직체 요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점진적 결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종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음 단계를 진행하기 위한 경영진의 행동 또는 승인에 대한 요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5491-3316-4A28-9592-D4770299F73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654C7-5D74-4D8D-ABFB-20DA1650B42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현재 평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리 우선 순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4-3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데이터 주제 지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세분화 정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세부 사항 수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품질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확성 완전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일관성과 무결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접근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보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도 패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공유 및 분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적시성과 과거 기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소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최종 사용자 워크스테이션 도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02A9-EAD5-49A6-8056-814EDE6F5DA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E0A4C0-02FD-4482-BAFB-055ECC6D306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박종수</dc:creator>
  <dc:description/>
  <dc:language>en-US</dc:language>
  <cp:lastModifiedBy>박종수</cp:lastModifiedBy>
  <cp:lastPrinted>1999-09-10T20:38:56Z</cp:lastPrinted>
  <dcterms:modified xsi:type="dcterms:W3CDTF">2002-04-09T05:57:08Z</dcterms:modified>
  <cp:revision>217</cp:revision>
  <dc:subject/>
  <dc:title>데이터 웨어하우징 개발 전략</dc:title>
</cp:coreProperties>
</file>