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E14-D60C-4790-BB13-5730DFBE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E45C-13FA-4BC0-8629-49C6CD3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F67-C2F9-4CA9-A14B-F8CB57A9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3C59-6F31-4A3E-82CC-64768470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E3C0-C7FC-4E2D-8F98-A4F75D8B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F2A94-87D2-43DB-BB1E-F2E5D062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00D9-899F-4E45-9B4F-2CF54742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7312-5A1F-4615-B087-9858107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9CF8-68B2-4F5B-B606-1EA3530A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E1A5-8AAF-47FB-8664-4CDC7446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13AC-C1FB-4469-9D3B-61FBA8A1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B20C-F57F-4516-A559-AF12AFDD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5981-2D8D-4EC8-8332-F7DCFAC8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17B5-1DDB-47B3-A4F5-EB80DB53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3478-C1F3-4FCE-81F5-888D9294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D12A-D45C-40A9-A4D2-46F1E6A0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A288-CC5D-4AA8-8DB2-AC2BB5C9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82E-3143-4F03-AD61-EED15CC3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553-4EF9-4B74-9D3C-B07F264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6C3-F406-45BF-992F-39F832B6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1546-D7D5-4890-AE70-DA6D1622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307B-2CC9-46E4-9E66-4AB618D6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07E8-593F-4B91-A24C-F371CE6A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260-EB01-4394-850C-3C14F62F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F70-519D-45C2-8280-2E9D9E9B259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CDF7-A569-4B87-B271-3F432C672DD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2184-2C84-46E8-8DCF-B7BB4C03C2C0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28A1-3BA3-4B03-8610-5C12278CF19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D42-F340-4D42-95C5-18CC5034E21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52C46-A6A4-4ADF-A0AF-84F631A7A4E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F3C-2E38-4D11-8033-09272CEE77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84487-A0E5-41A7-BF86-82B9A27017A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600-53BA-4067-9E29-3875ADAF58D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327D0-898B-47D3-8AE5-35D2414A68B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FCB6-0328-4672-9CF6-F04E7FDD10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712A2-A71B-4A35-9F82-76509212F8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B3E-9197-4407-8C32-747AE7E4B1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68FBA-A6BD-4507-98FA-70EAA8BF090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F93-B272-4506-9210-0EC30BC15E3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A1D11-68CD-4D7B-86E2-9806352A58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44E-5332-4473-AF36-55DB77AC079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008AD-3F0B-44FB-BBD2-74854E61BFC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2A99-2FAD-4161-8B55-F8BCAB5EFD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A89BA-AF75-49B7-B3FD-78E3BE46800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3D3-791B-44A0-B046-50EA7B4B05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D1EBB-DF31-4A8A-BE63-F934D616B9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747-43E5-45E6-B6D5-CB490B6B2F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75264-A122-4AFE-9B10-B05E2AE359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D91-4A36-429B-A34B-0E9AA5CB9A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6976F-3D55-4866-A5F1-E5A2DE63EEE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25D-BACB-4BEA-9AE8-0D73EABCB9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42BE6-6F25-4B68-8DFE-259D3C9D3E1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BFE-968F-4374-A682-49FA65B3E0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2FC47-EB65-422B-AB29-A36586E4C2C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451-4F67-4995-AF60-38F421CAF4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DCD49-5B2D-47F7-B383-7244994256F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5:22:52Z</dcterms:modified>
  <cp:revision>237</cp:revision>
  <dc:subject/>
  <dc:title>제6장 데이터 웨어하우스의 관리</dc:title>
</cp:coreProperties>
</file>