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CEC-A149-4674-B195-8DAF7AD0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D7E-F3A9-4919-ADA4-9A4FA5D9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D68-A3EC-4358-9689-D8149B8A9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E14-D650-4351-992B-27BA44E8B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0A6E-D601-4D57-AAF8-EAD17E3D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9BAF-99B2-4B86-AFE2-CE6938A4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8A1F-7C42-42DE-AD31-93402E88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F908-DDC0-4877-AB0E-DED65839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49CB-7C9A-49D5-8DE5-D27AC310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0337-2F34-4D35-BC5B-A45F3EFB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DECD-8B0E-4F5A-98D3-50DCEBF2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314-6A0A-4251-9771-843FD398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47F7-44BD-4869-AB89-6C30420A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6CBF-09DB-4FD8-8D5B-9AAD07C0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1FC3-9227-44B4-BAC9-7AB98C66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1362-7F5B-4FD4-8C74-19C0E054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6868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00000" y="38062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1062-E9DB-465A-9F8B-8B004476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3D82-030A-4EC4-9B28-0E9166B7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73E-0674-4F0A-9555-00507BDE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C7D-7B98-497C-B9FC-9CE4C164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62120" y="304920"/>
            <a:ext cx="81532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10F-AC8F-4B35-9987-E3479CDF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FEEC-490D-4F2C-B962-4194D7B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77000" y="38062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D38D-4ACF-448A-A364-7B698E9B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062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915-446C-4CD4-9AFC-45A4A126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68580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907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11430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7621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1430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19076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D546-E4B6-4C22-A091-2D6614738534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f5f5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f5f5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8FA1-D56C-48B7-B78F-94C79D082372}" type="slidenum">
              <a:rPr b="0" lang="ko-KR" sz="1400" spc="-1" strike="noStrike">
                <a:solidFill>
                  <a:srgbClr val="5f5f5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ccffcc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 웨어하우스와 </a:t>
            </a:r>
            <a:br>
              <a:rPr sz="4800"/>
            </a:br>
            <a:r>
              <a:rPr b="0" lang="ko-KR" sz="4800" spc="-1" strike="noStrike">
                <a:solidFill>
                  <a:srgbClr val="333399"/>
                </a:solidFill>
                <a:latin typeface="Arial"/>
              </a:rPr>
              <a:t>데이터마이닝</a:t>
            </a:r>
            <a:endParaRPr b="1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박  종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http://cs.sungshin.ac.kr/~j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2_2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781680" cy="5260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통합에 대한 문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FD1-5B12-4499-AFDC-AB46E680DC2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2_3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543800" cy="490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비휘발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5FCE-5374-4CD4-9694-C70B448C8094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2_4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956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시간 변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4703-A765-4243-9507-E45592929CE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438280" y="1752120"/>
            <a:ext cx="5715360" cy="4000680"/>
            <a:chOff x="2438280" y="1752120"/>
            <a:chExt cx="5715360" cy="4000680"/>
          </a:xfrm>
        </p:grpSpPr>
        <p:grpSp>
          <p:nvGrpSpPr>
            <p:cNvPr id="124" name=""/>
            <p:cNvGrpSpPr/>
            <p:nvPr/>
          </p:nvGrpSpPr>
          <p:grpSpPr>
            <a:xfrm>
              <a:off x="5638680" y="1752120"/>
              <a:ext cx="2514960" cy="1495440"/>
              <a:chOff x="5638680" y="1752120"/>
              <a:chExt cx="2514960" cy="14954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6552000" y="2666880"/>
                <a:ext cx="686880" cy="580680"/>
                <a:chOff x="6552000" y="2666880"/>
                <a:chExt cx="686880" cy="5806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5530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5530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2388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29" name=""/>
                <p:cNvCxnSpPr>
                  <a:stCxn id="127" idx="0"/>
                  <a:endCxn id="128" idx="0"/>
                </p:cNvCxnSpPr>
                <p:nvPr/>
              </p:nvCxnSpPr>
              <p:spPr>
                <a:xfrm flipH="1" rot="16200000">
                  <a:off x="68943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0" name=""/>
              <p:cNvGrpSpPr/>
              <p:nvPr/>
            </p:nvGrpSpPr>
            <p:grpSpPr>
              <a:xfrm>
                <a:off x="5638680" y="1980720"/>
                <a:ext cx="381240" cy="460080"/>
                <a:chOff x="5638680" y="1980720"/>
                <a:chExt cx="381240" cy="460080"/>
              </a:xfrm>
            </p:grpSpPr>
            <p:sp>
              <p:nvSpPr>
                <p:cNvPr id="131" name=""/>
                <p:cNvSpPr/>
                <p:nvPr/>
              </p:nvSpPr>
              <p:spPr>
                <a:xfrm flipV="1">
                  <a:off x="56386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6386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0195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4" name=""/>
                <p:cNvCxnSpPr>
                  <a:stCxn id="132" idx="0"/>
                  <a:endCxn id="133" idx="0"/>
                </p:cNvCxnSpPr>
                <p:nvPr/>
              </p:nvCxnSpPr>
              <p:spPr>
                <a:xfrm flipH="1" rot="16200000">
                  <a:off x="58284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35" name=""/>
              <p:cNvGrpSpPr/>
              <p:nvPr/>
            </p:nvGrpSpPr>
            <p:grpSpPr>
              <a:xfrm>
                <a:off x="7772400" y="1980720"/>
                <a:ext cx="381240" cy="460080"/>
                <a:chOff x="7772400" y="1980720"/>
                <a:chExt cx="381240" cy="460080"/>
              </a:xfrm>
            </p:grpSpPr>
            <p:sp>
              <p:nvSpPr>
                <p:cNvPr id="136" name=""/>
                <p:cNvSpPr/>
                <p:nvPr/>
              </p:nvSpPr>
              <p:spPr>
                <a:xfrm flipV="1">
                  <a:off x="77724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724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8153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39" name=""/>
                <p:cNvCxnSpPr>
                  <a:stCxn id="137" idx="0"/>
                  <a:endCxn id="138" idx="0"/>
                </p:cNvCxnSpPr>
                <p:nvPr/>
              </p:nvCxnSpPr>
              <p:spPr>
                <a:xfrm flipH="1" rot="16200000">
                  <a:off x="79621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0" name=""/>
              <p:cNvGrpSpPr/>
              <p:nvPr/>
            </p:nvGrpSpPr>
            <p:grpSpPr>
              <a:xfrm>
                <a:off x="6172200" y="1828440"/>
                <a:ext cx="381240" cy="460080"/>
                <a:chOff x="6172200" y="1828440"/>
                <a:chExt cx="381240" cy="460080"/>
              </a:xfrm>
            </p:grpSpPr>
            <p:sp>
              <p:nvSpPr>
                <p:cNvPr id="141" name=""/>
                <p:cNvSpPr/>
                <p:nvPr/>
              </p:nvSpPr>
              <p:spPr>
                <a:xfrm flipV="1">
                  <a:off x="61722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722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5530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4" name=""/>
                <p:cNvCxnSpPr>
                  <a:stCxn id="142" idx="0"/>
                  <a:endCxn id="143" idx="0"/>
                </p:cNvCxnSpPr>
                <p:nvPr/>
              </p:nvCxnSpPr>
              <p:spPr>
                <a:xfrm flipH="1" rot="16200000">
                  <a:off x="63619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45" name=""/>
              <p:cNvGrpSpPr/>
              <p:nvPr/>
            </p:nvGrpSpPr>
            <p:grpSpPr>
              <a:xfrm>
                <a:off x="6705360" y="1752120"/>
                <a:ext cx="381240" cy="460080"/>
                <a:chOff x="6705360" y="1752120"/>
                <a:chExt cx="381240" cy="460080"/>
              </a:xfrm>
            </p:grpSpPr>
            <p:sp>
              <p:nvSpPr>
                <p:cNvPr id="146" name=""/>
                <p:cNvSpPr/>
                <p:nvPr/>
              </p:nvSpPr>
              <p:spPr>
                <a:xfrm flipV="1">
                  <a:off x="67053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7053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0862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49" name=""/>
                <p:cNvCxnSpPr>
                  <a:stCxn id="147" idx="0"/>
                  <a:endCxn id="148" idx="0"/>
                </p:cNvCxnSpPr>
                <p:nvPr/>
              </p:nvCxnSpPr>
              <p:spPr>
                <a:xfrm flipH="1" rot="16200000">
                  <a:off x="68950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50" name=""/>
              <p:cNvGrpSpPr/>
              <p:nvPr/>
            </p:nvGrpSpPr>
            <p:grpSpPr>
              <a:xfrm>
                <a:off x="7238880" y="1828440"/>
                <a:ext cx="381240" cy="460080"/>
                <a:chOff x="7238880" y="1828440"/>
                <a:chExt cx="381240" cy="46008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72388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2388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197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54" name=""/>
                <p:cNvCxnSpPr>
                  <a:stCxn id="152" idx="0"/>
                  <a:endCxn id="153" idx="0"/>
                </p:cNvCxnSpPr>
                <p:nvPr/>
              </p:nvCxnSpPr>
              <p:spPr>
                <a:xfrm flipH="1" rot="16200000">
                  <a:off x="74286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55" name=""/>
              <p:cNvCxnSpPr>
                <a:stCxn id="133" idx="1"/>
                <a:endCxn id="127" idx="0"/>
              </p:cNvCxnSpPr>
              <p:nvPr/>
            </p:nvCxnSpPr>
            <p:spPr>
              <a:xfrm>
                <a:off x="60195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6" name=""/>
              <p:cNvCxnSpPr>
                <a:stCxn id="148" idx="1"/>
                <a:endCxn id="126" idx="0"/>
              </p:cNvCxnSpPr>
              <p:nvPr/>
            </p:nvCxnSpPr>
            <p:spPr>
              <a:xfrm flipH="1">
                <a:off x="68954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7" name=""/>
              <p:cNvCxnSpPr>
                <a:stCxn id="143" idx="1"/>
                <a:endCxn id="126" idx="1"/>
              </p:cNvCxnSpPr>
              <p:nvPr/>
            </p:nvCxnSpPr>
            <p:spPr>
              <a:xfrm>
                <a:off x="65530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8" name=""/>
              <p:cNvCxnSpPr>
                <a:stCxn id="153" idx="1"/>
                <a:endCxn id="126" idx="7"/>
              </p:cNvCxnSpPr>
              <p:nvPr/>
            </p:nvCxnSpPr>
            <p:spPr>
              <a:xfrm flipH="1">
                <a:off x="71384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59" name=""/>
              <p:cNvCxnSpPr>
                <a:stCxn id="137" idx="1"/>
                <a:endCxn id="128" idx="0"/>
              </p:cNvCxnSpPr>
              <p:nvPr/>
            </p:nvCxnSpPr>
            <p:spPr>
              <a:xfrm flipH="1">
                <a:off x="72385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60" name=""/>
            <p:cNvGrpSpPr/>
            <p:nvPr/>
          </p:nvGrpSpPr>
          <p:grpSpPr>
            <a:xfrm>
              <a:off x="2438280" y="1752120"/>
              <a:ext cx="2514960" cy="1495440"/>
              <a:chOff x="2438280" y="1752120"/>
              <a:chExt cx="2514960" cy="149544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3351600" y="2666880"/>
                <a:ext cx="686880" cy="580680"/>
                <a:chOff x="3351600" y="2666880"/>
                <a:chExt cx="686880" cy="580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2680" y="2666880"/>
                  <a:ext cx="68580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526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038480" y="2742840"/>
                  <a:ext cx="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65" name=""/>
                <p:cNvCxnSpPr>
                  <a:stCxn id="163" idx="0"/>
                  <a:endCxn id="164" idx="0"/>
                </p:cNvCxnSpPr>
                <p:nvPr/>
              </p:nvCxnSpPr>
              <p:spPr>
                <a:xfrm flipH="1" rot="16200000">
                  <a:off x="3693960" y="2781360"/>
                  <a:ext cx="2160" cy="686520"/>
                </a:xfrm>
                <a:prstGeom prst="curvedConnector5">
                  <a:avLst>
                    <a:gd name="adj1" fmla="val 6880000"/>
                    <a:gd name="adj2" fmla="val 50000"/>
                    <a:gd name="adj3" fmla="val 68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66" name=""/>
              <p:cNvGrpSpPr/>
              <p:nvPr/>
            </p:nvGrpSpPr>
            <p:grpSpPr>
              <a:xfrm>
                <a:off x="2438280" y="1980720"/>
                <a:ext cx="381240" cy="460080"/>
                <a:chOff x="2438280" y="1980720"/>
                <a:chExt cx="381240" cy="46008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243828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4382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1916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0" name=""/>
                <p:cNvCxnSpPr>
                  <a:stCxn id="168" idx="0"/>
                  <a:endCxn id="169" idx="0"/>
                </p:cNvCxnSpPr>
                <p:nvPr/>
              </p:nvCxnSpPr>
              <p:spPr>
                <a:xfrm flipH="1" rot="16200000">
                  <a:off x="262800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1" name=""/>
              <p:cNvGrpSpPr/>
              <p:nvPr/>
            </p:nvGrpSpPr>
            <p:grpSpPr>
              <a:xfrm>
                <a:off x="4572000" y="1980720"/>
                <a:ext cx="381240" cy="460080"/>
                <a:chOff x="4572000" y="1980720"/>
                <a:chExt cx="381240" cy="460080"/>
              </a:xfrm>
            </p:grpSpPr>
            <p:sp>
              <p:nvSpPr>
                <p:cNvPr id="172" name=""/>
                <p:cNvSpPr/>
                <p:nvPr/>
              </p:nvSpPr>
              <p:spPr>
                <a:xfrm flipV="1">
                  <a:off x="4572000" y="19803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7200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952880" y="20570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75" name=""/>
                <p:cNvCxnSpPr>
                  <a:stCxn id="173" idx="0"/>
                  <a:endCxn id="174" idx="0"/>
                </p:cNvCxnSpPr>
                <p:nvPr/>
              </p:nvCxnSpPr>
              <p:spPr>
                <a:xfrm flipH="1" rot="16200000">
                  <a:off x="4761720" y="21718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76" name=""/>
              <p:cNvGrpSpPr/>
              <p:nvPr/>
            </p:nvGrpSpPr>
            <p:grpSpPr>
              <a:xfrm>
                <a:off x="2971800" y="1828440"/>
                <a:ext cx="381240" cy="460080"/>
                <a:chOff x="2971800" y="1828440"/>
                <a:chExt cx="381240" cy="460080"/>
              </a:xfrm>
            </p:grpSpPr>
            <p:sp>
              <p:nvSpPr>
                <p:cNvPr id="177" name=""/>
                <p:cNvSpPr/>
                <p:nvPr/>
              </p:nvSpPr>
              <p:spPr>
                <a:xfrm flipV="1">
                  <a:off x="297180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97180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526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0" name=""/>
                <p:cNvCxnSpPr>
                  <a:stCxn id="178" idx="0"/>
                  <a:endCxn id="179" idx="0"/>
                </p:cNvCxnSpPr>
                <p:nvPr/>
              </p:nvCxnSpPr>
              <p:spPr>
                <a:xfrm flipH="1" rot="16200000">
                  <a:off x="316152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1" name=""/>
              <p:cNvGrpSpPr/>
              <p:nvPr/>
            </p:nvGrpSpPr>
            <p:grpSpPr>
              <a:xfrm>
                <a:off x="3504960" y="1752120"/>
                <a:ext cx="381240" cy="460080"/>
                <a:chOff x="3504960" y="1752120"/>
                <a:chExt cx="381240" cy="460080"/>
              </a:xfrm>
            </p:grpSpPr>
            <p:sp>
              <p:nvSpPr>
                <p:cNvPr id="182" name=""/>
                <p:cNvSpPr/>
                <p:nvPr/>
              </p:nvSpPr>
              <p:spPr>
                <a:xfrm flipV="1">
                  <a:off x="3504960" y="175176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496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885840" y="182844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5" name=""/>
                <p:cNvCxnSpPr>
                  <a:stCxn id="183" idx="0"/>
                  <a:endCxn id="184" idx="0"/>
                </p:cNvCxnSpPr>
                <p:nvPr/>
              </p:nvCxnSpPr>
              <p:spPr>
                <a:xfrm flipH="1" rot="16200000">
                  <a:off x="3694680" y="194328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186" name=""/>
              <p:cNvGrpSpPr/>
              <p:nvPr/>
            </p:nvGrpSpPr>
            <p:grpSpPr>
              <a:xfrm>
                <a:off x="4038480" y="1828440"/>
                <a:ext cx="381240" cy="460080"/>
                <a:chOff x="4038480" y="1828440"/>
                <a:chExt cx="381240" cy="460080"/>
              </a:xfrm>
            </p:grpSpPr>
            <p:sp>
              <p:nvSpPr>
                <p:cNvPr id="187" name=""/>
                <p:cNvSpPr/>
                <p:nvPr/>
              </p:nvSpPr>
              <p:spPr>
                <a:xfrm flipV="1">
                  <a:off x="4038480" y="1828080"/>
                  <a:ext cx="380880" cy="152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03848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419360" y="190476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0" name=""/>
                <p:cNvCxnSpPr>
                  <a:stCxn id="188" idx="0"/>
                  <a:endCxn id="189" idx="0"/>
                </p:cNvCxnSpPr>
                <p:nvPr/>
              </p:nvCxnSpPr>
              <p:spPr>
                <a:xfrm flipH="1" rot="16200000">
                  <a:off x="4228200" y="2019600"/>
                  <a:ext cx="2160" cy="381600"/>
                </a:xfrm>
                <a:prstGeom prst="curvedConnector5">
                  <a:avLst>
                    <a:gd name="adj1" fmla="val 4380000"/>
                    <a:gd name="adj2" fmla="val 49952"/>
                    <a:gd name="adj3" fmla="val 4380000"/>
                  </a:avLst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191" name=""/>
              <p:cNvCxnSpPr>
                <a:stCxn id="169" idx="1"/>
                <a:endCxn id="163" idx="0"/>
              </p:cNvCxnSpPr>
              <p:nvPr/>
            </p:nvCxnSpPr>
            <p:spPr>
              <a:xfrm>
                <a:off x="281916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2" name=""/>
              <p:cNvCxnSpPr>
                <a:stCxn id="184" idx="1"/>
                <a:endCxn id="162" idx="0"/>
              </p:cNvCxnSpPr>
              <p:nvPr/>
            </p:nvCxnSpPr>
            <p:spPr>
              <a:xfrm flipH="1">
                <a:off x="3695040" y="2133360"/>
                <a:ext cx="191160" cy="534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3" name=""/>
              <p:cNvCxnSpPr>
                <a:stCxn id="179" idx="1"/>
                <a:endCxn id="162" idx="1"/>
              </p:cNvCxnSpPr>
              <p:nvPr/>
            </p:nvCxnSpPr>
            <p:spPr>
              <a:xfrm>
                <a:off x="3352680" y="2209680"/>
                <a:ext cx="10080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4" name=""/>
              <p:cNvCxnSpPr>
                <a:stCxn id="189" idx="1"/>
                <a:endCxn id="162" idx="7"/>
              </p:cNvCxnSpPr>
              <p:nvPr/>
            </p:nvCxnSpPr>
            <p:spPr>
              <a:xfrm flipH="1">
                <a:off x="3938040" y="2209680"/>
                <a:ext cx="481680" cy="48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95" name=""/>
              <p:cNvCxnSpPr>
                <a:stCxn id="173" idx="1"/>
                <a:endCxn id="164" idx="0"/>
              </p:cNvCxnSpPr>
              <p:nvPr/>
            </p:nvCxnSpPr>
            <p:spPr>
              <a:xfrm flipH="1">
                <a:off x="4038120" y="2361600"/>
                <a:ext cx="534240" cy="38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96" name=""/>
            <p:cNvGrpSpPr/>
            <p:nvPr/>
          </p:nvGrpSpPr>
          <p:grpSpPr>
            <a:xfrm>
              <a:off x="3809880" y="3771720"/>
              <a:ext cx="2895480" cy="1981080"/>
              <a:chOff x="3809880" y="3771720"/>
              <a:chExt cx="2895480" cy="1981080"/>
            </a:xfrm>
          </p:grpSpPr>
          <p:sp>
            <p:nvSpPr>
              <p:cNvPr id="197" name=""/>
              <p:cNvSpPr/>
              <p:nvPr/>
            </p:nvSpPr>
            <p:spPr>
              <a:xfrm>
                <a:off x="4267080" y="3771720"/>
                <a:ext cx="175248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6708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19560" y="392400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0" name=""/>
              <p:cNvCxnSpPr>
                <a:stCxn id="198" idx="0"/>
                <a:endCxn id="199" idx="0"/>
              </p:cNvCxnSpPr>
              <p:nvPr/>
            </p:nvCxnSpPr>
            <p:spPr>
              <a:xfrm flipH="1" rot="16200000">
                <a:off x="5142600" y="3657960"/>
                <a:ext cx="2160" cy="1753200"/>
              </a:xfrm>
              <a:prstGeom prst="curvedConnector5">
                <a:avLst>
                  <a:gd name="adj1" fmla="val 13380000"/>
                  <a:gd name="adj2" fmla="val 49989"/>
                  <a:gd name="adj3" fmla="val 1338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grpSp>
            <p:nvGrpSpPr>
              <p:cNvPr id="201" name=""/>
              <p:cNvGrpSpPr/>
              <p:nvPr/>
            </p:nvGrpSpPr>
            <p:grpSpPr>
              <a:xfrm>
                <a:off x="3809880" y="5295600"/>
                <a:ext cx="457200" cy="457200"/>
                <a:chOff x="3809880" y="5295600"/>
                <a:chExt cx="457200" cy="45720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8098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9621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419360" y="5295600"/>
                <a:ext cx="457200" cy="457200"/>
                <a:chOff x="4419360" y="5295600"/>
                <a:chExt cx="45720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4193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5716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029200" y="5295600"/>
                <a:ext cx="457200" cy="457200"/>
                <a:chOff x="5029200" y="5295600"/>
                <a:chExt cx="45720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2920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18148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638680" y="5295600"/>
                <a:ext cx="457200" cy="457200"/>
                <a:chOff x="5638680" y="5295600"/>
                <a:chExt cx="457200" cy="4572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563868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79096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6248160" y="5295600"/>
                <a:ext cx="457200" cy="457200"/>
                <a:chOff x="6248160" y="5295600"/>
                <a:chExt cx="457200" cy="4572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6248160" y="5295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400440" y="567648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 flipH="1">
                <a:off x="4038120" y="4762440"/>
                <a:ext cx="11430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4647960" y="476244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81480" y="4762440"/>
                <a:ext cx="76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762440"/>
                <a:ext cx="60948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181480" y="4762440"/>
                <a:ext cx="12193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733920" y="3238200"/>
              <a:ext cx="12189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333760" y="3238200"/>
              <a:ext cx="15238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07440" y="2971800"/>
            <a:ext cx="911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eta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30492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굴림"/>
              </a:rPr>
              <a:t>데이터웨어하우스의 구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14300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y 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1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38880" y="2666880"/>
            <a:ext cx="17528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weekly sales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bproduct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1984-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962520"/>
            <a:ext cx="17528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5257800"/>
            <a:ext cx="175248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84-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962520"/>
            <a:ext cx="9903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981080" y="2666880"/>
            <a:ext cx="1524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ligh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(datam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8120" y="5257800"/>
            <a:ext cx="7617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905120"/>
            <a:ext cx="15242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m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029200"/>
            <a:ext cx="16761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438280" y="4419720"/>
            <a:ext cx="21337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329F-3332-4E80-AD22-4DAB9AE86E16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한번에 한 단계씩 설계되고 구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점증적인 반복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과정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을 통해 완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운영 활동 처리를 위한 시스템들만 존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3333cc"/>
                </a:solidFill>
                <a:latin typeface="Arial"/>
              </a:rPr>
              <a:t>의 첫번째 주제영역에 대한 몇몇 테이블 생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더 많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들이 생성되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용자들도 증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네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점점 확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분석적 처리를 위한 데이터 원천으로 인식 시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서별 데이터베이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마트 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LAP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가 활성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여섯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많은 부서별 시스템이 구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번째날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아키텍쳐가 완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몇 년은 일반적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부터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일째까지의 이동 과정 동안에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경이 성숙되고 발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4B5-FDAF-4EDE-8450-D5198305A3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2_10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00800" cy="53337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데이터웨어하우스 구축과정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 –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일까지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7C6-AED4-4EB9-BFE7-921AADA7C53A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설계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ta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atabas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설계에서는 모든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같다고 가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에서는 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는 결코 대등하지 않다”에서 출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Fac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량의 데이터를 포함하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의 중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테이블을 참조할 수 있는 외래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foreign key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가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Dimensio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주위의 엔터티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테이블들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스타 조인 생성의 이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처리 과정에서 데이터를 능률적으로 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를 미리 연결하고 선택적으로 중복 데이터를 생성하여 데이터 액세스와 분석을 더욱 간단하고 효율적으로 할 수 있게 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359-77FC-42BF-9AD0-C601642A4F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KDD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nowledge Discovery in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데이터베이스에서 지식 탐사는 데이터에서 유효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귀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잠재적으로 유용하고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궁극적으로 이해될 수 있는 </a:t>
            </a:r>
            <a:r>
              <a:rPr b="1" i="1" lang="ko-KR" sz="2000" spc="-1" strike="noStrike">
                <a:solidFill>
                  <a:srgbClr val="ff0000"/>
                </a:solidFill>
                <a:latin typeface="Arial"/>
              </a:rPr>
              <a:t>패턴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을 알아내는 쉽지않은 과정이다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KDD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과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마이닝 과정의 적용 영역과 목표의 이해를 밝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목적 데이터 집합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(target data set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선택하거나 얻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데이터 청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전처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리고 변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델 개발과 가설 설정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Arial"/>
              </a:rPr>
              <a:t>적절한 데이터 마이닝 알고리즘의 선택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해석 및 시각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결과 검사 및 검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Arial"/>
              </a:rPr>
              <a:t>발견된 지식을 사용하고 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155-7D70-4D4B-ACBE-05A5BCF4288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440" y="692280"/>
            <a:ext cx="1282680" cy="749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40440" y="5873760"/>
            <a:ext cx="2044800" cy="596880"/>
          </a:xfrm>
          <a:prstGeom prst="rect">
            <a:avLst/>
          </a:prstGeom>
          <a:solidFill>
            <a:srgbClr val="e8e8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5720" y="760320"/>
            <a:ext cx="1151280" cy="641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56320" y="1157400"/>
            <a:ext cx="2064240" cy="51912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arget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310440" y="1303200"/>
            <a:ext cx="2382480" cy="945720"/>
          </a:xfrm>
          <a:prstGeom prst="rect">
            <a:avLst/>
          </a:prstGeom>
          <a:solidFill>
            <a:srgbClr val="3333cc"/>
          </a:solidFill>
          <a:ln w="12600">
            <a:solidFill>
              <a:srgbClr val="99ff99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Pre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54320" y="3665520"/>
            <a:ext cx="2202840" cy="945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ccff"/>
            </a:solidFill>
            <a:miter/>
          </a:ln>
          <a:effectLst>
            <a:outerShdw dist="107932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Transfor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4240" y="3763800"/>
            <a:ext cx="2076480" cy="702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cc"/>
                </a:solidFill>
                <a:latin typeface="Arial"/>
                <a:ea typeface="돋움"/>
              </a:rPr>
              <a:t>Patter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1219320"/>
            <a:ext cx="1371600" cy="152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11360" y="5867280"/>
            <a:ext cx="1945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돋움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1523880"/>
            <a:ext cx="990720" cy="3049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361960" y="2438280"/>
            <a:ext cx="5105160" cy="1143000"/>
          </a:xfrm>
          <a:prstGeom prst="line">
            <a:avLst/>
          </a:prstGeom>
          <a:ln w="25560">
            <a:solidFill>
              <a:srgbClr val="00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4191120"/>
            <a:ext cx="1523880" cy="0"/>
          </a:xfrm>
          <a:prstGeom prst="line">
            <a:avLst/>
          </a:prstGeom>
          <a:ln w="50760">
            <a:solidFill>
              <a:srgbClr val="0099f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4572000"/>
            <a:ext cx="1143000" cy="12193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07320" y="944640"/>
            <a:ext cx="123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33440" y="944640"/>
            <a:ext cx="1815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Pre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14480" y="2697120"/>
            <a:ext cx="189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71800" y="3794040"/>
            <a:ext cx="10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305400" y="4754520"/>
            <a:ext cx="1754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Interpret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21520" y="60480"/>
            <a:ext cx="721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verview of the steps constituting the KDD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0E5-8B9C-4727-A170-3276B755171B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ata Mining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관찰된 데이터로 부터 패턴이나 모델의 추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KD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에서 한 단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 마이닝 작업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Data Mining Tas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3333cc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Arial"/>
              </a:rPr>
              <a:t>Link Analysis (Associ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odel Vis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ploratory Data Analysis (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B1B-F82B-4F75-B630-3B32637541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 구축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방법론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의사결정 지원 시스템의 발전과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 환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데이터웨어하우스와 설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의 구체화 정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데이터웨어하우스와 기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DD and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851-8CC0-41B4-B031-FB60CCBBA29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07696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ypes of Data-Mining Problem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7720" y="1715760"/>
            <a:ext cx="3214800" cy="38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900240" y="1687680"/>
            <a:ext cx="487044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Knowledg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Clus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"/>
              </a:rPr>
              <a:t>Associa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437-D0D3-41F8-A403-8B23D415327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143360" y="304920"/>
            <a:ext cx="396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  <a:ea typeface="돋움"/>
              </a:rPr>
              <a:t>Association R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240" y="1127160"/>
            <a:ext cx="801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x: the statement tha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90% of transactions that pur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  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bread and bu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 also purch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돋움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428480" y="2155680"/>
            <a:ext cx="5956920" cy="458280"/>
            <a:chOff x="1428480" y="2155680"/>
            <a:chExt cx="5956920" cy="458280"/>
          </a:xfrm>
        </p:grpSpPr>
        <p:sp>
          <p:nvSpPr>
            <p:cNvPr id="270" name=""/>
            <p:cNvSpPr/>
            <p:nvPr/>
          </p:nvSpPr>
          <p:spPr>
            <a:xfrm>
              <a:off x="1428480" y="2155680"/>
              <a:ext cx="232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read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, [</a:t>
              </a:r>
              <a:r>
                <a:rPr b="0" lang="en-US" sz="2400" spc="-1" strike="noStrike">
                  <a:solidFill>
                    <a:srgbClr val="009900"/>
                  </a:solidFill>
                  <a:latin typeface="Arial"/>
                  <a:ea typeface="돋움"/>
                </a:rPr>
                <a:t>Butte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6200" y="2384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54720" y="2155680"/>
              <a:ext cx="2830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[Milk] (12.5%, </a:t>
              </a: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06240" y="3336840"/>
            <a:ext cx="6507360" cy="1357560"/>
            <a:chOff x="1506240" y="3336840"/>
            <a:chExt cx="6507360" cy="1357560"/>
          </a:xfrm>
        </p:grpSpPr>
        <p:sp>
          <p:nvSpPr>
            <p:cNvPr id="274" name=""/>
            <p:cNvSpPr/>
            <p:nvPr/>
          </p:nvSpPr>
          <p:spPr>
            <a:xfrm>
              <a:off x="1506240" y="3336840"/>
              <a:ext cx="6390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  <a:ea typeface="돋움"/>
                </a:rPr>
                <a:t>90%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: confidence factor of the rule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  <a:ea typeface="돋움"/>
                </a:rPr>
                <a:t>(not 100%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506960" y="3870360"/>
              <a:ext cx="6506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2.5%: support for the rul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돋움"/>
                </a:rPr>
                <a:t>the fraction of transactions in datab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1886400" y="2697120"/>
            <a:ext cx="144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antece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62760" y="2697120"/>
            <a:ext cx="150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돋움"/>
              </a:rPr>
              <a:t>conseq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66600" y="5089680"/>
            <a:ext cx="6907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Diet Coke” as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all rules that have “bagels” in the anteced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Find the “best”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 rules that have “bagels” in the consequ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1C8-03A5-4E8E-939B-8322C6FE4917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1532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연관규칙의 정의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: a set of literals called i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: a set of items such that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trans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ssociation rule is an implication of the 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, 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pport, confid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1447920" y="4191120"/>
                <a:ext cx="6705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ppor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containing all the items in </m:t>
                        </m:r>
                        <m:r>
                          <m:t xml:space="preserve">X</m:t>
                        </m:r>
                        <m:r>
                          <m:t xml:space="preserve">∪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# of transactions in the databas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1447920" y="5105520"/>
                <a:ext cx="62481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fidenc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# of transactions that contain both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# of transactions contaning 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D9E-7CAE-43B0-83F6-B238AADABF5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eneralized Association Rules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ssociations between items at any level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xonom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clothes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uterwe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o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 who buy</a:t>
            </a:r>
            <a:r>
              <a:rPr b="1" lang="en-US" sz="1800" spc="-1" strike="noStrike">
                <a:solidFill>
                  <a:srgbClr val="ffcf0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jack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end to buy shoes. (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38080" y="3505320"/>
            <a:ext cx="7925040" cy="2743200"/>
            <a:chOff x="838080" y="3505320"/>
            <a:chExt cx="7925040" cy="2743200"/>
          </a:xfrm>
        </p:grpSpPr>
        <p:sp>
          <p:nvSpPr>
            <p:cNvPr id="286" name=""/>
            <p:cNvSpPr/>
            <p:nvPr/>
          </p:nvSpPr>
          <p:spPr>
            <a:xfrm>
              <a:off x="838080" y="3505320"/>
              <a:ext cx="792504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990720" y="3576960"/>
              <a:ext cx="7696080" cy="2418480"/>
              <a:chOff x="990720" y="3576960"/>
              <a:chExt cx="7696080" cy="2418480"/>
            </a:xfrm>
          </p:grpSpPr>
          <p:sp>
            <p:nvSpPr>
              <p:cNvPr id="288" name=""/>
              <p:cNvSpPr/>
              <p:nvPr/>
            </p:nvSpPr>
            <p:spPr>
              <a:xfrm>
                <a:off x="2819520" y="3576960"/>
                <a:ext cx="11430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loth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76520" y="45874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uter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86200" y="4587480"/>
                <a:ext cx="10670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ir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990720" y="559656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Jacke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71800" y="5596560"/>
                <a:ext cx="152424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ki Pa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105520" y="4587480"/>
                <a:ext cx="9907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ho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82040" y="4587480"/>
                <a:ext cx="19047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iking Boo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7640" y="3647880"/>
                <a:ext cx="1523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Footwea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353040" y="4010040"/>
                <a:ext cx="91440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514240" y="4010040"/>
                <a:ext cx="762120" cy="57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553440" y="408204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714640" y="408204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14600" y="4948200"/>
                <a:ext cx="91440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676160" y="4948200"/>
                <a:ext cx="762120" cy="57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F76-ECA2-481D-9520-6433744EC72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yclic Association Rule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eer and chips are sold together primarily </a:t>
            </a:r>
            <a:r>
              <a:rPr b="0" i="1" lang="ko-KR" sz="2800" spc="-1" strike="noStrike">
                <a:solidFill>
                  <a:srgbClr val="ff0000"/>
                </a:solidFill>
                <a:latin typeface="Arial"/>
              </a:rPr>
              <a:t>between 6PM and 9PM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ssociation rules could also display regular hourly, daily, weekly, etc., variation that has the appearance of cy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An association rule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0" i="1" lang="ko-KR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 Y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 holds in time unit </a:t>
            </a:r>
            <a:r>
              <a:rPr b="0" i="1" lang="ko-KR" sz="28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i="1" lang="ko-KR" sz="28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support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Sup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confidence of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D[i]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exceeds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MinConf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t has a cycle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c = (l, o),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 length 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and an offset</a:t>
            </a:r>
            <a:r>
              <a:rPr b="0" i="1" lang="ko-KR" sz="20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“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coffee </a:t>
            </a:r>
            <a:r>
              <a:rPr b="0" i="1" lang="ko-KR" sz="28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i="1" lang="ko-KR" sz="2800" spc="-1" strike="noStrike">
                <a:solidFill>
                  <a:srgbClr val="ff0033"/>
                </a:solidFill>
                <a:latin typeface="Arial"/>
              </a:rPr>
              <a:t> doughnuts” </a:t>
            </a:r>
            <a:r>
              <a:rPr b="0" lang="ko-KR" sz="2800" spc="-1" strike="noStrike">
                <a:solidFill>
                  <a:srgbClr val="ff0033"/>
                </a:solidFill>
                <a:latin typeface="Arial"/>
              </a:rPr>
              <a:t>has a cycle (24, 7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f the unit of time is an hour and “coffee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doughnuts” holds during the interval 7AM-8AM everyday (I.e., every 24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BFCB-9557-444E-83C6-A6D61B78EE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When is Market Basket Analysis useful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three rules are examples of real rules generated from re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urs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rocery store consumers often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apers and b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Arial"/>
              </a:rPr>
              <a:t>Useful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high quality, actionable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who purchas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aintenance agre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very likely to purcha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arge appli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vial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new hardware store opens, one of the most commonly sold items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ilet r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explicable r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7FB-8EFD-4213-A604-E5266EF51AE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190080"/>
            <a:ext cx="647712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quenti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amples of patte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ustomers typically rent “Star Wars”, then “Empire Strikes Back”, and then “Return of the jedi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Note that these rentals need not to be consecu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수강신청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관광과 여가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1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수도권과 주택문제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2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 </a:t>
            </a:r>
            <a:r>
              <a:rPr b="0" lang="ko-KR" sz="2400" spc="-1" strike="noStrike">
                <a:solidFill>
                  <a:srgbClr val="ff0033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증권시장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(3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학기</a:t>
            </a:r>
            <a:r>
              <a:rPr b="0" lang="ko-KR" sz="2400" spc="-1" strike="noStrike">
                <a:solidFill>
                  <a:srgbClr val="ff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주가 변동 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삼성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LG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전자 주가 상승 </a:t>
            </a:r>
            <a:r>
              <a:rPr b="0" lang="ko-KR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ff"/>
                </a:solidFill>
                <a:latin typeface="Arial"/>
              </a:rPr>
              <a:t> 보해양조 주가 상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구매패턴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양복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와이셔츠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검정색 구두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료진단에서 질병 발생 순서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환자 치료에서 진료 및 투약 패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40D-8C2F-4020-BD77-2AAC861F573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ining Path Traversal Patterns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0" lang="ko-KR" sz="2800" spc="-1" strike="noStrike">
                <a:solidFill>
                  <a:srgbClr val="0000ff"/>
                </a:solidFill>
                <a:latin typeface="Arial"/>
              </a:rPr>
              <a:t>user access patterns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ko-KR" sz="2800" spc="-1" strike="noStrike">
                <a:solidFill>
                  <a:srgbClr val="ff0066"/>
                </a:solidFill>
                <a:latin typeface="Arial"/>
              </a:rPr>
              <a:t>distributed information providing environment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such as WWW, Hitel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elp improving the system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lead to better marke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apturing user access patterns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mining path travers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apturing user travel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mproving the quality of suc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6D7-BDA9-4B88-AB42-938854EEEE9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4044960" y="7682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1124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9704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5960" y="404496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019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30176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008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0440" y="282564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1616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4640" y="1835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9160" y="5264280"/>
            <a:ext cx="368280" cy="3682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514240" y="990720"/>
            <a:ext cx="15238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838080" y="3200400"/>
            <a:ext cx="60984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742840" y="320040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133360" y="4343400"/>
            <a:ext cx="5331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95480" y="4343400"/>
            <a:ext cx="6098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990720"/>
            <a:ext cx="19047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171840" y="21337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2133720"/>
            <a:ext cx="53352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447920" y="2057400"/>
            <a:ext cx="76176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93840" y="1828800"/>
            <a:ext cx="38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79440" y="2803680"/>
            <a:ext cx="32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3640" y="402264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964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574000" y="402264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89280" y="5241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36120" y="5241960"/>
            <a:ext cx="47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3160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27760" y="28036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18480" y="28036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22640" y="7462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돋움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514240" y="838080"/>
            <a:ext cx="121932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371240" y="1981080"/>
            <a:ext cx="609480" cy="6098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33160" y="3048120"/>
            <a:ext cx="533160" cy="8380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143000" y="3352320"/>
            <a:ext cx="609480" cy="83844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828800" y="236196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590920" y="3200400"/>
            <a:ext cx="304560" cy="7621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057400" y="4267080"/>
            <a:ext cx="457200" cy="83844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362320" y="4572000"/>
            <a:ext cx="304560" cy="9144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00760" y="-2819160"/>
            <a:ext cx="1065960" cy="807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ff"/>
            </a:solidFill>
            <a:custDash>
              <a:ds d="499000" sp="20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838080"/>
            <a:ext cx="182880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6019560" y="2133720"/>
            <a:ext cx="15228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6400800" y="2285640"/>
            <a:ext cx="0" cy="6858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705720" y="2133720"/>
            <a:ext cx="457200" cy="60948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55960" y="746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84360" y="1812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93640" y="3032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32080" y="36417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1560" y="25750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0322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66880" y="2057400"/>
            <a:ext cx="533520" cy="685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2440" y="31845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965240" y="42512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22440" y="493704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4267080"/>
            <a:ext cx="533160" cy="9144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84560" y="4327560"/>
            <a:ext cx="701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75280" y="30322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41960" y="898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99160" y="204156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8640" y="2514600"/>
            <a:ext cx="54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cc"/>
                </a:solidFill>
                <a:latin typeface="Arial"/>
                <a:ea typeface="돋움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42160" y="2117880"/>
            <a:ext cx="523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cc"/>
                </a:solidFill>
                <a:latin typeface="Arial"/>
                <a:ea typeface="돋움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26120" y="4602240"/>
            <a:ext cx="4548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Arial"/>
                <a:ea typeface="돋움"/>
              </a:rPr>
              <a:t>Maximal forward 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{ABCD, ABEGH, ABEGW, AOU, AOV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640" y="152280"/>
            <a:ext cx="2827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돋움"/>
              </a:rPr>
              <a:t>Traversal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73360" y="5973840"/>
            <a:ext cx="450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2. Find maximal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74080" y="5592600"/>
            <a:ext cx="4121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돋움"/>
              </a:rPr>
              <a:t>1. Find large reference sequen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7FE6-4D76-44B5-A731-DEF33F1A66C1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의사결정지원 시스템의 발전과정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아키텍쳐 환경의 발전 단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 files,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ts of ma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D (Direct Access Storage Device) &amp; 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, high-performance transaction processing (OL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s, 4GL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processing &amp; MIS/D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SzPct val="6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년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(Data Mining) &amp; DW(Data Warehous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B0B-9A78-41A0-B770-1241B5F94AA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1_5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248160" cy="5207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거미줄 구조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(The Spider We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D10-BE67-4A7D-92E0-A03E22B548D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가지 수준의 아키텍쳐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운영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ration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, day to day, current valued, high probability of access, application 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원자 또는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데이터웨어하우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수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tomic or DW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granular, time variant, integrated, subject oriented, som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부서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partment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ochial, some derived; some primitive, typical departments(accounting, marketing, actua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개인 수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dividual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, ad hoc, heuristic, non-repetitive, PC or workstation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4FC-AD74-4227-8ADC-8AFEB7B8E5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1_11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58200" cy="52340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Levels of the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B26-E26C-422E-82FE-D8A03313E691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DW SDLC (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시스템 개발 생명 주기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stem development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DS(SDLC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의 반대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라고도 부른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ware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for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gains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DS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3333cc"/>
              </a:buClr>
              <a:buSzPct val="6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Understand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DBD-0449-43AA-8F95-6F29CAA341D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웨어하우스의 환경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데이터웨어하우스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관리자의 의사결정을 지원하기 위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주제중심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subject orien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통합된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integrated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비휘발성의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nonvolatil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시간변이적인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(time vari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데이터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2800" spc="-1" strike="noStrike">
                <a:solidFill>
                  <a:srgbClr val="ff0000"/>
                </a:solidFill>
                <a:latin typeface="Arial"/>
              </a:rPr>
              <a:t>집합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이다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D2B-C742-4CF1-84C0-A1AB6B2F0E6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2_1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5178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304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데이터의 주제중심의 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6A3-EA0F-42FA-8174-E6086A1C1469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park@cs.sungshin.ac.k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1:14:05Z</dcterms:created>
  <dc:creator>박종수</dc:creator>
  <dc:description/>
  <dc:language>en-US</dc:language>
  <cp:lastModifiedBy>Jong Soo Park</cp:lastModifiedBy>
  <dcterms:modified xsi:type="dcterms:W3CDTF">2002-05-14T02:32:52Z</dcterms:modified>
  <cp:revision>42</cp:revision>
  <dc:subject/>
  <dc:title>DB와 DM 설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2</vt:r8>
  </property>
  <property fmtid="{D5CDD505-2E9C-101B-9397-08002B2CF9AE}" pid="9" name="HomePage">
    <vt:lpwstr/>
  </property>
  <property fmtid="{D5CDD505-2E9C-101B-9397-08002B2CF9AE}" pid="10" name="LinkColor">
    <vt:r8>16711782</vt:r8>
  </property>
  <property fmtid="{D5CDD505-2E9C-101B-9397-08002B2CF9AE}" pid="11" name="MailAddress">
    <vt:lpwstr>jmlee@hansung.ac.kr</vt:lpwstr>
  </property>
  <property fmtid="{D5CDD505-2E9C-101B-9397-08002B2CF9AE}" pid="12" name="NavBtnPos">
    <vt:r8>4</vt:r8>
  </property>
  <property fmtid="{D5CDD505-2E9C-101B-9397-08002B2CF9AE}" pid="13" name="Other">
    <vt:lpwstr/>
  </property>
  <property fmtid="{D5CDD505-2E9C-101B-9397-08002B2CF9AE}" pid="14" name="OutputDir">
    <vt:lpwstr>D:\jmlee\2000\lecture\db</vt:lpwstr>
  </property>
  <property fmtid="{D5CDD505-2E9C-101B-9397-08002B2CF9AE}" pid="15" name="ScreenSize">
    <vt:r8>3</vt:r8>
  </property>
  <property fmtid="{D5CDD505-2E9C-101B-9397-08002B2CF9AE}" pid="16" name="ScreenUsage">
    <vt:r8>2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