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4A0-07F1-409B-A469-BF14B089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E6F-B0BF-40AD-9A44-262F6D3B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47DC-EA3F-414E-92D5-439CD3A1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5E0-25B2-4CFC-B3D4-E2DBF754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A4C-FDAA-4EA0-827E-F1AE0273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885A-1339-49E7-B312-CBB27FF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B958-C40B-45DE-A981-5EB268E0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9657-E1BB-446A-A098-68DE313C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5E92-4657-443C-940F-E866E65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3EC-7186-4EC4-AEE0-410EDD86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D21B-C8DA-4736-84A5-DED2659E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F1F9-2563-45F3-9C33-2CA7DB0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7C1-1024-4BAD-8BF2-316A9853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EB98-84EA-48BA-990F-DFE52240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E230-0FFE-424A-A595-0A6B6C88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426D-B12B-4EF1-9F8F-E4F4518A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87FC-4FAE-4E01-A3F4-6029D0D3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EA0-FCBE-4F6C-BBCE-08EE277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C1-A894-4327-9316-50E6EDBA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1A9B-FF2E-4553-B100-0BB957D9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B29-BA78-4AB5-AB1C-779A560E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56E-4A80-43B2-91E7-8E455418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054E-9258-4188-B3F5-637B899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BA5-6973-4E32-B5A1-BB8210C8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1F5E-5B0E-43C3-840B-3150ABCC153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6EC-1B15-4FD8-9959-214D30F6258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05D2-71A8-430F-AF7F-F6FF0C5E4BC3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771-51C7-4B98-81FA-53EEFF7F1C0E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Chapter 8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구조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50292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886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니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2B8-B991-4964-8A8F-3F4CE6B59F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2904C-6562-43D4-B309-F5D7BF610F1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8_3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782040" cy="573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CF2-04CF-4F13-B09A-0C21E5EE958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FA724-F4E7-450E-9C98-A67EEE5846D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DBMS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표준 관계형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M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비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사용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관계형 데이터의 다차원 시각을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주문식 사용자 인터페이스를 이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수 목적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 인터페이스 사용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설계시 세가지 결정적인 문제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2D2-EC3A-486F-A849-12108C42C60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1F57F-E031-4B5F-BA69-6290006CF38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대상 데이터베이스로서의 종래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RDB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범용 데이터 접근 도구들을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근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복잡한 조회와 분석 기능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기 위한 추가적인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복제 서비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렬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최적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트맵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색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 및 적재 시간의 단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저가 최적화 프로그램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조회 성능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racle 7.3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ybase System 11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Q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속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25DF-39FB-45ED-BAAB-08AFF8D975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CDAEA-DBFD-4BFC-B547-5283D9F0A60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자산권이 있는 대상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분명한 사업적 명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을 위해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복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회 기능들 사이의 긴밀한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산권 데이터웨어하우징 도구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조회에 신속한 반응을 제공하기 위해 특별히 설계된 다중 플랫폼 엔진을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파일 세분화와 분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된 절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데이터웨어하우징 기능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반복 조회 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9BD-A1A4-4F01-A61A-622A72681F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FDF7C-7B66-46BB-9BBE-15A5C52665D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추출과 관리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문적인 데이터 추출 도구들이 필요한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두 기능을 보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해 제공되는 능력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이라는 전문화된 도구들로 보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과 변환 도구의 두 가지 주요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 제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리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조정을 수행하는 프로그램을 자동으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FDE-F91E-47DB-BC70-C2BD65C3FC9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1DF3F-C7DD-4949-8DA7-CB92BC215CE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을 설명하는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들은 소스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형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대상 데이터를 생성하기 위해 소스 데이터에 적용되었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변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데이터에서 이루어진 변경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상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AS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에 의해 생성된 정보 모델을 포함 가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D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터페이스를 사용하여 반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FD03-2955-44D6-833E-7E8608FCBA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CA7E3-5EE7-40B6-BE05-634B4C4B7DA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위 데이터 접근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떤 전위 도구들이 적합한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관계형 데이터 접근 도구를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목적의 다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SS/EIS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가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계형 조회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관계형 데이터에 매우 편리하게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도움없이 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고서 및 그래픽 프리젠테이션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산업 표준 사용자 인터페이스의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표준 플랫폼으로의 이주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4F5-AD55-4885-A1F6-080CFBDC33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AA3EF-83F8-465D-941B-BDACDE90A7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계형 데이터의 다차원 시각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베이스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래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차원에서 관계형 데이터를 분석할 수 있는 능력을 부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M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지원없이 다차원 데이터 분석을 수행할 수 있는 능력을 부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56C-93D8-4BB3-ADF3-CB9D75104DD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BAD29-E8EA-4779-BE62-03BD6989FED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SS/EI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급 다차원 데이터 분석을 위해 사용되는 좀더 복잡한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SS/EIS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재무 보고와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업 계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ne-of-business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익성 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예산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보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CE2-9F18-45FF-AE14-9243DBDCA9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3C460-E98F-4103-946B-0BF0024ED6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클라이언트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/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 도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들의 특정 요건을 만족하는 주문식 의사 결정 지원 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이 간편한 그래픽 사용자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UI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걸쳐 공통된 모양과 느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순한 데이터베이스 접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가 조정 가능한 온라인 도움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광범위한 멀티미디어 응용 프로그램을 지원하기 위한 확장성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프레드시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드 프로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 패키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CF55-4C2C-49AF-AEF4-399A091B97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FE792-7501-408D-9285-E1318FE2D9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적 사업 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목표를 만족시키는 강력한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서비스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비용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을 쉽게 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 조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관리자들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73%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 안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 시스템에 대한 투자 보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패키지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들을 전위에 배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재정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y D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7DC-5BE5-4D81-BCE7-1E8C190836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E23C3-4E14-4FB8-B5AE-35A2ADB5159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접근 도구의 선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쉬운 사용과 탄탄한 기능에 대한 요건에 따라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편이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oint-and-clic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식 인터페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중 문서 인터페이스 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아이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움말 기능과 같은 일련의 일상적인 기능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적 요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떤 조회 도구를 사용할 것인지에 따라 결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식 의사 결정 지원 응용 프로그램 개발 필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795-B8BC-40D3-BD96-C9260BBBB7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FFFB8-0479-49CC-A882-BB8D244581A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현 옵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의 구현시 구조적 옵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 응용 프로그램 리호스트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에서 메인프레임을 서버로 사용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 구축하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5F2-80F6-4B33-BAA8-8397FD8458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D836E-EF97-491F-81C1-E7B47A8B0FA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99"/>
                </a:solidFill>
                <a:latin typeface="Tahoma"/>
                <a:ea typeface="굴림"/>
              </a:rPr>
              <a:t>메인프레임 응용 프로그램 리호스트 하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를 저가 서버로 이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응용 프로그램들을 훨씬 더 싼 비용의 마이크로컴퓨터 기반 서버로 이동시키는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UNIX(Solaris), Windows 200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 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icroFocus COBOL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 구축에 매력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응용 프로그램과 서비스를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코드가 앞으로 수년 동안 사용 예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리호스팅은 비용을 줄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D0D-1F96-4710-B9DB-22D11F263C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81483-E413-498A-BA64-B237D86B72E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서버로서의 메인프레임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층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접근 방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2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ier architect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위 서버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인프레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클라이언트 구성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반 응용 프로그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</a:t>
            </a:r>
            <a:r>
              <a:rPr b="0" lang="ko-KR" sz="2000" spc="-1" strike="noStrike">
                <a:solidFill>
                  <a:srgbClr val="000099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기존 메인프레임 시스템의 복잡성을 감추는 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S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 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이베이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워소프트 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owerBuil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볼랜드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lph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1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데이터베이스 서버처럼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”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위 시스템의 개발을 부추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B28-9ED2-4DBB-9FFA-D730C5E8C0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509F1-6BD5-435F-86C9-55984799D3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8_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229600" cy="568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215-FDAA-4B6F-82D6-E40A60AEA51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4E7FC-084A-4A21-8F30-DC73DB08A7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정보 구조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3-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ier architectur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을 위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층 기업 정보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속 데이터베이스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상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Target) DB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와 같은 조직 전체 공유 데이터와 업무 규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래픽 지향적인 최종 사용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C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Works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합한” 데이터 웨어하우징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시 일련의 대안 데이터 웨어하우징 구조를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사업 요건을 만족하는 구조 선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F2F-1346-467E-A12E-87E167F2E6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33DA6-815A-42DB-B3E6-1EE593A737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8_2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8077320" cy="577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B86-B51C-4B61-AA30-1A3EB32DA5C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19FA4-2843-4A5A-9258-1BD1BFAEE8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구성요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8-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호스트 컴퓨터에 있는 소스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추출 및 변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링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중앙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대상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위 데이터 접근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D6A-14DE-4CB5-BB65-37FE273D157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F8DA54-FD11-4234-BB6B-E0546ADC75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Jong Soo Park</cp:lastModifiedBy>
  <cp:lastPrinted>1999-09-10T20:38:56Z</cp:lastPrinted>
  <dcterms:modified xsi:type="dcterms:W3CDTF">2002-05-27T23:56:13Z</dcterms:modified>
  <cp:revision>278</cp:revision>
  <dc:subject/>
  <dc:title>No Slide Title</dc:title>
</cp:coreProperties>
</file>