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432-73E9-45FF-BC84-5D66D8C9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990-1B60-473E-81A3-C78D6966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502-906F-4A49-81B7-07E77D4C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F471-F4B2-4EB3-A87A-2A045297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6C2C-A583-47DC-B581-1C3B1F26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2C49-5ADC-431D-83A0-416D8AF9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657B-4410-4187-9258-1B5794E7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FB26-BDAA-4128-9E3A-ACA88835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BCCF2-7043-459B-8193-F10797CE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74BD-E70A-4D71-9999-9F1320BA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1F91-B1F8-43DB-8967-A7733BA4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189-FE7D-44F3-BBEB-0E6F4200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BB58-0FE5-4212-888B-1EE2BB8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0E67-7E02-45CB-A6CF-A867AA13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5E0E-85C2-43B8-8CD2-9D199CCB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3873-556C-4D36-ABCC-BC236B09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2D14-18F3-4F5C-A494-36D8B86B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01C9-D1B8-413C-A5E8-B5ED047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17C6-0545-4A23-8E97-B75141DB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ABC-C7B7-4195-976C-F996B0FA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343-55AE-4AB0-A80C-B6D3132E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F7B7-0357-4C49-8107-4EA7D669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8B1-E505-41A8-AD19-079A7E56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1387-CDD2-4EC5-AB35-5A66A91D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41FD-1103-4643-80B4-D6C0D45D8E2D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7D13-5ECC-4836-8242-0CDB6E8D8F47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23E4-AF6B-4954-8BF5-4DA237E7206B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C4A1-ADFA-4168-B31C-BADDDC6F0BF3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6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E83-A4BF-4B2B-B605-21F74A212C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15724-7069-4FF6-9274-0033471D927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ecur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어플리케이션의 최소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퍼포먼스의 최적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 축소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 계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ecurity hierarchy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품목별 보안 관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75EA-7054-4246-B45D-F4155F21FC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BB2E0-4124-477C-849E-C7E6595D61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관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과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mmary proces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1E6-06B2-4275-B7E1-7E3DC5B12D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6FB0E-A57E-4D46-961B-1F2EA456E7F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과 로드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데이터를 추출하는 과정이 복잡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문제점이 발생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련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정을 자동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xtraction, Transformation, Transpor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시점에 원하는 데이터를 가져온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정확히 반영되어 원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무결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integrity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E5F9-93BF-4D45-8F98-CD68446E53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36B12-5570-42F2-B0B0-9C0B99033FF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추출을 자동화하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em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출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장시간의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상적인 작업인지를 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진행 상화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필요 정보를 메타 테이블에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34AC-A5A8-4B17-B666-CF7519F35D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47B7A-94CD-40AA-8524-2165B4EDDF0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내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별 필요 작업 정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필요 작업별로 모듈화 하는 것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동화 첫걸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주 사실 테이블에 대한 데이터를 추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월별 테이블 삭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별 증분 데이터 반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약 사항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인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각 모듈별 프로그램 작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job queue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에 등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36E-DF3C-4945-99C0-126D2E7FCB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81964-4CFC-40A7-8ED1-71DBB4F9D4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ummary process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자동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하는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시점에 원하는 데이터를 빠르게 제공함으로써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의사결정을 지원하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시간이 경과함에 따라 데이터 양이 증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실적으로 대량의 데이터를 온라인으로 처리하는 것은 불가능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본적인 데이터 양이 줄어들면 가능하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하는 데이터의 크기를 줄이는 요약기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은 데이터 무결성 문제를 야기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erforman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해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요약 테이블을 자동 생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관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ECB-1678-4338-A79C-52E2C7BBA2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A51AE-635F-4B03-915C-CE7CDEEA915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테이블 관리의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체 시스템에서 데이터의 정합성을 보장하기는 아주 어렵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문제점 해결을 위한 기본 개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삭제에 대한 부담 감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 생성의 최적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의 무결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D19-FF20-4982-8A76-784766ED42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2614D-D4C1-4D73-93AB-421A5D505DE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요약 관리를 위한 메타 데이터 설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신속 정확한 요약 과정을 위하여 별도의 메타 데이터 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는 데이터의 일치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 업데이트 및 확장성 보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약 메타 데이터 설계에 대한 가장 기본적인 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ste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생성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반영 일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요약 생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E3F-6B22-4C67-9418-275BFF1679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F2A26-8EAD-464F-8408-72268686B24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보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산출되는 데이터는 의사결정의 토대가 되는 기본 정보이므로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누출 방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의사결정 정보의 산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에 대한 보안도 중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는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한정된 범위 내에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데이터를 이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F87-6974-4EA1-AC48-B1B36A3BDD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5B78A-B209-47FE-8AF2-493952EDCB5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14T03:38:49Z</dcterms:modified>
  <cp:revision>232</cp:revision>
  <dc:subject/>
  <dc:title>제6장 데이터 웨어하우스의 관리</dc:title>
</cp:coreProperties>
</file>