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5B4-765A-427C-B92D-BE798213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A66F-3709-47AC-8CDE-DA482087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198-6F23-4F16-9EE7-CC7F6FCF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4B89-9915-438A-9480-F8EF1FA6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CC42-D221-4CEF-A8AC-BF3B5EE0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4A7A6-AA28-420D-87EB-D5EBF531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3B51-0CEC-4972-ADB6-8768CFAA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A06C-BEBD-432E-ADB8-D6C5A7C2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1637-8320-42F9-BF38-D8A56DD2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4371-3FBD-486B-85FE-A775C2BD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825B-339A-4ADC-91A9-75ED15E5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EB7-6159-49FF-BE7E-F0E8858F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EB28-D86B-4C94-8B58-59E8358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42DD-96D4-4EEF-9089-8D225FAB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90F2-8EB1-4452-949B-007FC80A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4111-F448-497A-9E46-D64979A25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BC58-21C4-41E2-AD16-3AC17B42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C6A-9A41-4A00-9A9D-A2781A3B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A4E-E843-42E9-B0A9-1C201BDE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42D-34EC-4307-9EEE-5FE8391B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988-9063-44C2-BB84-2FB70859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FAA-12E8-4848-9136-1717FC5E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AAD-CA0D-4868-9E69-B157891D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855-F91D-4314-8011-3F394F8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AC69-EA68-4AC1-8366-B885F65061E0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D78C-AB44-4174-A1EB-B569DB6ED3BF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9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조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87B-E303-435F-82DE-38D09055C1E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없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운영계 시스템에서 생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7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참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하드웨어 장비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용 서버를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없으므로 디스크 용량을 작게 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교적 저렴한 비용으로 구축할 수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운영계 시스템에 부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성시 많은 추출 프로그램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795A-8708-4689-A2A0-E9E05B5D40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가 존재하는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장 많이 채택하고 있는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os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추출해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로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데이터의 통합과 정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을 제외하면 운영계 시스템에 부하 없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과 독립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개발과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향후 전사적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의 확장이 매우 쉽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많은 데이터를 보관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을 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/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용량이 커진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A54-C2F2-47C2-85B8-4B42B6CCA99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op-down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Bottom-u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이냐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를 만드는 회사의 주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OLAP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구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를 만드는 데 적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 Mart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를 많이 만들고 이를 통합한다는 것은 거의 불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또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같이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AE1C-57AB-4A0B-945D-8C65B5E2EE2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terprise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회사의 거의 모든 시스템에서 거의 모든 데이터를 가지고 구축하는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02D-6829-4FE7-9EAF-42CAF56C7F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EEA-DA2A-494C-8715-2E8C32AAD1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’로서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7EB-D9EA-47E3-9438-936AA9D747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9A4-75D1-4CBB-A7C2-FB9084B44F6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 웨어하우스의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어플리케이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(Operational Data Sto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사적 데이터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즈니스 환경과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인프라로서의 전사적 데이터 웨어하우스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518-629F-4CB7-9C13-BED3816BD0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기본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데이터 웨어하우스 구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참조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165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sitor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적인 모델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table, dimension table, summary table, meta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여러 가지 기술을 사용하여 액세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계 분석 패키지를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켓팅 분야와 결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2DE-816B-4A2A-B859-5841245608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p-dow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ottom-u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9821-B777-4C33-8A92-45D9715CDA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Mar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수 사용자가 제한된 주제로 소규모의 데이터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부서별로 다양한 분석과 예측을 목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렴한 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쉽고 빠르게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유지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데이터 마트는 관리 지원이 어렵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된 생명이 짧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733920"/>
            <a:ext cx="8915400" cy="596520"/>
            <a:chOff x="228600" y="3733920"/>
            <a:chExt cx="8915400" cy="596520"/>
          </a:xfrm>
        </p:grpSpPr>
        <p:sp>
          <p:nvSpPr>
            <p:cNvPr id="109" name=""/>
            <p:cNvSpPr/>
            <p:nvPr/>
          </p:nvSpPr>
          <p:spPr>
            <a:xfrm>
              <a:off x="228600" y="3886200"/>
              <a:ext cx="2209680" cy="43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OLTP </a:t>
              </a: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시스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4600" y="411480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38280" y="373392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데이터의 추출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7080" y="3809880"/>
              <a:ext cx="1981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ata Mar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48160" y="41148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38880" y="388620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부서별 사용자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975E-2D31-4DE4-AD62-3EF37E9DA3E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Tahoma"/>
                <a:ea typeface="굴림"/>
              </a:rPr>
              <a:t>독립적으로 존재하는 데이터 마트들의 위험성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68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 관리를 매우 혼란스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계 데이터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판매관리 분석을 위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마켓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포팅을 위한 정보계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에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여러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중복해서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571-5547-41F6-B626-4D8DFA2411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같이 존재하는 데이터 마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(Operational Data Sto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 분야의 문제점을 해결하기 위해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중간 단계의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저장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구축하려는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Data Ma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169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같이 존재하는 데이터 마트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871-7A56-41A9-B85D-8BE90B9BB8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역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부분뿐만 아니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모든 데이터의 원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’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주로 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원시 데이터</a:t>
            </a: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굴림"/>
              </a:rPr>
              <a:t>Raw Data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다 들어가기 때문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디스크 용량 산정시 중요한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데이터 정제 작업을 쉽게 할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D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내부 구조가 일반적으로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ER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192-ACE5-40A9-B883-A12EA12D21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DS+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트 구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축 원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의 추출 문제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데이터를 추출하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링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별 데이터 마트의 데이터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D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추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서버에서의 병목 현상을 데이터 마트로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가 통합되지 않은 회사에 많은 도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규모의 제조업체나 소규모의 유통업체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E433-750D-4DAD-9398-7634C7988F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7:05:18Z</dcterms:modified>
  <cp:revision>264</cp:revision>
  <dc:subject/>
  <dc:title>제6장 데이터 웨어하우스의 관리</dc:title>
</cp:coreProperties>
</file>