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2758-F79A-430A-8BF9-CE3DD17C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5130-289C-4528-BBD4-E9D73C18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3FAB-EEDF-4A46-82F8-8FA543CA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4410-C166-405A-996E-9513C77FF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80CB0-A32A-4B23-BC48-E490E21F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CDFF-382E-464A-B2D2-5A349961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77DD-074F-4876-A9DB-70034C09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1BEF-9DEF-4125-A8DB-E5F2409E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80EB-D045-49CB-AEBA-585BE4B4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AD56-686E-4114-BFCB-FCECBF48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D90C-C3FA-42B6-8638-C2D8C92D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11CA-7E05-474A-9EC6-922305B0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BB9E-1026-46C9-9977-E915EC70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8C15-2BB3-4DDD-8D0F-E42CB71A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772A-4476-45C5-B67A-5DDD6A36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00E4-3833-4870-9873-C787A1677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1640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47720" y="198072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44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1640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47720" y="4329360"/>
            <a:ext cx="2600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970E-5DC8-4D62-B244-E49555A3B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36D2-707F-4F99-A4AB-71739208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0460-C716-4268-8999-F6A5B52C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36E8-DA1D-4B1C-A142-E3C4D81A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4A06-D5DA-491A-9F2B-D7892A52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FEDC-2C93-48C7-8DC4-BE1F5182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4720" y="432936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8D0B-CC7B-4D3A-8B76-E4E33499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5232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4720" y="1980720"/>
            <a:ext cx="394164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329360"/>
            <a:ext cx="80773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BBCA-828A-433C-B1AA-FA33F9B3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3360" y="7207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040" y="72072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11430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4300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7320" y="12542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77880" y="61272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920" y="1403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52280" y="6324480"/>
            <a:ext cx="1905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44F7-063E-4A8E-85FF-774E55BCBA61}" type="slidenum">
              <a:rPr b="0" lang="ko-KR" sz="1200" spc="-1" strike="noStrike">
                <a:solidFill>
                  <a:srgbClr val="000000"/>
                </a:solidFill>
                <a:latin typeface="Tahom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c1c1c"/>
                </a:solidFill>
                <a:latin typeface="Tahom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B77D-D6D9-4EC0-A1E4-B7406ACDA838}" type="slidenum">
              <a:rPr b="0" lang="ko-KR" sz="1400" spc="-1" strike="noStrike">
                <a:solidFill>
                  <a:srgbClr val="1c1c1c"/>
                </a:solidFill>
                <a:latin typeface="Tahoma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10 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ERP</a:t>
            </a:r>
            <a:r>
              <a:rPr b="0" lang="ko-KR" sz="5400" spc="-1" strike="noStrike">
                <a:solidFill>
                  <a:srgbClr val="333399"/>
                </a:solidFill>
                <a:latin typeface="Tahoma"/>
                <a:ea typeface="굴림"/>
              </a:rPr>
              <a:t>와 데이터 웨어하우스의 통합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굴림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44193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박 종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성신여자대학교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컴퓨터정보학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92F8-2287-44B9-8FEF-DB8AB72D2FB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>
        <p:wipe dir="d"/>
      </p:transition>
    </mc:Choice>
    <mc:Fallback>
      <p:transition spd="slow">
        <p:wipe dir="d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제 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10 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장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  <a:ea typeface="굴림"/>
              </a:rPr>
              <a:t>ERP</a:t>
            </a:r>
            <a:r>
              <a:rPr b="0" lang="ko-KR" sz="4000" spc="-1" strike="noStrike">
                <a:solidFill>
                  <a:srgbClr val="333399"/>
                </a:solidFill>
                <a:latin typeface="Tahoma"/>
                <a:ea typeface="굴림"/>
              </a:rPr>
              <a:t>와 데이터 웨어하우스의 통합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데이터 웨어하우스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의 통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도입에 데이터 웨어하우스가 필요한 이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와 데이터 웨어하우스 도입시 고려 사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Oracle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솔루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0000"/>
              </a:buClr>
              <a:buSzPct val="80000"/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SA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솔루션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DD12-E63F-4562-9579-FD13739DA9F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  <a:ea typeface="굴림"/>
              </a:rPr>
              <a:t>ERP</a:t>
            </a:r>
            <a:r>
              <a:rPr b="0" lang="ko-KR" sz="4400" spc="-1" strike="noStrike">
                <a:solidFill>
                  <a:srgbClr val="ff0000"/>
                </a:solidFill>
                <a:latin typeface="굴림"/>
                <a:ea typeface="굴림"/>
              </a:rPr>
              <a:t>란 무엇인가</a:t>
            </a:r>
            <a:r>
              <a:rPr b="0" lang="ko-KR" sz="4400" spc="-1" strike="noStrike">
                <a:solidFill>
                  <a:srgbClr val="ff0000"/>
                </a:solidFill>
                <a:latin typeface="굴림"/>
                <a:ea typeface="굴림"/>
              </a:rPr>
              <a:t>?</a:t>
            </a:r>
            <a:br>
              <a:rPr sz="4400"/>
            </a:br>
            <a:r>
              <a:rPr b="0" lang="ko-KR" sz="4400" spc="-1" strike="noStrike">
                <a:solidFill>
                  <a:srgbClr val="ff0000"/>
                </a:solidFill>
                <a:latin typeface="굴림"/>
                <a:ea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tp://www.valhae.com/business/erp.html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굴림"/>
                <a:ea typeface="굴림"/>
              </a:rPr>
              <a:t>Enterprise Resource Planning/</a:t>
            </a:r>
            <a:r>
              <a:rPr b="1" lang="ko-KR" sz="3200" spc="-1" strike="noStrike">
                <a:solidFill>
                  <a:srgbClr val="3333cc"/>
                </a:solidFill>
                <a:latin typeface="굴림"/>
                <a:ea typeface="굴림"/>
              </a:rPr>
              <a:t>전사적 자원관리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회사전체 경영자원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,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즉 생산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,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판매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,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물류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,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회계 등의 기업업무를 통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전사적인 경영자원으로 활용하기 위하여 최적화하는 시스템으로 주로 통합시스템 소프트웨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기업의 경영목적을 가장 효율적으로 달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기업내의 생산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회계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영업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재고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판매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물류 등의 업무를 통합적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조직적으로 연계 관리하고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464646"/>
                </a:solidFill>
                <a:latin typeface="굴림"/>
                <a:ea typeface="굴림"/>
              </a:rPr>
              <a:t>회사 내 모든 정보를 공유하며 정보를 만들어 제공한다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기업의 생산성과 경쟁력을 극대화시키는 통합</a:t>
            </a:r>
            <a:r>
              <a:rPr b="0" lang="ko-KR" sz="2400" spc="-1" strike="noStrike">
                <a:solidFill>
                  <a:srgbClr val="464646"/>
                </a:solidFill>
                <a:latin typeface="굴림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굴림"/>
                <a:ea typeface="굴림"/>
              </a:rPr>
              <a:t>시스템 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  <a:ea typeface="굴림"/>
              </a:rPr>
              <a:t>(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  <a:ea typeface="굴림"/>
              </a:rPr>
              <a:t>OLTP layer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  <a:ea typeface="굴림"/>
              </a:rPr>
              <a:t>의 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  <a:ea typeface="굴림"/>
              </a:rPr>
              <a:t>software, 177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  <a:ea typeface="굴림"/>
              </a:rPr>
              <a:t>페이지 참조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56B5-C871-4AF8-8C0C-46FDEAADA1F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erp_p1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839080" cy="4907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762120"/>
            <a:ext cx="73915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valhae.com/business/erp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AAE8-092C-4668-866F-E79AAEDFC012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RP 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도입에 데이터 웨어하우스가 필요한 이유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서구 우수 모범 기업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est practice)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프로세스를 담고 있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Customi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자체의 프로세스를 바꾸는 것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어려운 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원하는 장표를 개발하는 것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Reporting system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개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표준화된 장표와 그 외는 프로그래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OLA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을 이용하면 정형화된 장표와 비정형화된 장표를 얻을 수 있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1C0E-2D56-4BD5-8879-0BE553121CA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R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데이터 웨어하우스 도입시 고려사항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1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는 운영계에 해당하는 시스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정보계에 해당하는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트랜잭션을 처리하는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는 트랜잭션의 결과를 분석하는 시스템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와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를 하나의 하드웨어에 구축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동일한 하드웨어에서 운영되는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 부하를 줄 수 있다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다른 하드웨어를 사용하는 것이 바람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먼저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가 먼저인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순서는 별 문제없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AF23-61A7-455B-9C95-9C8F2FAE8C3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ER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와 데이터 웨어하우스 도입시 고려사항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(2/2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에서 데이터를 어떻게 추출하는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 vendor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제공하는 추출 도구를 사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굴림"/>
              </a:rPr>
              <a:t>용 데이터 마트의 위험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에서 데이터를 추출하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ERP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용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ata M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부서 단위의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warehouse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또는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m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목적별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 m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의 추세는 전사적 데이터 웨어하우스 구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W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가 고급 데이터 분석의 내용을 제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굴림"/>
              </a:rPr>
              <a:t>기업의 경영 활동에 부가가치를 창조할 수 있는 시스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ECFB-38AD-4576-84EE-82AFF90A108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racle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olu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3B61-12E6-4D30-A69E-896DBA1A78F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AP</a:t>
            </a:r>
            <a:r>
              <a:rPr b="0" lang="ko-KR" sz="3600" spc="-1" strike="noStrike">
                <a:solidFill>
                  <a:srgbClr val="333399"/>
                </a:solidFill>
                <a:latin typeface="Tahoma"/>
                <a:ea typeface="굴림"/>
              </a:rPr>
              <a:t>의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굴림"/>
              </a:rPr>
              <a:t>Solu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AF39-D778-40F3-BCCB-A9652935599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 정보공학특강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9T04:38:52Z</dcterms:created>
  <dc:creator>Jong Soo Park</dc:creator>
  <dc:description/>
  <dc:language>en-US</dc:language>
  <cp:lastModifiedBy>Jong Soo Park</cp:lastModifiedBy>
  <cp:lastPrinted>1999-09-10T20:38:56Z</cp:lastPrinted>
  <dcterms:modified xsi:type="dcterms:W3CDTF">2002-05-27T08:20:24Z</dcterms:modified>
  <cp:revision>276</cp:revision>
  <dc:subject/>
  <dc:title>제6장 데이터 웨어하우스의 관리</dc:title>
</cp:coreProperties>
</file>