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0A60-87B5-4253-B846-1C31329CF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882-4AE3-4236-A7F0-E913B12C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768-6662-4F83-B8FC-F3262774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16D-FEB3-4CE5-BF4C-C79067B7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87A7-FFF2-4144-A475-EA6939BA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E32F-9315-447A-A6C5-F528DE94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9F5A-BA8F-473D-81EE-961BACD0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4E47-B0B6-47F2-BEC2-8A859B56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168-D362-4ED6-A6A0-3A11130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6F3E-AEDE-4466-ABB8-5B78867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1847-81E3-410C-9573-37E82347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337E-5A47-4904-86BB-1508B5A1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25A7-51A8-4CF4-94BC-CBC8A2B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7531-4BCC-4F76-8686-FE1CD6A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2AD3-48C4-4C01-B7A5-DB84E7C4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6091-BB40-4C50-BBED-C8C2382B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4E41-CFE1-40D1-B553-AF961B6F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E3F-9A02-493F-8068-F9884E7C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826-2E80-4398-92BD-94323AE7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3F41-CBFE-4EAA-B372-EBA09639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F02-D872-4098-9328-BEB4D0E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223-96EB-4D5A-8869-6D6A9616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C419-7D1E-4198-ABC5-D344BF18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DB9A-2500-4D56-BFFA-99AADB9F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8452-E170-4EC7-ACC7-6B9C201F95E4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347-9DCC-4060-963E-57C28DAACAF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8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켓팅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69E-F146-46E2-981B-806E41C1BBC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과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정제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필수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는 정제된 데이터가 이미 존재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E29C-DA7B-463B-A9FB-28C38AE9F8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이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도구를 이용해 분석하는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56 – 158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1DF-A054-4228-AF77-A528EFF064F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의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수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 작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트레이닝 셑과 테스트 셑을 결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 작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적용과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xternal evaluation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와 테스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실제 데이터를 적용해보고 그 결과를 분석한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111-9CF4-47AA-BDAB-0650568648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 모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redic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lassification: decis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escriptiv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관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ssociation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CCC-1574-4ED9-9EDE-139A4FF687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ecision tre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에 의한 데이터 마이닝 분석의 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준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oot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불만 신고에 의해서 해지자를 먼저 고른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ternal) 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체 회수를 가지고 나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결정하는 방법이 중요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결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6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Rul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흰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검정색 노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86C-A705-454E-8C4B-9B5A72085A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할 때 고려 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험적인 규칙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 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수많은 시행착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발견 후에도 끊임없이 결과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는 쉬운 것이 아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문가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통계적 분석에 경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장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과 확실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ROI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도 분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특정 분야를 중심으로 확산 예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손쉬운 도구의 활성화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Visu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418-A3EF-4B27-8EC7-67836503DC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현실화한 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M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70B-98CF-42E0-A06F-D25446F1D49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베이스 마케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학적인 경영기법을 도입하려는 시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 Marketing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 이미 활용되고 있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 마케팅 접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cc"/>
                </a:solidFill>
                <a:latin typeface="Tahoma"/>
                <a:ea typeface="굴림"/>
              </a:rPr>
              <a:t>고객 개인과의 관계를 중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1:1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ife time valu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최대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 유지 마케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etention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이탈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ction rat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454-0AB6-43F0-9DF5-ADF32FC4BF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의 데이터베이스 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계적 방식과 프로그램을 개발하는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Samp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의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결과에 오차 가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시에 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마케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L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사용하여 다양한 분석을 다차원으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A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는 비정형화된 분석에 매우 강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를 가지므로 즉시 데이터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088-8DAC-4971-B3D4-4FC0B24E335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마켓팅을 현실화한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 마케팅을 위한 데이터 웨어하우스 기본 구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147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ROLAP, MOLAP, 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TM, DM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 OD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굴림"/>
              </a:rPr>
              <a:t>(feedb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화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카드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은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험 회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신 회사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OLAP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F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귀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세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0/20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HAID(Chi-square Automatic Interaction Detector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 수식이 주어지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즉시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E0F-AC8F-45D9-9C76-E7AE708A5F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고객 데이터베이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에 관한 정보를 체계적으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데이터베이스로부터 원하는 정보를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하여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필요한 데이터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고객과 관련 데이터를 이용하여 효과적인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M/DM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실시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단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케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팅 결과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데이터베이스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관리함으로써 장기적인 마케팅 의사결정을 지원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4BD7-22AB-46FF-9B92-1B6EDA8EEF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의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단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을 위한 최적의 시스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의 요구가 고객 관리에 중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이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분야에서 데이터의 상관관계를 분석하여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비즈니스에 유용한 법칙을 발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전문가는 고객 데이터 내용을 잘 알아야 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의 성향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지 고객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용카드의 위조 사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raud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DF0-1259-454F-9CF5-3D413E5968B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을 해야만 하는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M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상관 관계를 분석하여 미래 예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환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가 광범위하게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상에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M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을 이용하여 복잡한 데이터 분석 요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 난이도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usiness Pay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소규모의 투자로도 많고 빠른 효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분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로 데이터베이스 마케팅 분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통신회사의 해지자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유통 업체의 장바구니 분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arket basket analys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용 카드 회사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raud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일반 회사의 광고 효과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신제품 개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고객 성향 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F17-A118-4AD8-8565-A48F28DC12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마이닝에 대한 </a:t>
            </a:r>
            <a:r>
              <a:rPr b="0" lang="ko-KR" sz="3600" spc="-1" strike="noStrike">
                <a:solidFill>
                  <a:srgbClr val="ff0000"/>
                </a:solidFill>
                <a:latin typeface="Tahoma"/>
                <a:ea typeface="굴림"/>
              </a:rPr>
              <a:t>잘못된 인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 도구를 사용하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자동적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비즈니스의 법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ul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발견하고 즉각적으로 활용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누구나 데이터 마이닝 도구만 있으면 데이터 마이닝을 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통계와 다른 인공지능 기법을 이용한 새로운 기술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를 변환하지 않고 즉각적으로 분석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에는 별도의 하드웨어가 필요없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C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만으로도 가능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E812-03E9-41CB-9291-2BA674C23A4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0T06:03:39Z</dcterms:modified>
  <cp:revision>253</cp:revision>
  <dc:subject/>
  <dc:title>제6장 데이터 웨어하우스의 관리</dc:title>
</cp:coreProperties>
</file>