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992-42AC-40D2-AF92-A23524E9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A277-F905-40B2-8617-EDFDE894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C86-FC97-4E2E-AF73-208FB536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5BC-FBD1-4601-8129-57F4E02C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15EA-DDA5-4F3E-9C67-A47A7F90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32BF-1079-4B4E-86E5-2E87783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96A9-322D-4EC0-A20C-52850B60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8E05-F91D-49AF-BA49-1D6F6B4A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CEDF-A050-40F8-84CE-2D37955E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D5F7-9192-400D-8B02-FABAC90D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5E1E-371C-41B0-8656-B371F73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2F0-51F1-4BB7-ADA7-AFAA39D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5423-8563-4749-9370-45C1D6B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7829-545D-4928-B0A2-C44B5F9A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AD04-C0B0-49CC-9978-C0EE01AC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4120-E908-47EC-A679-BB583871A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20FD-B2DA-4192-9E44-4786A84A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100-AD67-4952-BCE1-58E7CBCE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724-1010-4C46-8A86-5ED76AFB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DA1-9F03-4620-98B2-E525A30C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875-2FBD-4E04-9470-F1407D7B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79BD-B3EC-4CF9-A622-15F54461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837-7ADF-4EF4-B506-72CD55AD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1D4-0500-42A8-8DF6-26FBA70A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4614-A1B0-42BC-878B-02DF4CAE93B6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953-9D7D-4FFE-A93A-A5088F954A6D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4D48-C170-4BAA-B358-591DD2015B7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단계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-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정의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의 목적 선언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ission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1CA-BACE-45D4-BD41-3AD36D90F3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1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 구축 방법론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프로젝트 추진의 주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업무 선정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방법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다른 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시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97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정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설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천이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발견과 발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모든 단계에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굴림"/>
              </a:rPr>
              <a:t>문서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AF2-985B-4A73-8E1F-1988CFDA64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원칙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안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이 사용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의 요구 사항이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100%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반영되어야 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양이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강력한 하드웨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섬세한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B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설계 및 튜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신속한 추출과 로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을 구축해본 경험으로 하면 실패하기 쉽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538-3FAE-477C-915B-F2496E631F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프로젝트 추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제트 추진 주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제일 바람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현업에서 원하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구축 가능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컴퓨터 비전문가로 인한 신기술 도입에 어려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전산실에서 주도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대개의 경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파일럿 시스템 구축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외국 컨설팅 업체에서 맡길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국내 기술로도 가능하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F9C-56C5-4709-8417-35886A4659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업무 선정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안시 가장 고민하는 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제 영역 선정 작업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99"/>
                </a:solidFill>
                <a:latin typeface="Tahoma"/>
                <a:ea typeface="굴림"/>
              </a:rPr>
              <a:t>민감한 부분을 해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국내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제 영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통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를 만들기 힘든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경영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장표 분석 결과가 운영계 시스템과 일치하지 않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고객 분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분석을 배치 작업으로 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현재의 정보 가동 방식으로는 전혀 분석할 수 없는 부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2429-BDCD-44BB-BE85-684C44282A7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방법이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LT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다른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사용자 수를 기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데이터는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보다 약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Hardwar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에 오류 가능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실제 데이터로 구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병목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네트워크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병목 현상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클라이언트 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현업이 프로젝트의 처음에서 끝까지 참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주인은 현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주인은 전산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1CB8-B045-4C08-BC9B-FDE49D9B8C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 Project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시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 발주와 도착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주문에서 설치까지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월 가량 걸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원시 데이터를 정의하고 초기의 원시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로 내리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생각보다 시간이 많이 걸린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기존의 운영계 시스템에서 데이터를 맞추는 시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안 맞을 것이다’라는 자세에서 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업무를 협의하는 시간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많으면 곤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1EC6-753A-4AC1-B21C-EF6345C1ED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 구축 방법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모든 단계를 체계적으로 정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정밀 지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회사마다 구축 방법론이 다르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project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TP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시스템 개발과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다른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굴림"/>
              </a:rPr>
              <a:t>cycle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갖는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F4B-91FB-4B28-9EBB-A0808FB958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762120"/>
            <a:ext cx="5638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685800"/>
            <a:ext cx="779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Oracle 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구축 방법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1447920" y="1600200"/>
            <a:ext cx="5333760" cy="5016240"/>
            <a:chOff x="1447920" y="1600200"/>
            <a:chExt cx="5333760" cy="5016240"/>
          </a:xfrm>
        </p:grpSpPr>
        <p:sp>
          <p:nvSpPr>
            <p:cNvPr id="117" name=""/>
            <p:cNvSpPr/>
            <p:nvPr/>
          </p:nvSpPr>
          <p:spPr>
            <a:xfrm>
              <a:off x="1447920" y="1600200"/>
              <a:ext cx="525780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정  의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47920" y="25160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분  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47920" y="343224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설  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34808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ff0000"/>
                  </a:solidFill>
                  <a:latin typeface="Tahoma"/>
                  <a:ea typeface="굴림"/>
                </a:rPr>
                <a:t>구  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47920" y="5221440"/>
              <a:ext cx="3124080" cy="47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천  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47920" y="6095880"/>
              <a:ext cx="533376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발견과 발전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489560" y="3892680"/>
              <a:ext cx="3124080" cy="52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800" spc="-1" strike="noStrike">
                  <a:solidFill>
                    <a:srgbClr val="000000"/>
                  </a:solidFill>
                  <a:latin typeface="Tahoma"/>
                  <a:ea typeface="굴림"/>
                </a:rPr>
                <a:t>문 서 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19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992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133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71800" y="3048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718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71800" y="4800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5715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0" y="2819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7339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4572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54864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CB0-4AAA-401C-8419-74314CE2A5C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6-03T06:11:41Z</dcterms:modified>
  <cp:revision>288</cp:revision>
  <dc:subject/>
  <dc:title>제6장 데이터 웨어하우스의 관리</dc:title>
</cp:coreProperties>
</file>