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F882-A9B8-4920-8996-BF5891DA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DD4-9007-4367-80D7-A9A33F7E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8381-E730-4036-8F0A-5F7B1CDC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7BC-8F29-4530-BE8E-24C072637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D499-1A52-496C-9EC7-71EBA72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B7AB-20E2-47E9-A94C-E4015C41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E4AC-2EE7-48E7-8037-A920C2C6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13F7-6C3C-4C1C-9788-1A1BD892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C1EC-049E-4F92-84A0-693AFDC0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AA74-F5EE-45BC-9E74-A8DD1783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C21A-F3CD-4DA5-B807-50F0642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1C3-C7AC-492F-A3A4-BCF5B3C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F0D1-64C3-4D92-A280-78F20A8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E4F-53CA-4938-9274-F8A1D5EC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9CE8-8F88-4DD0-9EBD-7EF6CBFF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AAF-9749-4399-BE50-C20CE80E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E5CA-4FE0-4058-B8C1-65493054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5CD-CA59-4E2F-98CA-9941ECF7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869F-7E48-4B4C-802F-1A38554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2CF-094C-4400-B327-02B299B7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7941-FF0D-4D76-B886-9966635C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8AC-B507-43B8-8645-21DFC8A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91C9-3CA0-408A-96FF-B6386337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CB32-AEA6-463D-A6E6-7A1EFFFD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27BB-787F-4DBA-B9E7-A0793FC0AF97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4AFE-CB7A-4FE8-89D1-38634BB3404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EB32-A2F8-479D-9CB5-4A5ECCEC885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5F6B-F5CA-423A-BACD-9A0BDD053750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위한 데이터베이스 설계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기본요건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9D3-2F29-4F15-A01A-32B72BCAD93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07D3B-C916-4496-A6FC-A81A5CE6EF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신뢰할 수 있는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있는 해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번째 중요한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일괄 형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atch format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으로 적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클린징 또는 변환 과정이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결성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형 스키마에 함축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 키 외부 키 참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imary key foreign key refer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결합 경로의 명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E7F7-6A69-4765-B2A3-26DF2F3725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8222-3071-4424-B642-5472AE4DE2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9_3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001000" cy="61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99C-6A68-4C87-A673-620E6E83DF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156D0-B904-4263-A4EE-DEFC9C4BCBE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회 처리 속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세 번째 중요한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분석가들의 조회를 신속히 처리하고 그들의 사고 흐름을 따라잡을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안정된 고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ko-KR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필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 시에 고려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표 열 위에 구축된 색인의 유형과 색인 수의 함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 차원 표의 모든 열마다 색인을 붙이는 것이 훌륭한 전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각기 다른 차원에 대해 각기  다른 유형의 색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124-E52D-49F3-8C61-29A4835F9A3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25055-256E-4951-8E67-FB024EF178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적재 처리와 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번째 중요한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설계에서 더 결정적인 측정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에서 웨어하우스로 데이터를 적재하는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몇 시간 대 며칠의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재 속도는 웨어하우스 설계의 다른 기본 원칙을 고수하면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시 성형 스키마 스타일 단순성의 원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 구조의 단순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깨끗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참조 무결성 등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DCF-1808-48EE-AFBC-00E232B6A5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17B9B-646C-4FCA-92CA-FE2E4F59822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의 갖가지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스키마의 점증하는 복잡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ulti-fact star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05FD-777B-4AF3-BE41-784782D608F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0057FC-AAEA-49EE-A05F-386D11629B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utboard 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외부 키 참조를 통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utboard tab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utrigger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라 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내부 차원에 너무 많은 부담을 주게 될 데이터를 격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 단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4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136-4409-45FD-8589-01EE2E64811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F0C65-9F62-427F-94C8-0DAFC58BEC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9_4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5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4FD-EF95-4D83-ADC9-AC6D24C6AC03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F82DA-401D-4499-8F05-6E1741EBB50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 표 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치 체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기업 전반에 걸쳐 종종 가치 체인의 부분들을 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조직체를 통틀어 제품 또는 서비스의 흐름을 반영하는 일련의 연결된 업무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공유 차원들을 갖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사실 “군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family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다음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l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830-898F-40CC-8862-95D2D5C810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ECEA1-A792-4D88-ADAB-963486C3E9C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9_5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696080" cy="659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60A-A45A-4933-97AB-62DF32BA80B0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4DF25-4B48-4331-8858-1A304D2D19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다성형 사실 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 키의 어떤 조합이 사실 표에서 둘 이상의 행을 가리킬 경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-&gt;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ulti-star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6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1ED-41D6-4809-9491-9EB18BD7AA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D4381-C0CA-41B8-AA2A-81E402B4CC1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9 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설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본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가지 규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간단하게 하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간단하게 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em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시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속도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조회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자 데이터 적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변경되지 않고 무결성이 엄격히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52B-C48A-4796-AAD8-64266FCEBF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FF245-94AB-4130-8BD4-6582871EE2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9_6" descr=""/>
          <p:cNvPicPr/>
          <p:nvPr/>
        </p:nvPicPr>
        <p:blipFill>
          <a:blip r:embed="rId1"/>
          <a:stretch/>
        </p:blipFill>
        <p:spPr>
          <a:xfrm>
            <a:off x="1295280" y="0"/>
            <a:ext cx="6629400" cy="653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5295-ED09-45AE-A1BC-C0A6C3313B6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9A26-92F7-45B6-B809-1D2670E47E6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onceptual Modeling of Data Warehou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odeling data warehouses: dimensions &amp; meas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tar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fact table in the middle connected to a set of dimension tab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2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Snowflake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A refinement of star schema where some dimensional hierarchy i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normalized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 into a set of smaller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forming a shape similar to snowfl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ea typeface="굴림"/>
              </a:rPr>
              <a:t>Fact constella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:  </a:t>
            </a:r>
            <a:r>
              <a:rPr b="0" lang="en-US" sz="2000" spc="-1" strike="noStrike">
                <a:solidFill>
                  <a:srgbClr val="006666"/>
                </a:solidFill>
                <a:latin typeface="Tahoma"/>
                <a:ea typeface="굴림"/>
              </a:rPr>
              <a:t>Multiple fact tables share dimension t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, viewed as a collection of stars, therefore called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  <a:ea typeface="굴림"/>
              </a:rPr>
              <a:t>galaxy sche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or fact constel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774-E96A-430C-9338-BB29BC88B8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32F76-8BF3-4249-A007-3C682604253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tar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419880" y="1676160"/>
            <a:ext cx="249552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548160" y="31622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40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606360" y="3867120"/>
            <a:ext cx="1902600" cy="1873800"/>
            <a:chOff x="6606360" y="3867120"/>
            <a:chExt cx="1902600" cy="1873800"/>
          </a:xfrm>
        </p:grpSpPr>
        <p:sp>
          <p:nvSpPr>
            <p:cNvPr id="143" name=""/>
            <p:cNvSpPr/>
            <p:nvPr/>
          </p:nvSpPr>
          <p:spPr>
            <a:xfrm>
              <a:off x="6606360" y="4276800"/>
              <a:ext cx="1902600" cy="1464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06720" y="386712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448800" y="227952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8160" y="26971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274320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76600" y="319248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8160" y="36273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6240" y="363852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48160" y="409104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75160" y="411480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48160" y="455616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75880" y="460692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48160" y="502128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76240" y="50515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48160" y="5486400"/>
            <a:ext cx="206532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57880" y="549756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5905440"/>
            <a:ext cx="121932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771640" y="47811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52560" y="53240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752560" y="56926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28840" y="39495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80000" y="4356000"/>
            <a:ext cx="1040040" cy="3873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580000" y="2709360"/>
            <a:ext cx="1077840" cy="677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613200" y="1603080"/>
            <a:ext cx="1431720" cy="1910880"/>
            <a:chOff x="6613200" y="1603080"/>
            <a:chExt cx="1431720" cy="1910880"/>
          </a:xfrm>
        </p:grpSpPr>
        <p:sp>
          <p:nvSpPr>
            <p:cNvPr id="168" name=""/>
            <p:cNvSpPr/>
            <p:nvPr/>
          </p:nvSpPr>
          <p:spPr>
            <a:xfrm>
              <a:off x="6613200" y="2049840"/>
              <a:ext cx="143172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23440" y="160308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44200" y="3886200"/>
            <a:ext cx="1499760" cy="1383120"/>
            <a:chOff x="844200" y="3886200"/>
            <a:chExt cx="1499760" cy="1383120"/>
          </a:xfrm>
        </p:grpSpPr>
        <p:sp>
          <p:nvSpPr>
            <p:cNvPr id="171" name=""/>
            <p:cNvSpPr/>
            <p:nvPr/>
          </p:nvSpPr>
          <p:spPr>
            <a:xfrm>
              <a:off x="9244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2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069-679E-4C10-A74C-FB2D3BC6FA0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AF140-1CC9-4D0E-9064-4C3F9BFA4E8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9200" y="782640"/>
            <a:ext cx="72266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Snowflake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3317760" y="31050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7800" y="1295280"/>
            <a:ext cx="1812600" cy="2152800"/>
            <a:chOff x="307800" y="1295280"/>
            <a:chExt cx="1812600" cy="2152800"/>
          </a:xfrm>
        </p:grpSpPr>
        <p:sp>
          <p:nvSpPr>
            <p:cNvPr id="176" name=""/>
            <p:cNvSpPr/>
            <p:nvPr/>
          </p:nvSpPr>
          <p:spPr>
            <a:xfrm>
              <a:off x="307800" y="1709640"/>
              <a:ext cx="1812600" cy="1738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520" y="1295280"/>
              <a:ext cx="636120" cy="3974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869440" y="3809880"/>
            <a:ext cx="1369800" cy="1321200"/>
            <a:chOff x="5869440" y="3809880"/>
            <a:chExt cx="1369800" cy="1321200"/>
          </a:xfrm>
        </p:grpSpPr>
        <p:sp>
          <p:nvSpPr>
            <p:cNvPr id="179" name=""/>
            <p:cNvSpPr/>
            <p:nvPr/>
          </p:nvSpPr>
          <p:spPr>
            <a:xfrm>
              <a:off x="5870160" y="4215600"/>
              <a:ext cx="1369080" cy="91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869440" y="3809880"/>
              <a:ext cx="10051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272400" y="2152800"/>
            <a:ext cx="186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7760" y="263988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240" y="2685960"/>
            <a:ext cx="2057400" cy="3974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6560" y="3135240"/>
            <a:ext cx="2028960" cy="397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17760" y="357012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5840" y="3581280"/>
            <a:ext cx="2080800" cy="39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17760" y="403380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45120" y="4057560"/>
            <a:ext cx="2077920" cy="39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7760" y="4498920"/>
            <a:ext cx="206532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5480" y="4549680"/>
            <a:ext cx="200196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7760" y="496404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5840" y="499428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17760" y="5429160"/>
            <a:ext cx="2065320" cy="45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27480" y="5440320"/>
            <a:ext cx="2007720" cy="397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5867280"/>
            <a:ext cx="1218960" cy="397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590920" y="4723920"/>
            <a:ext cx="76968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571840" y="5267160"/>
            <a:ext cx="788760" cy="5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571840" y="5635800"/>
            <a:ext cx="90468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133720" y="388620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2133360" y="2514240"/>
            <a:ext cx="1446120" cy="4856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4267080"/>
            <a:ext cx="457200" cy="5335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334120" y="2819160"/>
            <a:ext cx="60948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946840" y="1526760"/>
            <a:ext cx="1367640" cy="1910880"/>
            <a:chOff x="5946840" y="1526760"/>
            <a:chExt cx="1367640" cy="1910880"/>
          </a:xfrm>
        </p:grpSpPr>
        <p:sp>
          <p:nvSpPr>
            <p:cNvPr id="204" name=""/>
            <p:cNvSpPr/>
            <p:nvPr/>
          </p:nvSpPr>
          <p:spPr>
            <a:xfrm>
              <a:off x="5946840" y="1973520"/>
              <a:ext cx="1367640" cy="1464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1526760"/>
              <a:ext cx="72468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15600" y="3886200"/>
            <a:ext cx="1499760" cy="1383120"/>
            <a:chOff x="615600" y="3886200"/>
            <a:chExt cx="1499760" cy="1383120"/>
          </a:xfrm>
        </p:grpSpPr>
        <p:sp>
          <p:nvSpPr>
            <p:cNvPr id="207" name=""/>
            <p:cNvSpPr/>
            <p:nvPr/>
          </p:nvSpPr>
          <p:spPr>
            <a:xfrm>
              <a:off x="695880" y="4353840"/>
              <a:ext cx="1419480" cy="91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15600" y="3886200"/>
              <a:ext cx="101124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9320" y="1984680"/>
            <a:ext cx="1441080" cy="984960"/>
            <a:chOff x="7699320" y="1984680"/>
            <a:chExt cx="1441080" cy="984960"/>
          </a:xfrm>
        </p:grpSpPr>
        <p:sp>
          <p:nvSpPr>
            <p:cNvPr id="210" name=""/>
            <p:cNvSpPr/>
            <p:nvPr/>
          </p:nvSpPr>
          <p:spPr>
            <a:xfrm>
              <a:off x="7708680" y="2328480"/>
              <a:ext cx="1431720" cy="641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ke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99320" y="1984680"/>
              <a:ext cx="1165320" cy="459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 flipV="1">
            <a:off x="7238880" y="2971440"/>
            <a:ext cx="533520" cy="304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7547040" y="4800600"/>
            <a:ext cx="1712520" cy="1471680"/>
            <a:chOff x="7547040" y="4800600"/>
            <a:chExt cx="1712520" cy="1471680"/>
          </a:xfrm>
        </p:grpSpPr>
        <p:sp>
          <p:nvSpPr>
            <p:cNvPr id="214" name=""/>
            <p:cNvSpPr/>
            <p:nvPr/>
          </p:nvSpPr>
          <p:spPr>
            <a:xfrm>
              <a:off x="7550640" y="5206320"/>
              <a:ext cx="1708920" cy="106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547040" y="4800600"/>
              <a:ext cx="565920" cy="397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162920" y="5105520"/>
            <a:ext cx="457200" cy="5331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A7B-701A-4386-AA7B-5B02554AF4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B50FE-A390-4DEA-8734-99B0B9FCCC3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468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xample of Fact Constell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895480" y="30481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2200" y="1219320"/>
            <a:ext cx="1631520" cy="1967040"/>
            <a:chOff x="232200" y="1219320"/>
            <a:chExt cx="1631520" cy="1967040"/>
          </a:xfrm>
        </p:grpSpPr>
        <p:sp>
          <p:nvSpPr>
            <p:cNvPr id="220" name=""/>
            <p:cNvSpPr/>
            <p:nvPr/>
          </p:nvSpPr>
          <p:spPr>
            <a:xfrm>
              <a:off x="232560" y="1633680"/>
              <a:ext cx="1631160" cy="155268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ay_of_the_wee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qua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y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2200" y="1219320"/>
              <a:ext cx="593640" cy="366840"/>
            </a:xfrm>
            <a:prstGeom prst="rect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8760" y="4038480"/>
            <a:ext cx="1712160" cy="1718640"/>
            <a:chOff x="5108760" y="4038480"/>
            <a:chExt cx="1712160" cy="1718640"/>
          </a:xfrm>
        </p:grpSpPr>
        <p:sp>
          <p:nvSpPr>
            <p:cNvPr id="223" name=""/>
            <p:cNvSpPr/>
            <p:nvPr/>
          </p:nvSpPr>
          <p:spPr>
            <a:xfrm>
              <a:off x="5112000" y="4447800"/>
              <a:ext cx="1708920" cy="1309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province_or_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ount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08760" y="4038480"/>
              <a:ext cx="924120" cy="366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740320" y="2133720"/>
            <a:ext cx="170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ales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25909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95480" y="2666880"/>
            <a:ext cx="160200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95480" y="312408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95480" y="35053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95480" y="3505320"/>
            <a:ext cx="1600200" cy="641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branch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962520"/>
            <a:ext cx="1600200" cy="45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0800" y="3981600"/>
            <a:ext cx="160056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tion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60560" y="4419720"/>
            <a:ext cx="1635120" cy="45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91880" y="4473720"/>
            <a:ext cx="15886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60560" y="48769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2960" y="4917960"/>
            <a:ext cx="159300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60560" y="53341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72080" y="5364000"/>
            <a:ext cx="159624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vg_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5715000"/>
            <a:ext cx="1219320" cy="366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084400" y="4647960"/>
            <a:ext cx="7700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065320" y="5190840"/>
            <a:ext cx="789120" cy="5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065320" y="5559480"/>
            <a:ext cx="90504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641600" y="3816360"/>
            <a:ext cx="1193760" cy="7351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905120" y="2362320"/>
            <a:ext cx="914400" cy="380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0" y="4267080"/>
            <a:ext cx="533520" cy="38124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95680" y="2743200"/>
            <a:ext cx="762120" cy="525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186520" y="1527480"/>
            <a:ext cx="1293120" cy="1725120"/>
            <a:chOff x="5186520" y="1527480"/>
            <a:chExt cx="1293120" cy="1725120"/>
          </a:xfrm>
        </p:grpSpPr>
        <p:sp>
          <p:nvSpPr>
            <p:cNvPr id="248" name=""/>
            <p:cNvSpPr/>
            <p:nvPr/>
          </p:nvSpPr>
          <p:spPr>
            <a:xfrm>
              <a:off x="5186520" y="1943280"/>
              <a:ext cx="1293120" cy="1309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uppli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9240" y="1527480"/>
              <a:ext cx="631800" cy="398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10320" y="3962520"/>
            <a:ext cx="1279440" cy="1216440"/>
            <a:chOff x="310320" y="3962520"/>
            <a:chExt cx="1279440" cy="1216440"/>
          </a:xfrm>
        </p:grpSpPr>
        <p:sp>
          <p:nvSpPr>
            <p:cNvPr id="251" name=""/>
            <p:cNvSpPr/>
            <p:nvPr/>
          </p:nvSpPr>
          <p:spPr>
            <a:xfrm>
              <a:off x="310320" y="4356360"/>
              <a:ext cx="1279440" cy="8226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960" y="3962520"/>
              <a:ext cx="8038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012080" y="2495520"/>
            <a:ext cx="160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6560" y="1581120"/>
            <a:ext cx="204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ing Fact 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2080" y="20383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12080" y="2114640"/>
            <a:ext cx="1601640" cy="366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ime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12080" y="2571840"/>
            <a:ext cx="1600200" cy="3668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tem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2080" y="2952720"/>
            <a:ext cx="1600200" cy="45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12080" y="2952720"/>
            <a:ext cx="160020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hipper_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12080" y="3409920"/>
            <a:ext cx="1600200" cy="45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7760" y="3429000"/>
            <a:ext cx="159948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om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77160" y="3867120"/>
            <a:ext cx="1635120" cy="45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07760" y="3943440"/>
            <a:ext cx="1564200" cy="36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o_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77160" y="4324320"/>
            <a:ext cx="1635120" cy="46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09200" y="4365720"/>
            <a:ext cx="1580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ollars_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77160" y="4781520"/>
            <a:ext cx="1635120" cy="46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90840" y="4811760"/>
            <a:ext cx="163008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nits_ship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6629400" y="1523520"/>
            <a:ext cx="38088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742840" y="152388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905120" y="1523880"/>
            <a:ext cx="91440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6553080" y="2666880"/>
            <a:ext cx="533520" cy="76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248160" y="36576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477120" y="41911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991720" y="320040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7618320" y="5410080"/>
            <a:ext cx="1332360" cy="1458720"/>
            <a:chOff x="7618320" y="5410080"/>
            <a:chExt cx="1332360" cy="1458720"/>
          </a:xfrm>
        </p:grpSpPr>
        <p:sp>
          <p:nvSpPr>
            <p:cNvPr id="276" name=""/>
            <p:cNvSpPr/>
            <p:nvPr/>
          </p:nvSpPr>
          <p:spPr>
            <a:xfrm>
              <a:off x="7625520" y="5802840"/>
              <a:ext cx="1325160" cy="10659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na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location_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_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8320" y="5410080"/>
              <a:ext cx="85428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hip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8610120" y="4800600"/>
            <a:ext cx="381240" cy="10666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10480" y="32004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866920" y="5790960"/>
            <a:ext cx="175284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7E3-9173-4560-A6C4-BA55E72755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BF263-4F68-490E-A592-D66D6CB20FB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본적인 설계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일관성과 정확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처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적재 속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적인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비스를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첫번째 설계는 매우 기본적이 되게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의 의견을 들은 뒤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일관성 있고 가치 있는 정보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356-CF96-4949-8A65-C415F0930B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11E41-2C96-4DAD-B5BD-A5EFB0EEBDB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데이터베이스의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지 기본적인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스키마는 간단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는 깨끗하고 일관성이 있으며 정확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회처리는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를 데이터베이스에 상당히 빠르게 적재할 수 있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8F2-A0F7-49D4-950B-20D628DB56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B027-C51A-4593-922E-AB3E640E477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순환적 결합 경로를 가진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OLTP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스키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9_1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97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6D1-7FFB-48EC-ACB8-0D3C5D7F1E6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88E3E-51DA-4EAD-BD3F-010790ECF85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단순성 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Schema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의</a:t>
            </a: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기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이 편리하도록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MIS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원들에게 이익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되도록 설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Sch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두 개의 표를 결합하는 지정된 경로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 Operatio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설계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가의 업무 요건들을 평가 – “차원”을 파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사용되고 있는 보고서들을 분석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집단이 사용하는 “표”를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Tahoma"/>
                <a:ea typeface="굴림"/>
              </a:rPr>
              <a:t>실제 차원과 업무 자체의 조건에 바탕을 둔 직관적인 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467-97A9-430C-8D65-D7207CD708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A3BBD-BDA3-4D1E-B160-9F79D08926F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형 스키마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순하고 직관적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나의 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St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에 관한 모든 수집된 사실과 숫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별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뾰족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차원들을 설명하는 일군의 표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9-2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03B-363C-4BAE-B9FA-11168034F3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7F3C7-2614-4CA9-90DC-BEFB08C339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간단한 성형 스키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9_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010280" cy="54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CBD-7B7E-4087-986E-90BEE197B15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F00D4-3128-4C97-8535-F8E63735ECF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사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장 규모가 큰 – 수백만 개 또는 수억 개의 행이 포함된 – 중앙에 있는 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측정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업무 값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공간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95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뼈만 추린” 대부분 숫자로 된 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에 저장된 사실들은 분석가가 추적할 필요가 있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실제 값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선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약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95C-73EE-4DE5-8D4A-8C7850DB5E8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F357F-F3CD-4A7E-9F93-23D4C5C6397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차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의 “기정 사실”일 가능성이 많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보고서의 행 제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숫자 데이터보다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문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사용하는 경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가 필요로 하는 디스크 공간은 비교적 적게 차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기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품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업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구통계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홍보활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514-445F-424D-98C2-DDF7BE181B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B5842-A591-4CA9-BBED-7D2D142769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6-03T08:22:04Z</dcterms:modified>
  <cp:revision>301</cp:revision>
  <dc:subject/>
  <dc:title>No Slide Title</dc:title>
</cp:coreProperties>
</file>