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B719-3F51-4636-99C3-7705FBC1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E4C-C593-47C9-80D5-5893D08B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660-BDBC-428E-8A2D-51D0BFB1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F9B-3FA1-444E-801B-CF5F274A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B5B0-6F9F-46E8-95E4-CDDF5552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130D-7F85-4233-BDB9-50E04A8B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264A-BF9D-4203-883B-140D81F7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F2A9-3E87-450A-9EF5-E7B714BE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183F-B5BF-4F70-8A23-EF92669D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0E35-8627-4269-B93E-9B2CD898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0775-3A8A-4DC4-BCFA-0B3871A7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D1E-D3B2-4703-963B-C9DB4729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DC89-F880-46B4-A94C-35F3FA47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4B8E-CD7B-48D7-9F90-9205DC1C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3CF9-D30B-4403-BEBB-3F560833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8E1B-4716-4C4A-9879-529CAEF7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222C-826A-40F6-90DA-63F17154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C70-4A73-455A-AECB-291677D8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ACF9-2D70-4939-8F47-8A30A7E3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CEE-CA03-49C4-AD60-4FDF0A1E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835-9D15-4E7B-8B45-90BBBB98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A359-3B3F-4C54-B861-D309B6C2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55EF-B266-4AB5-9F83-AFF564D4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CF9-54E6-44C1-A31B-AAC6A743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5A35-5A3D-494E-A81E-14BA111369A6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28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AC9E-F8AC-4451-AF6B-F4C5C9CDA01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B1A6-F660-49DD-B39A-48338723B90D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28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68F6-1331-415D-B367-A87DC5B1C106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를 정당화하고 최고 경영진의 지원을 얻는 방법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5C6-8282-4F15-AA47-B093AC1B4D4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CF4FA-D9CA-4000-B4F4-6A76ACA5112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능력 발전의 단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상태 보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심 설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보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 관계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에 의한 동적 모델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E773-8E47-47B8-B364-846ED4BC59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5C1FC-79A4-42AA-8821-A60226FCB15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웨어하우스에 무엇을 어떤 순서로 넣을지 어떻게 판단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든 데이터는 똑같이 가치있는 것이 아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가치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정의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모델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분석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E2F-3608-4660-9DE5-5563619B2F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4DA5F-9BD0-45C4-B78B-2A91E13CFA3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과 자원 면에서 당신의 조직체 내에서 데이터 웨어하우스의 그림자는 얼마나 큰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자 데이터 웨어하우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매번 처음부터 시작하지 않아도 될 수 있도록 분석 조각들을 모으고 반복할 수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D93-708F-4BFF-AA8B-1CC3C56086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9769D6-52A1-4B7F-862C-7521A9F73D0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0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회의를 통제하게 만들 준비가 되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방침을 취하고 당신의 각본을 벗어날 각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상회의에서 발표하는 당신을 비디오 촬영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19A2-3452-45EC-8AE3-EF99B673C2A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44B758-7BB9-422C-965B-4D6826FCB48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언제 수석 경영진을 납득시키기를 끝낼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이 회사 경영 과정에서 확고히 뿌리를 내린 때이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F56-E6FE-4A2D-852A-17FBAC7B368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42999-B1C3-42C0-B92B-F419965C442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2: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람들이 데이터 웨어하우스를 이용하면서 시간을 얼마나 낭비할 것인지에 대해 중역들이 걱정하는 것은 얼마나 타당성이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몇 가지 역사적인 증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업 복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관계들이 변경시켰을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정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필요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지능형 에이전트 소프트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에 관한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863B-4912-4532-A70A-BD6A990291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062AC-1FB2-4D9C-973F-A88F5179842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가 단 한 그룹의 필요성에 의해 윤색되지 않도록 폭넓은 충분한 지원 기반을 갖추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근본적으로 많은 기업 노력들을 지원할 잠재력을 가진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978-5F26-4ECC-B4E1-69C5B5DC4D1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B9A14-AE6C-4B19-AC51-3DB9D1745DB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의사결정에 개입된 중역들의 개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능력 그리고 스타일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그들이 어떻게 지식을 습득하고 다른 사람과 어떻게 상호작용을 하는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무엇이 그들을 지루하게 하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무엇이 그들을 흥미롭게 하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들의 기분을 상하게 할 것인지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만일 대답이 ‘아니오’라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음 사항들을 고려하는 것이 좋을 것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 일곱 가지의 중요하고도 뚜렷이 구분되는 지능의 종류 – 부분적으로 탁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16B-22CD-4E29-B283-79B9D99F316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D799A-7EFA-40EA-9BB7-CE2D3601561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성의 특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석 경영진에게 프리젠테이션을 실시하기전에 제시해야 될 두 가지 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외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내향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들은 얼마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직관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 또는 얼마나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체계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 가지 스타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진적 스타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F8C-1088-4A4E-BB5E-F77FC71967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E61A5-2966-4656-8B0E-D31E7D04178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의 구성요소는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5-9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참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적 목표와의 연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측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반 설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종류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9A8-CCEF-431D-AE52-44F92B8E7C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7F1C9-BC56-46C3-921E-91D63B4EBCB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5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“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모든 것이 준비에 달려 있다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회의 전에 지금 스스로 질문을 던지고 해답을 전개할 기회를 갖는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질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동안 데이터 웨어하우스에 관하여 일해온 많은 사람들의 경험을 반영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FD7-3313-42EB-AE5C-45DA80550B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30A05-C6CE-4071-8E1F-10EB094E746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단 그들이 필요성에 대해 의견 일치를 보일 경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고 경영진은 당신이 그것을 해낼 수 있다는 것을 어떻게 알 수 있을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대 시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출을 눈에 보이는 대로 수입 이내로 억제하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 있는 제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공식 데이터의 역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성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C34-58A2-4798-B7D9-ED0E82B54C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F20FC-3319-4578-844F-5DAD4B0C508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하나의 조직체로서 어떻게 사람들로 하여금 이러한 설비를 새롭고 혁신적으로 사용하도록 교육하고 부추길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사람들이 그것을 이용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공적인 데이터 웨어하우스는 지속적인 사용자 개입과 학습을 지원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724-C462-4F5B-A944-666C675F293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B98B5-0C66-4189-8A26-B76DDD10A66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8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슨 무엇이 될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반에는 어떻게 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공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작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성취하기 위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경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어야 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효과적인 데이터 웨어하우스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잠재력 이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파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업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위한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지지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혁신과 전달이라는 두 가지 근본적인 업무 활동을 조화시키는 경영시스템을 지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1DC-02C5-46B4-A874-6CD9561A8BE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3B0C1-6492-4D4D-9FEF-E9FD9000C06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의 데이터 웨어하우스 노력은 경영진에 의해 “단순히 또다른 형태의 정보 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T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“그들의 기업 전략 중 하나 이상의 부분을 성공적으로 시행할 때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로 비칠 것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잠재력의 이해와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에 근거한 의사 결정으로 전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제품 및 고객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업 재정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5F7-2B38-4BE2-A5E2-AAF9847F27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078D9-2753-41CD-95EE-A36A3B2B87B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어떤 기업 추진 계획들을 지원할 수 있는지 어떻게 찾아낼 수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략계획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예산 작성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중역 보좌관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처리 재정비 계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문위원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AB7-0945-47D2-BEDD-A1CF8F4088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A4DEA-661F-4547-BB36-D178CF044BC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왜 데이터 웨어하우스와 동일한 문장에서 “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전략적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”이라는 단어를 쓸 때 주의를 기울어야 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이나 수입 증대에 연결시킬 방법을 찾을 수 없으면서 투자를 요구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ood approach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체적이고 이미 합의된 전략적 목적을 달성하는 데 필요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핵심적인 지원 요소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또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FE8-18FD-48F5-929E-48E420D8C0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A6672-F184-49F1-AC08-A5E878A3A6E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경영진은 당신의 프리젠테이션이 있기 전에 데이터 웨어하우스에 관하여 무엇을 알고 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착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ea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는 조심해야 할 </a:t>
            </a:r>
            <a:r>
              <a:rPr b="0" lang="ko-KR" sz="2400" spc="-1" strike="noStrike">
                <a:solidFill>
                  <a:srgbClr val="3333cc"/>
                </a:solidFill>
                <a:latin typeface="Tahoma"/>
                <a:ea typeface="굴림"/>
              </a:rPr>
              <a:t>순환 주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란 무엇인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?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가지고 있으니 우리도 하나 갖추어야 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95280" indent="-380880">
              <a:spcBef>
                <a:spcPts val="499"/>
              </a:spcBef>
              <a:buClr>
                <a:srgbClr val="3333cc"/>
              </a:buClr>
              <a:buSzPct val="50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우리에게도 예전에 그런 것이 하나 있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런데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것이 효과는 없고 시간과 돈만 낭비했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진은 아이디어의 순환 주기 중 어디에 위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B19-1641-45D1-A7BE-F2581414B0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BF6DC-B41B-4C20-88A2-5E693E1A4CA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왜 납득시키기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자원들이 수직적 연통이 될 경향이 있는 세계에서 펼쳐지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수평적 게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문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는 힘과 능력을 부여하는 실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업무 문제점들에 영향을 주도록 도입될 수 있는 내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및 분석학의 여러 능력으로 구성된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기반 설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7566-E942-41B8-A474-510C6B45D4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3BABE-2D64-4013-95D3-E96B1C69151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다른 사람들은 어떤 종류의 정당화를 이용했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노력에 드는 비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보고서 수익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쟁사가 그것을 하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모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업무에 관한 공통적인 시각과 이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1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간단한 도매 금융업 수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손실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014-7A15-4D5E-B884-121C2DE2D43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B5F99-2E0C-414A-A93A-FBA50F17FF6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질문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당신은 데이터 웨어하우스를 무엇이라고 설명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반 설비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내용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아니면 그밖의 다른 무엇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것을 여러 가지 기업 노력들을 지원하는 기반 설비로 생각하는 것이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유익할 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5-2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일관성 있는 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칙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모델을 제공한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9B8-CC91-4BDF-AA4B-3422334555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0982E-9171-40CB-8269-F59EC677344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10T05:36:11Z</dcterms:modified>
  <cp:revision>219</cp:revision>
  <dc:subject/>
  <dc:title>No Slide Title</dc:title>
</cp:coreProperties>
</file>