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326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E043-635E-445E-88B9-F1A4CA8B3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8897-2D34-493D-ACF2-5590FAE58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9AE4-C532-4CE9-BB8C-5024B739D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1640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4772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1640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4772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47EF-211C-4842-A8CC-1A8860C0A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3CB77-4721-4795-9B2D-A9AE9C82F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F5FDA-436E-42C7-A143-758ED742B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87D91-C0EB-41F2-9D38-EF2A388B2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A0558-66EC-48AD-AF33-9DD54361F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CE958-17CA-4F93-A7F6-2F4271E0C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42640" y="685440"/>
            <a:ext cx="779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42ED1-1F43-4A81-A099-0E902588E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FC913-AEE6-456B-AE55-90EA3E51B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AC7F-EEA5-41C2-9CD4-02EDEBC0F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193D5-3057-4D76-B0A3-1C3AC0F87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40EF3-ED08-4884-B9E0-EDA751E01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0C3F4-E777-4F07-885B-F3D974247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CD44C-EFE6-4BB8-B0CA-94C310B0F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41640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14772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44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41640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14772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57DA1-79DB-4B81-8F22-05842CE66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8E51-7629-41B9-ACF6-7A31EC53F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E37F-6F32-47C8-92BA-2F2AC69A9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65C0-9324-465A-9A32-B782EAF19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42640" y="685440"/>
            <a:ext cx="779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A8D6-AB2A-4DEA-9722-59AF633FF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6176-F474-44D1-AF54-3DE2C1832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2429-CB01-4C8B-934D-E666954CF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226E-B821-4663-B02A-15455ED8A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33360" y="72072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16040" y="720720"/>
            <a:ext cx="3286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114300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26920" y="1143000"/>
            <a:ext cx="36864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57320" y="12542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77880" y="61272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58920" y="1403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52280" y="6324480"/>
            <a:ext cx="1905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8510D-91B6-41FD-AF4F-BF738DB4338F}" type="datetime3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2026년 7월 28일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200040" y="632448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DB7B7-E956-4BD6-9B29-1D6BFA85F739}" type="slidenum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5FF19-789B-47F4-9073-E6785B4ADCE1}" type="datetime3"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2026년 7월 28일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D8DD0-3647-44BC-A251-5EC421616712}" type="slidenum"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440" y="1523880"/>
            <a:ext cx="80773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제 </a:t>
            </a: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5 </a:t>
            </a: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장</a:t>
            </a:r>
            <a:br>
              <a:rPr sz="5400"/>
            </a:b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데이터의 추출</a:t>
            </a: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, </a:t>
            </a: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가공</a:t>
            </a: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, </a:t>
            </a: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로드 </a:t>
            </a: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(</a:t>
            </a:r>
            <a:r>
              <a:rPr b="0" lang="en-US" sz="5400" spc="-1" strike="noStrike">
                <a:solidFill>
                  <a:srgbClr val="333399"/>
                </a:solidFill>
                <a:latin typeface="Tahoma"/>
                <a:ea typeface="굴림"/>
              </a:rPr>
              <a:t>ETT) 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4952520"/>
            <a:ext cx="83059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Jong Soo Pa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jpark@cs.sungshin.ac.k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3427-416B-475C-925E-71C5EF9EA6E8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79FFE7-69F3-4EF4-87FF-48A3A951CA7A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TT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의 중요성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의 </a:t>
            </a:r>
            <a:r>
              <a:rPr b="0" lang="ko-KR" sz="2800" spc="-1" strike="noStrike">
                <a:solidFill>
                  <a:srgbClr val="ff0000"/>
                </a:solidFill>
                <a:latin typeface="Tahoma"/>
                <a:ea typeface="굴림"/>
              </a:rPr>
              <a:t>생명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은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ETT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에 있다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ETT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는 정확하고 신속해야 한다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왜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ETT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가 어려운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표준화된 솔루션이 없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가 많고 하드웨어가 열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의 질이 낮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D398-F5A5-40BD-8380-AAA1FE27592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D5CCB5-43E4-4895-BF87-D586BDF53501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운영계 시스템과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DW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를 동시에 구축할 경우의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ET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보통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운영계 시스템 구축 후에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를 구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잘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동시에 구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많은 시간과 경비를 절약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메타 데이터를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와 공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운영계 시스템에서 필요한 장표를 만드는 노력을 대폭 절감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E57C-F631-4716-A217-59CAD2FF608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C124B1-46E4-4B8B-B843-947D27A50974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K*Loader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</a:rPr>
              <a:t>오프라인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방식으로 데이터 웨어하우스 서버에 있는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SAM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파일을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로 신속하게 로드하는 도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F353-A849-42FE-B5D0-BDC560D1E62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BE5AE8-FF3C-40C2-A7D7-88B584ADC21A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학적부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DW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지난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10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년간의 졸업생의 성적을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로 변환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고려 사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방법론 연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5F79-8AD5-400D-B3CB-1AC66E9F6FF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A1213F-A0A5-40DB-8BFD-7D73BD032F52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8960" y="3049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1. ETT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의 개념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를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OLTP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서버와 다른 별도의 서버에 구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LTP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서버의 데이터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=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에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ETT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의 추출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굴림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xtraction)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가공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굴림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ransformation)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전송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굴림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ransportation)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의 약자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ETT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방법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소스 시스템의 종류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데이터의 추출 주기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데이터의 양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로딩 속도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소스 데이터의 질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과거 데이터의 형식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사용자의 요구 조건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소스 시스템의 역할 등에 좌우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6A17-D4A9-4239-BA3B-476E846608E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0C130D-A764-4CA5-87CC-D6E288A1E7A5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3520" y="304560"/>
            <a:ext cx="6782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ETT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의 형태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에서 필요한 최종 테이블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사실 테이블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fact tabl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fact table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요약 테이블을 생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차원 테이블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imension tabl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ETT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의 형태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사실 테이블과 요약 테이블을 소스 시스템에서 생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베이스의 로그 파일을 분석하여 사실 테이블과 요약 테이블을 작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56A1-4165-461B-B7B9-7C14FF486D7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737179-CB8E-4ED6-AEA0-B4E6D30E6E64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초기 데이터와 주기적 데이터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는 과거 수년간의 데이터를 보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초기 데이터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initial dat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테이프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Magnetic Tape)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형태로 보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Record layout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의 형식을 지정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전산 시스템에서 중요한 것은 데이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주기적 데이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일 단위 또는 월 단위로 소스 시스템에서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로 넘어오는 데이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가 많으면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ff line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작으면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n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FD51-BD44-4525-B273-DFECA3BFED4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DC620E-01BB-4C89-AAA1-CAFB986C4A00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의 변환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(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Transformation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소스 시스템에서 추출한 데이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의 사실 테이블이 특정한 포맷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사용자의 요구가 복잡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소스 데이터의 코드가 일치하지 않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HDB(Hierarchical database)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구조 변환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IBM IMS/DB : HD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HDB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를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RDB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가 근간인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로 올릴 때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주의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6869-BDA3-40A9-82C0-2785C1D8BEB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D14EDE-F7D7-4AAC-B9EF-8AEF3F74D0F8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의 정제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(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data cleansing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W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에 들어가는 데이터는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100%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정제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소스 데이터의 차원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ID(dimension ID)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에 해당하는 값이 차원 테이블과 상이할 경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소스 데이터에 비정상적인 값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SAM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을 이용한 데이터 정제 작업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OSD(Operational Data Store)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를 이용한 정제 작업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의 가공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변환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정제 작업을 용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사용자의 요구 조건의 변화에 신속 대응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사실 테이블의 문제에 신속 복구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8507-A0E7-4201-A447-CD6E3A33028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9FAB1B-4E08-4B33-ACFD-7E3CACA85968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2.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ETT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의 방식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Off Line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방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오프라인 방식의 개요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그림과 순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FTP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주의 사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Magnetic tape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사용시 주의 사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Online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방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온라인 추출 방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그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pen 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오라클 분산 옵션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racle distributed op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7B27-4E8A-4271-8A59-1E4EE6D8D83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04FF88-120D-4950-98F1-44C8F1EA34C7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2.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ETT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의 방식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(2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디스크 공유 방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Real-time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를 원하는 은행에서 많이 사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eferred I/O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또는 로그 파일 방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소스 시스템에서 특정한 데이터가 바뀌면 로그 파일을 만들고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에서 주기적으로 데이터를 가져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EC47-E311-4D2A-8C18-7C0D6493981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E55E07-B7BC-4148-A48F-CD40221C1732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추출 데이터의 정확성 보장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보장하는 방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특정 필드의 값을 합산 후 대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의 추출과 로드시 에러가 생길 경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에러의 원인을 밝히고 교정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A4E6-701D-441F-B653-73BADB56E3A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244455-72F1-4500-854D-F37D33F9812D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19T04:38:52Z</dcterms:created>
  <dc:creator>Jong Soo Park</dc:creator>
  <dc:description/>
  <dc:language>en-US</dc:language>
  <cp:lastModifiedBy>Jong Soo Park</cp:lastModifiedBy>
  <cp:lastPrinted>1999-09-10T20:38:56Z</cp:lastPrinted>
  <dcterms:modified xsi:type="dcterms:W3CDTF">2002-04-16T05:27:39Z</dcterms:modified>
  <cp:revision>227</cp:revision>
  <dc:subject/>
  <dc:title>제5장 데이터의 추출, 가공, 로드(ETT)</dc:title>
</cp:coreProperties>
</file>